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3.png" ContentType="image/png"/>
  <Override PartName="/ppt/media/image13.jpeg" ContentType="image/jpeg"/>
  <Override PartName="/ppt/media/image40.jpeg" ContentType="image/jpeg"/>
  <Override PartName="/ppt/media/image1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8.jpeg" ContentType="image/jpeg"/>
  <Override PartName="/ppt/media/image7.jpeg" ContentType="image/jpeg"/>
  <Override PartName="/ppt/media/image28.png" ContentType="image/png"/>
  <Override PartName="/ppt/media/image31.png" ContentType="image/png"/>
  <Override PartName="/ppt/media/image36.png" ContentType="image/png"/>
  <Override PartName="/ppt/media/image18.png" ContentType="image/png"/>
  <Override PartName="/ppt/media/image6.jpeg" ContentType="image/jpeg"/>
  <Override PartName="/ppt/media/image8.png" ContentType="image/png"/>
  <Override PartName="/ppt/media/image37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5.png" ContentType="image/png"/>
  <Override PartName="/ppt/media/image35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0A0E-7032-44C6-87B6-A755A67B4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2B79-1473-4D4D-A107-7181DA95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3B72E-279F-462A-8B9A-C3594BF4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DB0095-0673-4948-9384-26EEA932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C8C04-66A9-455C-A991-1CC548D7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1DC35-B2DE-4C71-824A-C6BA26B9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267E5-AA75-43C3-B5A5-8931D321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13CEC-51BC-4185-AA78-8B0A7A90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86911-4F32-4E57-A1AE-D043CDFD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03CD0B-8B16-41D4-B6EE-F3D3261A0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C25628-3968-42E0-954C-5FCFC4D1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6D82CD-9F39-4344-A67C-9F6313F10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B8BA-0623-4B76-82AD-46C8171C5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0E4722-B990-4B7E-9BC6-2CFB1F6C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EC345D-7D46-4E59-B213-D773A2BA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54CCE1-8C95-4AA1-B0A2-7FD07045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02EF30-1D5C-4FF9-9CA2-6CF1246C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B6BDE7-A4B9-45C0-95CF-1EDAEAEC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EA977F-1EBC-440C-BA2A-19AE63EB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FEA2CD-9EAA-4C23-889A-5322747B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C9D14A-1D19-4D00-B40A-B1E0BF8C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1881BB-7C92-487B-B3EB-028A090B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C05CF6-E23B-497C-918C-276AAFEDE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0256-CDCA-4A3C-97E8-6D2A8357C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F06D37-E8F8-4AA2-8960-8206399C0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BDE89-8F15-4D35-A171-E26356336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54BE5-9284-4872-A27E-15C8FA1A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05721-85A3-4FD3-B09F-7572D131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DF97E-1E99-4485-A292-376B879C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D9660-B3A3-4AAB-A015-A570060A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0D625-2A1E-4284-9ECE-B294B6D7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D3B63-C010-4671-A5F0-E6F828F6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9F938-7183-4C5B-8520-3885B586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8B03B-D4CD-45A5-BA17-C21DB84A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E136-5F71-4263-8C86-E510DC3A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38534-1310-45FC-8CC2-024F8143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57055-BA06-4D46-87A3-ABEBFD77D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F1743-D551-4BD7-850A-BB1948F77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002FF-F3E5-4E34-B413-3D4964A26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B1635-CB84-4A48-B918-151EB44E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8DF026-AFAE-43BD-9F2E-62F3F473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BF2EAF-DCE9-4F55-89A6-7F26B472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3B8DB-743C-4B16-B6A5-8813E4E1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1BA266-FA72-4D57-9C14-04AEA7FE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1370FF-FF61-4B8C-9049-587AE8EC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6872-3303-4EB7-A35A-80910114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9DC540-F944-4BD2-98B6-7BF55DA9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704160-EB83-4588-8FAC-D2CA7735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B13D7F-78D7-45BA-8B2F-83808F4C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ED5CBD-681A-4D1B-9BD1-080DCFD47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A1D66C-9CB6-411B-AA57-926B2A0D3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3C4A-C6CA-40A9-9DBE-D3925DA3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EE7E37-4907-443A-9E20-AE616087D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4FA19D-B5B1-45E3-9EA6-9C41D70F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B541DF-D395-44F7-B5D0-E03F8C7B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A6D9-230B-4D05-BE37-527E6CA8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5B22EC-FBEF-4658-AFB2-188A4B3B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034B4A-BA4B-4875-B0AF-315A1524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D79DBC-3831-4734-8DEC-008C8B31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ADB4C2-9170-425F-8003-E980A1BC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596559-7BCE-4578-A3F2-92D43A3B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8A4D61-490F-464C-91D7-3E08205F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134B6B-82DE-4FBC-9426-3E80C4BB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E0269E-C455-4A18-BD7A-04AA18C7A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054FB6-A3E0-4715-95F8-6DE98E318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8B1950-BEAB-422C-A557-EEFEF7E10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5CD2-BC11-4FF0-B7BB-B452CFFC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B5F4D5-D5DD-44F6-A860-B6675945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62846F-2ADB-4E9B-A21F-90C7F10F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47F72F-6134-4385-A28A-485C944F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ED34A5-0CED-4B95-BB94-9763D7A6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BCFDCD-F537-425F-A0A4-409EEA30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DC85C2-1994-4C9D-BAE2-D62878EC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2BDC61-7E4B-4BCB-AC28-3D3524EA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2E5153-141B-4BEA-BBD0-A172A31E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00C259-EDC3-40C4-A3C8-3311DB24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114788-2B0F-4711-BF94-224E58B48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241F-C3EE-48AF-8B2A-B159EB59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969C1D-CC39-450B-AB6C-03AA19C0B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DAEE-B7BC-4DA0-8A9C-C6B42A34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3BD6-4C82-4CB2-93F0-50C13E8B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6722-EA54-426B-AB80-711CF335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C07B-2844-426A-8144-7A4C506B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8D51-F6EF-446A-B902-0E11E770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2EDE-A32E-49C4-B1AA-C7650CAA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24A0-D37C-4C4E-9649-9178B1ACE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0E208-095F-44A5-8280-2EE319D4A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F4901-F65C-4BEF-A10A-0325116D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AD3D7-813C-4035-AC0B-A988EFAE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E1A5F-2F05-4E14-8B15-15AA6A75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17175-7CC3-4FF5-B06B-8CFFC9B6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69F0-F0D3-4FD2-B64C-F0A19D36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2F48C-5927-407D-BB88-5131A888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AD40E-DBB1-41DD-8755-28EE47F7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6A2FE-563A-4602-97ED-BA5173AF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EA906-56DE-44CF-8B5A-5B6D32E4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75653-C257-480A-8662-26EAFECC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D98D4-824A-4F2D-BC0B-0AD187AD8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5A028-EBEA-44C3-825E-2661FF8D3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F07474-48B9-40B1-B0E8-4D4BE45F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0C04A8-6B7E-4E04-B8D5-99B7467D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697070-15D7-44A6-A675-0ABE62C9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53F9-23D8-4896-9046-7C3514BF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79CC0A-6E8F-4BA1-B948-3D6236D4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A772F2-04FF-4FFC-8243-7BC79452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6A4500-3091-4A3A-969C-CBE038C2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7A2A5F-926F-4262-99B4-F35B8D11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C48066-24AE-491B-9FFC-2FDF9509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D693A4-A491-4FD0-A3F2-7020D973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BA79F1-3982-4BE3-AFB1-6E251483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3697FA-C81B-44E0-84AA-6B9145899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F9E4A7-1ADD-4271-BA2C-AFA9DBF53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44AE99-E84D-42C7-97E2-6A993A434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E9A6-B39D-4300-B1C6-1CAB41FF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6CB0AE-4E4A-4973-913E-6359B315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035F73-0C0B-43BE-B070-B4C65945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EF4852-63FB-41D1-AEB3-D246C7A9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E59EFB-E005-4A86-AEA6-2CAE905B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792BE8-D5E8-4243-959A-B22A8E71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54085A-D4E0-49FC-AD35-AE9423D1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814196-F11F-4347-99B0-8DDE0480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C59C44-A7C5-49D2-8800-E3D07AD0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694227-FC13-4E90-B539-2B04056F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362E70-153B-4C3B-92BC-A10AF1AC4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547A-3C58-4725-B58E-813AA260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4242DA-B002-42EB-AD07-27CA7D4C7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43593A-F857-4D55-B262-CDF1669C0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AD2B1D-1848-4A8F-809C-712F514A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4A4EDB-35D7-4B24-BC27-BFADB845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9F3DDE-0EDB-45DB-972F-91039E6F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A4A4C9-E974-4C89-895D-C7A716EA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0626EC-998A-4B42-B28C-0454628A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38ABF9-5FBC-4A65-9CD4-1628CD20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39D7D1-0CC7-4EFF-A735-FCF9E584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484989-39E1-41EC-8610-9A24BED4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A2A9-8E02-4E40-9F31-7C157B58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D9999B-8D35-48BB-8575-E502DEC7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92EA7F-3CBC-4473-BDAF-4EE406779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38291E-081C-4239-995B-1F3CC3B19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3297A-8D41-4696-A3B0-377125787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F59C5-A02E-4C38-AB15-7F467942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87000-2540-4F07-91F0-824CC96A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61CFD-5C0E-411D-8785-6AAC2F67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0313F-5E20-4D56-9FAA-152F7DF5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22763-EAE3-48FE-B7CC-3604F237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8958B-0A9D-4080-A0D1-6BEF889D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73FE-2BF1-49AC-8342-E7C4A45F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F8126-A8D3-4FAB-A9C2-9E2A3BD3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29D55-8849-4020-A5CC-29733E21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4445F-49C9-44FA-B31B-E4763ABF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81A4C-79FF-4D58-BB85-0866ED525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B19D5-91D1-4BD8-9E8F-131FE4C78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FA3AF-E3FC-448D-A23F-0FF3E6474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3F510-B9A1-42EF-A6D4-579E843E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2F876-CF39-47F5-B104-601EA1BF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197CC-6CFE-4C38-BF5D-290A0391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9E242-FE28-4420-85A8-F3C9A9A4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257F-9DC0-4B06-9BBF-69E2AD0E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3B672-A917-41F7-B56A-D897BFCA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38FA4-72A5-4837-A274-369FD5C2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C5CAB-73F4-4710-B69B-246A692A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82BAD-32ED-406E-B141-F570BD28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990DB-6B6C-4872-8AFC-F378A3B7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B32CC-E8B6-43D4-A476-299FB47D8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6E19D-B9E7-4BDD-9332-E5F22DBD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E6768-2800-4C97-8F1A-52F68FBC1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D4D146-926C-40E5-B65D-CF50A62E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27576-C9A5-4317-94A5-C19CDA77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Управление образования Администрации Талицкого городского округ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3BD6-48EB-4F14-B55F-C2A07741AF1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C3FB-9A7F-4112-B13C-4682289043E5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Управление образования Администрации Талицкого городского округ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Управление образования Администрации Талицкого городского округ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3683-F2FD-4C54-9179-4BC371D035F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0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4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5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Управление образования Администрации Талицкого городского округ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6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7CD1-0673-488C-9691-58492FB4535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4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ftr" idx="3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Управление образования Администрации Талицкого городского округ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dt" idx="3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456C-243E-4A01-B451-1413D60B81C2}" type="slidenum">
              <a:rPr b="1" lang="ru-RU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ftr" idx="4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Управление образования Администрации Талицкого городского округ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dt" idx="4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42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92B9-AEAB-4519-A2E8-E0AE425B0D6E}" type="slidenum">
              <a:rPr b="1" lang="ru-RU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Управление образования Администрации Талицкого городского округ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8661-8A49-4FAC-B4C3-B8F212F74CC0}" type="slidenum">
              <a:rPr b="1" lang="ru-RU" sz="14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Управление образования Администрации Талицкого городского округ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9042-8B7C-44CC-8AEA-1F3C8FFF5D8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4DD2-34F0-4D33-A2DA-A3A5BD45A19A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Управление образования Администрации Талицкого городского округ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D863-152A-41D8-A14D-DB9C7D1233A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Управление образования Администрации Талицкого городского округ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936A-73E0-4DB1-8645-CEC7BBF4531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Управление образования Администрации Талицкого городского округ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Управление образования Администрации Талицкого городского округ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0451-67D9-4C77-8468-282154A89C2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Управление образования Администрации Талицкого городского округ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7966-D3C8-4642-8115-9BC4D3EFEA35}" type="slidenum">
              <a:rPr b="1" lang="en-US" sz="1400" spc="-1" strike="noStrike">
                <a:solidFill>
                  <a:srgbClr val="4f27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1" name="Picture 7" descr="sm_pencil.png"/>
          <p:cNvPicPr/>
          <p:nvPr/>
        </p:nvPicPr>
        <p:blipFill>
          <a:blip r:embed="rId3"/>
          <a:stretch/>
        </p:blipFill>
        <p:spPr>
          <a:xfrm>
            <a:off x="612720" y="1755720"/>
            <a:ext cx="1614600" cy="2144880"/>
          </a:xfrm>
          <a:prstGeom prst="rect">
            <a:avLst/>
          </a:prstGeom>
          <a:ln cap="sq" w="50760">
            <a:solidFill>
              <a:srgbClr val="009dd9"/>
            </a:solidFill>
            <a:miter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Управление образования Администрации Талицкого городского округ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25AB-CD7A-4F87-B5FD-3E260CB2612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image" Target="../media/image34.png"/><Relationship Id="rId17" Type="http://schemas.openxmlformats.org/officeDocument/2006/relationships/image" Target="../media/image35.png"/><Relationship Id="rId18" Type="http://schemas.openxmlformats.org/officeDocument/2006/relationships/image" Target="../media/image21.png"/><Relationship Id="rId19" Type="http://schemas.openxmlformats.org/officeDocument/2006/relationships/image" Target="../media/image36.png"/><Relationship Id="rId20" Type="http://schemas.openxmlformats.org/officeDocument/2006/relationships/image" Target="../media/image37.png"/><Relationship Id="rId2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Подзаголовок 10"/>
          <p:cNvSpPr/>
          <p:nvPr/>
        </p:nvSpPr>
        <p:spPr>
          <a:xfrm>
            <a:off x="0" y="2133720"/>
            <a:ext cx="9144000" cy="21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Times New Roman"/>
              </a:rPr>
              <a:t>Формирование единого образовательного пространства на территории Талицкого городского округа в соответствии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Times New Roman"/>
              </a:rPr>
              <a:t>с обновленными ФГОС ОО и ФООП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Rectangle 14"/>
          <p:cNvSpPr/>
          <p:nvPr/>
        </p:nvSpPr>
        <p:spPr>
          <a:xfrm>
            <a:off x="1619280" y="5445000"/>
            <a:ext cx="64054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73" name="Picture 2" descr="C:\Users\MalenkovaEV.EDU1\Desktop\Картинки\flag_rossiya_simvolika_lenty_trikolor_99276_2560x1600.jpg"/>
          <p:cNvPicPr/>
          <p:nvPr/>
        </p:nvPicPr>
        <p:blipFill>
          <a:blip r:embed="rId1"/>
          <a:stretch/>
        </p:blipFill>
        <p:spPr>
          <a:xfrm>
            <a:off x="103320" y="255600"/>
            <a:ext cx="3504960" cy="1628640"/>
          </a:xfrm>
          <a:prstGeom prst="rect">
            <a:avLst/>
          </a:prstGeom>
          <a:ln w="0">
            <a:noFill/>
          </a:ln>
        </p:spPr>
      </p:pic>
      <p:pic>
        <p:nvPicPr>
          <p:cNvPr id="674" name="Рисунок 8" descr=""/>
          <p:cNvPicPr/>
          <p:nvPr/>
        </p:nvPicPr>
        <p:blipFill>
          <a:blip r:embed="rId2"/>
          <a:stretch/>
        </p:blipFill>
        <p:spPr>
          <a:xfrm>
            <a:off x="1835280" y="404640"/>
            <a:ext cx="809640" cy="11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5" name="Прямоугольник 1"/>
          <p:cNvSpPr/>
          <p:nvPr/>
        </p:nvSpPr>
        <p:spPr>
          <a:xfrm>
            <a:off x="468360" y="5950080"/>
            <a:ext cx="8496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Arial"/>
              </a:rPr>
              <a:t>Управление образования Администрации Талицкого городского округа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TextBox 2"/>
          <p:cNvSpPr/>
          <p:nvPr/>
        </p:nvSpPr>
        <p:spPr>
          <a:xfrm>
            <a:off x="1619280" y="4005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Методический семинар в рамках районного Августовского педагогического совещания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object 3"/>
          <p:cNvSpPr/>
          <p:nvPr/>
        </p:nvSpPr>
        <p:spPr>
          <a:xfrm>
            <a:off x="546120" y="1106640"/>
            <a:ext cx="7816680" cy="48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355680" indent="-343080">
              <a:lnSpc>
                <a:spcPct val="100000"/>
              </a:lnSpc>
              <a:spcBef>
                <a:spcPts val="1962"/>
              </a:spcBef>
              <a:buClr>
                <a:srgbClr val="04617b"/>
              </a:buClr>
              <a:buFont typeface="Wingdings" charset="2"/>
              <a:buChar char="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43080">
              <a:lnSpc>
                <a:spcPct val="100000"/>
              </a:lnSpc>
              <a:spcBef>
                <a:spcPts val="1962"/>
              </a:spcBef>
              <a:buClr>
                <a:srgbClr val="04617b"/>
              </a:buClr>
              <a:buFont typeface="Wingdings" charset="2"/>
              <a:buChar char="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43080">
              <a:lnSpc>
                <a:spcPct val="100000"/>
              </a:lnSpc>
              <a:spcBef>
                <a:spcPts val="1962"/>
              </a:spcBef>
              <a:buClr>
                <a:srgbClr val="04617b"/>
              </a:buClr>
              <a:buFont typeface="Wingdings" charset="2"/>
              <a:buChar char="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Tahoma"/>
                <a:ea typeface="Tahoma"/>
              </a:rPr>
              <a:t>Обновление ФГОС: требования к  образовательным результатам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43080">
              <a:lnSpc>
                <a:spcPct val="100000"/>
              </a:lnSpc>
              <a:spcBef>
                <a:spcPts val="575"/>
              </a:spcBef>
              <a:buClr>
                <a:srgbClr val="04617b"/>
              </a:buClr>
              <a:buFont typeface="Wingdings" charset="2"/>
              <a:buChar char="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Tahoma"/>
                <a:ea typeface="Tahoma"/>
              </a:rPr>
              <a:t>Оптимизация оценочных процедур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43080">
              <a:lnSpc>
                <a:spcPct val="100000"/>
              </a:lnSpc>
              <a:spcBef>
                <a:spcPts val="575"/>
              </a:spcBef>
              <a:buClr>
                <a:srgbClr val="04617b"/>
              </a:buClr>
              <a:buFont typeface="Wingdings" charset="2"/>
              <a:buChar char="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Tahoma"/>
                <a:ea typeface="Tahoma"/>
              </a:rPr>
              <a:t>Объективность внутренней оценки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43080">
              <a:lnSpc>
                <a:spcPct val="100000"/>
              </a:lnSpc>
              <a:spcBef>
                <a:spcPts val="575"/>
              </a:spcBef>
              <a:buClr>
                <a:srgbClr val="04617b"/>
              </a:buClr>
              <a:buFont typeface="Wingdings" charset="2"/>
              <a:buChar char="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Tahoma"/>
                <a:ea typeface="Tahoma"/>
              </a:rPr>
              <a:t>Цифровые инструменты оценки качества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43080"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Tahoma"/>
                <a:ea typeface="Tahoma"/>
              </a:rPr>
              <a:t>образования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43080">
              <a:lnSpc>
                <a:spcPct val="100000"/>
              </a:lnSpc>
              <a:spcBef>
                <a:spcPts val="575"/>
              </a:spcBef>
              <a:buClr>
                <a:srgbClr val="04617b"/>
              </a:buClr>
              <a:buFont typeface="Wingdings" charset="2"/>
              <a:buChar char="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Tahoma"/>
                <a:ea typeface="Tahoma"/>
              </a:rPr>
              <a:t>Новые форматы заданий, измерительных  материалов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43080">
              <a:lnSpc>
                <a:spcPct val="100000"/>
              </a:lnSpc>
              <a:spcBef>
                <a:spcPts val="575"/>
              </a:spcBef>
              <a:buClr>
                <a:srgbClr val="04617b"/>
              </a:buClr>
              <a:buFont typeface="Wingdings" charset="2"/>
              <a:buChar char="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Tahoma"/>
                <a:ea typeface="Tahoma"/>
              </a:rPr>
              <a:t>Цифровая аналитика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-828720" y="228600"/>
            <a:ext cx="9594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531800" indent="0" algn="ctr">
              <a:spcBef>
                <a:spcPts val="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6fc6"/>
                </a:solidFill>
                <a:latin typeface="Calibri"/>
                <a:ea typeface="Tahoma"/>
              </a:rPr>
              <a:t>Направления развития внутренней оценки качества образования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612720" y="1600200"/>
            <a:ext cx="7920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Нижний колонтитул 3"/>
          <p:cNvSpPr/>
          <p:nvPr/>
        </p:nvSpPr>
        <p:spPr>
          <a:xfrm>
            <a:off x="609480" y="6248520"/>
            <a:ext cx="794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Управление образования Администрации Талицкого городского округа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7" name="Номер слайда 1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D9B8-E4A9-4F4C-A236-C6157271CF6E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8763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102600" bIns="0" anchor="ctr">
            <a:no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6fc6"/>
                </a:solidFill>
                <a:latin typeface="Tw Cen MT"/>
                <a:ea typeface="Tahoma"/>
              </a:rPr>
              <a:t>Уровни системы оценки качества</a:t>
            </a:r>
            <a:r>
              <a:rPr b="1" lang="ru-RU" sz="2400" spc="-1" strike="noStrike">
                <a:solidFill>
                  <a:srgbClr val="0f6fc6"/>
                </a:solidFill>
                <a:latin typeface="Calibri"/>
                <a:ea typeface="Tahoma"/>
              </a:rPr>
              <a:t> образования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9" name="object 3"/>
          <p:cNvSpPr/>
          <p:nvPr/>
        </p:nvSpPr>
        <p:spPr>
          <a:xfrm>
            <a:off x="324000" y="1916280"/>
            <a:ext cx="8569080" cy="3889080"/>
          </a:xfrm>
          <a:custGeom>
            <a:avLst/>
            <a:gdLst>
              <a:gd name="textAreaLeft" fmla="*/ 0 w 8569080"/>
              <a:gd name="textAreaRight" fmla="*/ 8569440 w 8569080"/>
              <a:gd name="textAreaTop" fmla="*/ 0 h 3889080"/>
              <a:gd name="textAreaBottom" fmla="*/ 3889440 h 3889080"/>
            </a:gdLst>
            <a:ahLst/>
            <a:rect l="textAreaLeft" t="textAreaTop" r="textAreaRight" b="textAreaBottom"/>
            <a:pathLst>
              <a:path w="8569325" h="3888740">
                <a:moveTo>
                  <a:pt x="0" y="3888485"/>
                </a:moveTo>
                <a:lnTo>
                  <a:pt x="8568944" y="3888485"/>
                </a:lnTo>
                <a:lnTo>
                  <a:pt x="8568944" y="0"/>
                </a:lnTo>
                <a:lnTo>
                  <a:pt x="0" y="0"/>
                </a:lnTo>
                <a:lnTo>
                  <a:pt x="0" y="3888485"/>
                </a:lnTo>
                <a:close/>
              </a:path>
            </a:pathLst>
          </a:custGeom>
          <a:noFill/>
          <a:ln w="9360">
            <a:solidFill>
              <a:srgbClr val="0f24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0" name="object 4"/>
          <p:cNvSpPr/>
          <p:nvPr/>
        </p:nvSpPr>
        <p:spPr>
          <a:xfrm>
            <a:off x="401760" y="1884240"/>
            <a:ext cx="307476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3800" bIns="0" anchor="t">
            <a:spAutoFit/>
          </a:bodyPr>
          <a:p>
            <a:pPr marL="126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17375e"/>
                </a:solidFill>
                <a:uFillTx/>
                <a:latin typeface="Verdana"/>
              </a:rPr>
              <a:t>Единство требований к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1260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2000" spc="-1" strike="noStrike" u="sng">
                <a:solidFill>
                  <a:srgbClr val="17375e"/>
                </a:solidFill>
                <a:uFillTx/>
                <a:latin typeface="Verdana"/>
              </a:rPr>
              <a:t>результатам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861" name="object 6"/>
          <p:cNvGrpSpPr/>
          <p:nvPr/>
        </p:nvGrpSpPr>
        <p:grpSpPr>
          <a:xfrm>
            <a:off x="4919760" y="2048040"/>
            <a:ext cx="2328840" cy="1263600"/>
            <a:chOff x="4919760" y="2048040"/>
            <a:chExt cx="2328840" cy="1263600"/>
          </a:xfrm>
        </p:grpSpPr>
        <p:sp>
          <p:nvSpPr>
            <p:cNvPr id="862" name="object 7"/>
            <p:cNvSpPr/>
            <p:nvPr/>
          </p:nvSpPr>
          <p:spPr>
            <a:xfrm>
              <a:off x="4919760" y="2048040"/>
              <a:ext cx="2328840" cy="1263600"/>
            </a:xfrm>
            <a:custGeom>
              <a:avLst/>
              <a:gdLst>
                <a:gd name="textAreaLeft" fmla="*/ 0 w 2328840"/>
                <a:gd name="textAreaRight" fmla="*/ 2329200 w 23288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2304415" h="1237614">
                  <a:moveTo>
                    <a:pt x="2098039" y="0"/>
                  </a:moveTo>
                  <a:lnTo>
                    <a:pt x="206120" y="0"/>
                  </a:lnTo>
                  <a:lnTo>
                    <a:pt x="158873" y="5446"/>
                  </a:lnTo>
                  <a:lnTo>
                    <a:pt x="115494" y="20961"/>
                  </a:lnTo>
                  <a:lnTo>
                    <a:pt x="77221" y="45306"/>
                  </a:lnTo>
                  <a:lnTo>
                    <a:pt x="45296" y="77245"/>
                  </a:lnTo>
                  <a:lnTo>
                    <a:pt x="20958" y="115540"/>
                  </a:lnTo>
                  <a:lnTo>
                    <a:pt x="5446" y="158953"/>
                  </a:lnTo>
                  <a:lnTo>
                    <a:pt x="0" y="206248"/>
                  </a:lnTo>
                  <a:lnTo>
                    <a:pt x="0" y="1030859"/>
                  </a:lnTo>
                  <a:lnTo>
                    <a:pt x="5446" y="1078153"/>
                  </a:lnTo>
                  <a:lnTo>
                    <a:pt x="20958" y="1121566"/>
                  </a:lnTo>
                  <a:lnTo>
                    <a:pt x="45296" y="1159861"/>
                  </a:lnTo>
                  <a:lnTo>
                    <a:pt x="77221" y="1191800"/>
                  </a:lnTo>
                  <a:lnTo>
                    <a:pt x="115494" y="1216145"/>
                  </a:lnTo>
                  <a:lnTo>
                    <a:pt x="158873" y="1231660"/>
                  </a:lnTo>
                  <a:lnTo>
                    <a:pt x="206120" y="1237107"/>
                  </a:lnTo>
                  <a:lnTo>
                    <a:pt x="2098039" y="1237107"/>
                  </a:lnTo>
                  <a:lnTo>
                    <a:pt x="2145334" y="1231660"/>
                  </a:lnTo>
                  <a:lnTo>
                    <a:pt x="2188747" y="1216145"/>
                  </a:lnTo>
                  <a:lnTo>
                    <a:pt x="2227042" y="1191800"/>
                  </a:lnTo>
                  <a:lnTo>
                    <a:pt x="2258981" y="1159861"/>
                  </a:lnTo>
                  <a:lnTo>
                    <a:pt x="2283326" y="1121566"/>
                  </a:lnTo>
                  <a:lnTo>
                    <a:pt x="2298841" y="1078153"/>
                  </a:lnTo>
                  <a:lnTo>
                    <a:pt x="2304287" y="1030859"/>
                  </a:lnTo>
                  <a:lnTo>
                    <a:pt x="2304287" y="206248"/>
                  </a:lnTo>
                  <a:lnTo>
                    <a:pt x="2298841" y="158953"/>
                  </a:lnTo>
                  <a:lnTo>
                    <a:pt x="2283326" y="115540"/>
                  </a:lnTo>
                  <a:lnTo>
                    <a:pt x="2258981" y="77245"/>
                  </a:lnTo>
                  <a:lnTo>
                    <a:pt x="2227042" y="45306"/>
                  </a:lnTo>
                  <a:lnTo>
                    <a:pt x="2188747" y="20961"/>
                  </a:lnTo>
                  <a:lnTo>
                    <a:pt x="2145334" y="5446"/>
                  </a:lnTo>
                  <a:lnTo>
                    <a:pt x="2098039" y="0"/>
                  </a:lnTo>
                  <a:close/>
                </a:path>
              </a:pathLst>
            </a:custGeom>
            <a:solidFill>
              <a:srgbClr val="1737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63" name="object 8"/>
            <p:cNvSpPr/>
            <p:nvPr/>
          </p:nvSpPr>
          <p:spPr>
            <a:xfrm>
              <a:off x="4919760" y="2048040"/>
              <a:ext cx="2328840" cy="1263600"/>
            </a:xfrm>
            <a:custGeom>
              <a:avLst/>
              <a:gdLst>
                <a:gd name="textAreaLeft" fmla="*/ 0 w 2328840"/>
                <a:gd name="textAreaRight" fmla="*/ 2329200 w 23288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2304415" h="1237614">
                  <a:moveTo>
                    <a:pt x="0" y="206248"/>
                  </a:moveTo>
                  <a:lnTo>
                    <a:pt x="5446" y="158953"/>
                  </a:lnTo>
                  <a:lnTo>
                    <a:pt x="20958" y="115540"/>
                  </a:lnTo>
                  <a:lnTo>
                    <a:pt x="45296" y="77245"/>
                  </a:lnTo>
                  <a:lnTo>
                    <a:pt x="77221" y="45306"/>
                  </a:lnTo>
                  <a:lnTo>
                    <a:pt x="115494" y="20961"/>
                  </a:lnTo>
                  <a:lnTo>
                    <a:pt x="158873" y="5446"/>
                  </a:lnTo>
                  <a:lnTo>
                    <a:pt x="206120" y="0"/>
                  </a:lnTo>
                  <a:lnTo>
                    <a:pt x="2098039" y="0"/>
                  </a:lnTo>
                  <a:lnTo>
                    <a:pt x="2145334" y="5446"/>
                  </a:lnTo>
                  <a:lnTo>
                    <a:pt x="2188747" y="20961"/>
                  </a:lnTo>
                  <a:lnTo>
                    <a:pt x="2227042" y="45306"/>
                  </a:lnTo>
                  <a:lnTo>
                    <a:pt x="2258981" y="77245"/>
                  </a:lnTo>
                  <a:lnTo>
                    <a:pt x="2283326" y="115540"/>
                  </a:lnTo>
                  <a:lnTo>
                    <a:pt x="2298841" y="158953"/>
                  </a:lnTo>
                  <a:lnTo>
                    <a:pt x="2304287" y="206248"/>
                  </a:lnTo>
                  <a:lnTo>
                    <a:pt x="2304287" y="1030859"/>
                  </a:lnTo>
                  <a:lnTo>
                    <a:pt x="2298841" y="1078153"/>
                  </a:lnTo>
                  <a:lnTo>
                    <a:pt x="2283326" y="1121566"/>
                  </a:lnTo>
                  <a:lnTo>
                    <a:pt x="2258981" y="1159861"/>
                  </a:lnTo>
                  <a:lnTo>
                    <a:pt x="2227042" y="1191800"/>
                  </a:lnTo>
                  <a:lnTo>
                    <a:pt x="2188747" y="1216145"/>
                  </a:lnTo>
                  <a:lnTo>
                    <a:pt x="2145334" y="1231660"/>
                  </a:lnTo>
                  <a:lnTo>
                    <a:pt x="2098039" y="1237107"/>
                  </a:lnTo>
                  <a:lnTo>
                    <a:pt x="206120" y="1237107"/>
                  </a:lnTo>
                  <a:lnTo>
                    <a:pt x="158873" y="1231660"/>
                  </a:lnTo>
                  <a:lnTo>
                    <a:pt x="115494" y="1216145"/>
                  </a:lnTo>
                  <a:lnTo>
                    <a:pt x="77221" y="1191800"/>
                  </a:lnTo>
                  <a:lnTo>
                    <a:pt x="45296" y="1159861"/>
                  </a:lnTo>
                  <a:lnTo>
                    <a:pt x="20958" y="1121566"/>
                  </a:lnTo>
                  <a:lnTo>
                    <a:pt x="5446" y="1078153"/>
                  </a:lnTo>
                  <a:lnTo>
                    <a:pt x="0" y="1030859"/>
                  </a:lnTo>
                  <a:lnTo>
                    <a:pt x="0" y="206248"/>
                  </a:lnTo>
                  <a:close/>
                </a:path>
              </a:pathLst>
            </a:custGeom>
            <a:noFill/>
            <a:ln w="25560">
              <a:solidFill>
                <a:srgbClr val="385d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864" name="object 9"/>
          <p:cNvSpPr/>
          <p:nvPr/>
        </p:nvSpPr>
        <p:spPr>
          <a:xfrm>
            <a:off x="5094360" y="2103480"/>
            <a:ext cx="198108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82520" indent="13032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Федеральные  мониторинги и  государственная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82520" indent="1303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тоговая аттестация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865" name="object 10"/>
          <p:cNvGrpSpPr/>
          <p:nvPr/>
        </p:nvGrpSpPr>
        <p:grpSpPr>
          <a:xfrm>
            <a:off x="2766960" y="3260880"/>
            <a:ext cx="2178000" cy="1241280"/>
            <a:chOff x="2766960" y="3260880"/>
            <a:chExt cx="2178000" cy="1241280"/>
          </a:xfrm>
        </p:grpSpPr>
        <p:sp>
          <p:nvSpPr>
            <p:cNvPr id="866" name="object 11"/>
            <p:cNvSpPr/>
            <p:nvPr/>
          </p:nvSpPr>
          <p:spPr>
            <a:xfrm>
              <a:off x="2766960" y="3260880"/>
              <a:ext cx="2178000" cy="1241280"/>
            </a:xfrm>
            <a:custGeom>
              <a:avLst/>
              <a:gdLst>
                <a:gd name="textAreaLeft" fmla="*/ 0 w 2178000"/>
                <a:gd name="textAreaRight" fmla="*/ 2178360 w 2178000"/>
                <a:gd name="textAreaTop" fmla="*/ 0 h 1241280"/>
                <a:gd name="textAreaBottom" fmla="*/ 1241640 h 1241280"/>
              </a:gdLst>
              <a:ahLst/>
              <a:rect l="textAreaLeft" t="textAreaTop" r="textAreaRight" b="textAreaBottom"/>
              <a:pathLst>
                <a:path w="2152015" h="1216025">
                  <a:moveTo>
                    <a:pt x="1949195" y="0"/>
                  </a:moveTo>
                  <a:lnTo>
                    <a:pt x="202692" y="0"/>
                  </a:lnTo>
                  <a:lnTo>
                    <a:pt x="156234" y="5349"/>
                  </a:lnTo>
                  <a:lnTo>
                    <a:pt x="113577" y="20586"/>
                  </a:lnTo>
                  <a:lnTo>
                    <a:pt x="75942" y="44497"/>
                  </a:lnTo>
                  <a:lnTo>
                    <a:pt x="44547" y="75865"/>
                  </a:lnTo>
                  <a:lnTo>
                    <a:pt x="20611" y="113476"/>
                  </a:lnTo>
                  <a:lnTo>
                    <a:pt x="5356" y="156114"/>
                  </a:lnTo>
                  <a:lnTo>
                    <a:pt x="0" y="202565"/>
                  </a:lnTo>
                  <a:lnTo>
                    <a:pt x="0" y="1013079"/>
                  </a:lnTo>
                  <a:lnTo>
                    <a:pt x="5356" y="1059536"/>
                  </a:lnTo>
                  <a:lnTo>
                    <a:pt x="20611" y="1102193"/>
                  </a:lnTo>
                  <a:lnTo>
                    <a:pt x="44547" y="1139828"/>
                  </a:lnTo>
                  <a:lnTo>
                    <a:pt x="75942" y="1171223"/>
                  </a:lnTo>
                  <a:lnTo>
                    <a:pt x="113577" y="1195159"/>
                  </a:lnTo>
                  <a:lnTo>
                    <a:pt x="156234" y="1210414"/>
                  </a:lnTo>
                  <a:lnTo>
                    <a:pt x="202692" y="1215771"/>
                  </a:lnTo>
                  <a:lnTo>
                    <a:pt x="1949195" y="1215771"/>
                  </a:lnTo>
                  <a:lnTo>
                    <a:pt x="1995693" y="1210414"/>
                  </a:lnTo>
                  <a:lnTo>
                    <a:pt x="2038365" y="1195159"/>
                  </a:lnTo>
                  <a:lnTo>
                    <a:pt x="2075999" y="1171223"/>
                  </a:lnTo>
                  <a:lnTo>
                    <a:pt x="2107380" y="1139828"/>
                  </a:lnTo>
                  <a:lnTo>
                    <a:pt x="2131298" y="1102193"/>
                  </a:lnTo>
                  <a:lnTo>
                    <a:pt x="2146538" y="1059536"/>
                  </a:lnTo>
                  <a:lnTo>
                    <a:pt x="2151888" y="1013079"/>
                  </a:lnTo>
                  <a:lnTo>
                    <a:pt x="2151888" y="202565"/>
                  </a:lnTo>
                  <a:lnTo>
                    <a:pt x="2146538" y="156114"/>
                  </a:lnTo>
                  <a:lnTo>
                    <a:pt x="2131298" y="113476"/>
                  </a:lnTo>
                  <a:lnTo>
                    <a:pt x="2107380" y="75865"/>
                  </a:lnTo>
                  <a:lnTo>
                    <a:pt x="2075999" y="44497"/>
                  </a:lnTo>
                  <a:lnTo>
                    <a:pt x="2038365" y="20586"/>
                  </a:lnTo>
                  <a:lnTo>
                    <a:pt x="1995693" y="5349"/>
                  </a:lnTo>
                  <a:lnTo>
                    <a:pt x="1949195" y="0"/>
                  </a:lnTo>
                  <a:close/>
                </a:path>
              </a:pathLst>
            </a:custGeom>
            <a:solidFill>
              <a:srgbClr val="1737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67" name="object 12"/>
            <p:cNvSpPr/>
            <p:nvPr/>
          </p:nvSpPr>
          <p:spPr>
            <a:xfrm>
              <a:off x="2766960" y="3260880"/>
              <a:ext cx="2178000" cy="1241280"/>
            </a:xfrm>
            <a:custGeom>
              <a:avLst/>
              <a:gdLst>
                <a:gd name="textAreaLeft" fmla="*/ 0 w 2178000"/>
                <a:gd name="textAreaRight" fmla="*/ 2178360 w 2178000"/>
                <a:gd name="textAreaTop" fmla="*/ 0 h 1241280"/>
                <a:gd name="textAreaBottom" fmla="*/ 1241640 h 1241280"/>
              </a:gdLst>
              <a:ahLst/>
              <a:rect l="textAreaLeft" t="textAreaTop" r="textAreaRight" b="textAreaBottom"/>
              <a:pathLst>
                <a:path w="2152015" h="1216025">
                  <a:moveTo>
                    <a:pt x="0" y="202565"/>
                  </a:moveTo>
                  <a:lnTo>
                    <a:pt x="5356" y="156114"/>
                  </a:lnTo>
                  <a:lnTo>
                    <a:pt x="20611" y="113476"/>
                  </a:lnTo>
                  <a:lnTo>
                    <a:pt x="44547" y="75865"/>
                  </a:lnTo>
                  <a:lnTo>
                    <a:pt x="75942" y="44497"/>
                  </a:lnTo>
                  <a:lnTo>
                    <a:pt x="113577" y="20586"/>
                  </a:lnTo>
                  <a:lnTo>
                    <a:pt x="156234" y="5349"/>
                  </a:lnTo>
                  <a:lnTo>
                    <a:pt x="202692" y="0"/>
                  </a:lnTo>
                  <a:lnTo>
                    <a:pt x="1949195" y="0"/>
                  </a:lnTo>
                  <a:lnTo>
                    <a:pt x="1995693" y="5349"/>
                  </a:lnTo>
                  <a:lnTo>
                    <a:pt x="2038365" y="20586"/>
                  </a:lnTo>
                  <a:lnTo>
                    <a:pt x="2075999" y="44497"/>
                  </a:lnTo>
                  <a:lnTo>
                    <a:pt x="2107380" y="75865"/>
                  </a:lnTo>
                  <a:lnTo>
                    <a:pt x="2131298" y="113476"/>
                  </a:lnTo>
                  <a:lnTo>
                    <a:pt x="2146538" y="156114"/>
                  </a:lnTo>
                  <a:lnTo>
                    <a:pt x="2151888" y="202565"/>
                  </a:lnTo>
                  <a:lnTo>
                    <a:pt x="2151888" y="1013079"/>
                  </a:lnTo>
                  <a:lnTo>
                    <a:pt x="2146538" y="1059536"/>
                  </a:lnTo>
                  <a:lnTo>
                    <a:pt x="2131298" y="1102193"/>
                  </a:lnTo>
                  <a:lnTo>
                    <a:pt x="2107380" y="1139828"/>
                  </a:lnTo>
                  <a:lnTo>
                    <a:pt x="2075999" y="1171223"/>
                  </a:lnTo>
                  <a:lnTo>
                    <a:pt x="2038365" y="1195159"/>
                  </a:lnTo>
                  <a:lnTo>
                    <a:pt x="1995693" y="1210414"/>
                  </a:lnTo>
                  <a:lnTo>
                    <a:pt x="1949195" y="1215771"/>
                  </a:lnTo>
                  <a:lnTo>
                    <a:pt x="202692" y="1215771"/>
                  </a:lnTo>
                  <a:lnTo>
                    <a:pt x="156234" y="1210414"/>
                  </a:lnTo>
                  <a:lnTo>
                    <a:pt x="113577" y="1195159"/>
                  </a:lnTo>
                  <a:lnTo>
                    <a:pt x="75942" y="1171223"/>
                  </a:lnTo>
                  <a:lnTo>
                    <a:pt x="44547" y="1139828"/>
                  </a:lnTo>
                  <a:lnTo>
                    <a:pt x="20611" y="1102193"/>
                  </a:lnTo>
                  <a:lnTo>
                    <a:pt x="5356" y="1059536"/>
                  </a:lnTo>
                  <a:lnTo>
                    <a:pt x="0" y="1013079"/>
                  </a:lnTo>
                  <a:lnTo>
                    <a:pt x="0" y="202565"/>
                  </a:lnTo>
                  <a:close/>
                </a:path>
              </a:pathLst>
            </a:custGeom>
            <a:noFill/>
            <a:ln w="25560">
              <a:solidFill>
                <a:srgbClr val="385d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868" name="object 13"/>
          <p:cNvSpPr/>
          <p:nvPr/>
        </p:nvSpPr>
        <p:spPr>
          <a:xfrm>
            <a:off x="3073320" y="3305160"/>
            <a:ext cx="1567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егиональная  система оценки  качества  образования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869" name="object 14"/>
          <p:cNvGrpSpPr/>
          <p:nvPr/>
        </p:nvGrpSpPr>
        <p:grpSpPr>
          <a:xfrm>
            <a:off x="584280" y="4208400"/>
            <a:ext cx="2057400" cy="1249560"/>
            <a:chOff x="584280" y="4208400"/>
            <a:chExt cx="2057400" cy="1249560"/>
          </a:xfrm>
        </p:grpSpPr>
        <p:sp>
          <p:nvSpPr>
            <p:cNvPr id="870" name="object 15"/>
            <p:cNvSpPr/>
            <p:nvPr/>
          </p:nvSpPr>
          <p:spPr>
            <a:xfrm>
              <a:off x="584280" y="4208400"/>
              <a:ext cx="2057400" cy="1249560"/>
            </a:xfrm>
            <a:custGeom>
              <a:avLst/>
              <a:gdLst>
                <a:gd name="textAreaLeft" fmla="*/ 0 w 2057400"/>
                <a:gd name="textAreaRight" fmla="*/ 2057760 w 2057400"/>
                <a:gd name="textAreaTop" fmla="*/ 0 h 1249560"/>
                <a:gd name="textAreaBottom" fmla="*/ 1249920 h 1249560"/>
              </a:gdLst>
              <a:ahLst/>
              <a:rect l="textAreaLeft" t="textAreaTop" r="textAreaRight" b="textAreaBottom"/>
              <a:pathLst>
                <a:path w="2032000" h="1224279">
                  <a:moveTo>
                    <a:pt x="1827479" y="0"/>
                  </a:moveTo>
                  <a:lnTo>
                    <a:pt x="204025" y="0"/>
                  </a:lnTo>
                  <a:lnTo>
                    <a:pt x="157242" y="5386"/>
                  </a:lnTo>
                  <a:lnTo>
                    <a:pt x="114297" y="20730"/>
                  </a:lnTo>
                  <a:lnTo>
                    <a:pt x="76415" y="44806"/>
                  </a:lnTo>
                  <a:lnTo>
                    <a:pt x="44819" y="76392"/>
                  </a:lnTo>
                  <a:lnTo>
                    <a:pt x="20736" y="114262"/>
                  </a:lnTo>
                  <a:lnTo>
                    <a:pt x="5388" y="157194"/>
                  </a:lnTo>
                  <a:lnTo>
                    <a:pt x="0" y="203962"/>
                  </a:lnTo>
                  <a:lnTo>
                    <a:pt x="0" y="1020102"/>
                  </a:lnTo>
                  <a:lnTo>
                    <a:pt x="5388" y="1066881"/>
                  </a:lnTo>
                  <a:lnTo>
                    <a:pt x="20736" y="1109824"/>
                  </a:lnTo>
                  <a:lnTo>
                    <a:pt x="44819" y="1147707"/>
                  </a:lnTo>
                  <a:lnTo>
                    <a:pt x="76415" y="1179303"/>
                  </a:lnTo>
                  <a:lnTo>
                    <a:pt x="114297" y="1203389"/>
                  </a:lnTo>
                  <a:lnTo>
                    <a:pt x="157242" y="1218738"/>
                  </a:lnTo>
                  <a:lnTo>
                    <a:pt x="204025" y="1224127"/>
                  </a:lnTo>
                  <a:lnTo>
                    <a:pt x="1827479" y="1224127"/>
                  </a:lnTo>
                  <a:lnTo>
                    <a:pt x="1874247" y="1218738"/>
                  </a:lnTo>
                  <a:lnTo>
                    <a:pt x="1917178" y="1203389"/>
                  </a:lnTo>
                  <a:lnTo>
                    <a:pt x="1955048" y="1179303"/>
                  </a:lnTo>
                  <a:lnTo>
                    <a:pt x="1986634" y="1147707"/>
                  </a:lnTo>
                  <a:lnTo>
                    <a:pt x="2010710" y="1109824"/>
                  </a:lnTo>
                  <a:lnTo>
                    <a:pt x="2026054" y="1066881"/>
                  </a:lnTo>
                  <a:lnTo>
                    <a:pt x="2031441" y="1020102"/>
                  </a:lnTo>
                  <a:lnTo>
                    <a:pt x="2031441" y="203962"/>
                  </a:lnTo>
                  <a:lnTo>
                    <a:pt x="2026054" y="157194"/>
                  </a:lnTo>
                  <a:lnTo>
                    <a:pt x="2010710" y="114262"/>
                  </a:lnTo>
                  <a:lnTo>
                    <a:pt x="1986634" y="76392"/>
                  </a:lnTo>
                  <a:lnTo>
                    <a:pt x="1955048" y="44806"/>
                  </a:lnTo>
                  <a:lnTo>
                    <a:pt x="1917178" y="20730"/>
                  </a:lnTo>
                  <a:lnTo>
                    <a:pt x="1874247" y="5386"/>
                  </a:lnTo>
                  <a:lnTo>
                    <a:pt x="1827479" y="0"/>
                  </a:lnTo>
                  <a:close/>
                </a:path>
              </a:pathLst>
            </a:custGeom>
            <a:solidFill>
              <a:srgbClr val="1737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71" name="object 16"/>
            <p:cNvSpPr/>
            <p:nvPr/>
          </p:nvSpPr>
          <p:spPr>
            <a:xfrm>
              <a:off x="584280" y="4208400"/>
              <a:ext cx="2057400" cy="1249560"/>
            </a:xfrm>
            <a:custGeom>
              <a:avLst/>
              <a:gdLst>
                <a:gd name="textAreaLeft" fmla="*/ 0 w 2057400"/>
                <a:gd name="textAreaRight" fmla="*/ 2057760 w 2057400"/>
                <a:gd name="textAreaTop" fmla="*/ 0 h 1249560"/>
                <a:gd name="textAreaBottom" fmla="*/ 1249920 h 1249560"/>
              </a:gdLst>
              <a:ahLst/>
              <a:rect l="textAreaLeft" t="textAreaTop" r="textAreaRight" b="textAreaBottom"/>
              <a:pathLst>
                <a:path w="2032000" h="1224279">
                  <a:moveTo>
                    <a:pt x="0" y="203962"/>
                  </a:moveTo>
                  <a:lnTo>
                    <a:pt x="5388" y="157194"/>
                  </a:lnTo>
                  <a:lnTo>
                    <a:pt x="20736" y="114262"/>
                  </a:lnTo>
                  <a:lnTo>
                    <a:pt x="44819" y="76392"/>
                  </a:lnTo>
                  <a:lnTo>
                    <a:pt x="76415" y="44806"/>
                  </a:lnTo>
                  <a:lnTo>
                    <a:pt x="114297" y="20730"/>
                  </a:lnTo>
                  <a:lnTo>
                    <a:pt x="157242" y="5386"/>
                  </a:lnTo>
                  <a:lnTo>
                    <a:pt x="204025" y="0"/>
                  </a:lnTo>
                  <a:lnTo>
                    <a:pt x="1827479" y="0"/>
                  </a:lnTo>
                  <a:lnTo>
                    <a:pt x="1874247" y="5386"/>
                  </a:lnTo>
                  <a:lnTo>
                    <a:pt x="1917178" y="20730"/>
                  </a:lnTo>
                  <a:lnTo>
                    <a:pt x="1955048" y="44806"/>
                  </a:lnTo>
                  <a:lnTo>
                    <a:pt x="1986634" y="76392"/>
                  </a:lnTo>
                  <a:lnTo>
                    <a:pt x="2010710" y="114262"/>
                  </a:lnTo>
                  <a:lnTo>
                    <a:pt x="2026054" y="157194"/>
                  </a:lnTo>
                  <a:lnTo>
                    <a:pt x="2031441" y="203962"/>
                  </a:lnTo>
                  <a:lnTo>
                    <a:pt x="2031441" y="1020102"/>
                  </a:lnTo>
                  <a:lnTo>
                    <a:pt x="2026054" y="1066881"/>
                  </a:lnTo>
                  <a:lnTo>
                    <a:pt x="2010710" y="1109824"/>
                  </a:lnTo>
                  <a:lnTo>
                    <a:pt x="1986634" y="1147707"/>
                  </a:lnTo>
                  <a:lnTo>
                    <a:pt x="1955048" y="1179303"/>
                  </a:lnTo>
                  <a:lnTo>
                    <a:pt x="1917178" y="1203389"/>
                  </a:lnTo>
                  <a:lnTo>
                    <a:pt x="1874247" y="1218738"/>
                  </a:lnTo>
                  <a:lnTo>
                    <a:pt x="1827479" y="1224127"/>
                  </a:lnTo>
                  <a:lnTo>
                    <a:pt x="204025" y="1224127"/>
                  </a:lnTo>
                  <a:lnTo>
                    <a:pt x="157242" y="1218738"/>
                  </a:lnTo>
                  <a:lnTo>
                    <a:pt x="114297" y="1203389"/>
                  </a:lnTo>
                  <a:lnTo>
                    <a:pt x="76415" y="1179303"/>
                  </a:lnTo>
                  <a:lnTo>
                    <a:pt x="44819" y="1147707"/>
                  </a:lnTo>
                  <a:lnTo>
                    <a:pt x="20736" y="1109824"/>
                  </a:lnTo>
                  <a:lnTo>
                    <a:pt x="5388" y="1066881"/>
                  </a:lnTo>
                  <a:lnTo>
                    <a:pt x="0" y="1020102"/>
                  </a:lnTo>
                  <a:lnTo>
                    <a:pt x="0" y="203962"/>
                  </a:lnTo>
                  <a:close/>
                </a:path>
              </a:pathLst>
            </a:custGeom>
            <a:noFill/>
            <a:ln w="25560">
              <a:solidFill>
                <a:srgbClr val="385d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872" name="object 17"/>
          <p:cNvSpPr/>
          <p:nvPr/>
        </p:nvSpPr>
        <p:spPr>
          <a:xfrm>
            <a:off x="828720" y="4257720"/>
            <a:ext cx="156672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 indent="2034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нутренняя  система оценки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2600" indent="203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чества  образования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873" name="object 18"/>
          <p:cNvGrpSpPr/>
          <p:nvPr/>
        </p:nvGrpSpPr>
        <p:grpSpPr>
          <a:xfrm>
            <a:off x="5351400" y="3487680"/>
            <a:ext cx="3409920" cy="2185920"/>
            <a:chOff x="5351400" y="3487680"/>
            <a:chExt cx="3409920" cy="2185920"/>
          </a:xfrm>
        </p:grpSpPr>
        <p:sp>
          <p:nvSpPr>
            <p:cNvPr id="874" name="object 19"/>
            <p:cNvSpPr/>
            <p:nvPr/>
          </p:nvSpPr>
          <p:spPr>
            <a:xfrm>
              <a:off x="5351400" y="3487680"/>
              <a:ext cx="3409920" cy="2185920"/>
            </a:xfrm>
            <a:custGeom>
              <a:avLst/>
              <a:gdLst>
                <a:gd name="textAreaLeft" fmla="*/ 0 w 3409920"/>
                <a:gd name="textAreaRight" fmla="*/ 3410280 w 3409920"/>
                <a:gd name="textAreaTop" fmla="*/ 0 h 2185920"/>
                <a:gd name="textAreaBottom" fmla="*/ 2186280 h 2185920"/>
              </a:gdLst>
              <a:ahLst/>
              <a:rect l="textAreaLeft" t="textAreaTop" r="textAreaRight" b="textAreaBottom"/>
              <a:pathLst>
                <a:path w="3384550" h="2160270">
                  <a:moveTo>
                    <a:pt x="3024378" y="0"/>
                  </a:moveTo>
                  <a:lnTo>
                    <a:pt x="360045" y="0"/>
                  </a:lnTo>
                  <a:lnTo>
                    <a:pt x="311181" y="3286"/>
                  </a:lnTo>
                  <a:lnTo>
                    <a:pt x="264318" y="12858"/>
                  </a:lnTo>
                  <a:lnTo>
                    <a:pt x="219884" y="28289"/>
                  </a:lnTo>
                  <a:lnTo>
                    <a:pt x="178308" y="49149"/>
                  </a:lnTo>
                  <a:lnTo>
                    <a:pt x="140017" y="75009"/>
                  </a:lnTo>
                  <a:lnTo>
                    <a:pt x="105441" y="105441"/>
                  </a:lnTo>
                  <a:lnTo>
                    <a:pt x="75009" y="140017"/>
                  </a:lnTo>
                  <a:lnTo>
                    <a:pt x="49149" y="178308"/>
                  </a:lnTo>
                  <a:lnTo>
                    <a:pt x="28289" y="219884"/>
                  </a:lnTo>
                  <a:lnTo>
                    <a:pt x="12858" y="264318"/>
                  </a:lnTo>
                  <a:lnTo>
                    <a:pt x="3286" y="311181"/>
                  </a:lnTo>
                  <a:lnTo>
                    <a:pt x="0" y="360045"/>
                  </a:lnTo>
                  <a:lnTo>
                    <a:pt x="0" y="1800186"/>
                  </a:lnTo>
                  <a:lnTo>
                    <a:pt x="3286" y="1849045"/>
                  </a:lnTo>
                  <a:lnTo>
                    <a:pt x="12858" y="1895905"/>
                  </a:lnTo>
                  <a:lnTo>
                    <a:pt x="28289" y="1940338"/>
                  </a:lnTo>
                  <a:lnTo>
                    <a:pt x="49148" y="1981915"/>
                  </a:lnTo>
                  <a:lnTo>
                    <a:pt x="75009" y="2020208"/>
                  </a:lnTo>
                  <a:lnTo>
                    <a:pt x="105441" y="2054786"/>
                  </a:lnTo>
                  <a:lnTo>
                    <a:pt x="140017" y="2085222"/>
                  </a:lnTo>
                  <a:lnTo>
                    <a:pt x="178307" y="2111086"/>
                  </a:lnTo>
                  <a:lnTo>
                    <a:pt x="219884" y="2131949"/>
                  </a:lnTo>
                  <a:lnTo>
                    <a:pt x="264318" y="2147383"/>
                  </a:lnTo>
                  <a:lnTo>
                    <a:pt x="311181" y="2156957"/>
                  </a:lnTo>
                  <a:lnTo>
                    <a:pt x="360045" y="2160244"/>
                  </a:lnTo>
                  <a:lnTo>
                    <a:pt x="3024378" y="2160244"/>
                  </a:lnTo>
                  <a:lnTo>
                    <a:pt x="3073214" y="2156957"/>
                  </a:lnTo>
                  <a:lnTo>
                    <a:pt x="3120060" y="2147383"/>
                  </a:lnTo>
                  <a:lnTo>
                    <a:pt x="3164484" y="2131949"/>
                  </a:lnTo>
                  <a:lnTo>
                    <a:pt x="3206058" y="2111086"/>
                  </a:lnTo>
                  <a:lnTo>
                    <a:pt x="3244351" y="2085222"/>
                  </a:lnTo>
                  <a:lnTo>
                    <a:pt x="3278933" y="2054786"/>
                  </a:lnTo>
                  <a:lnTo>
                    <a:pt x="3309375" y="2020208"/>
                  </a:lnTo>
                  <a:lnTo>
                    <a:pt x="3335245" y="1981915"/>
                  </a:lnTo>
                  <a:lnTo>
                    <a:pt x="3356115" y="1940338"/>
                  </a:lnTo>
                  <a:lnTo>
                    <a:pt x="3371555" y="1895905"/>
                  </a:lnTo>
                  <a:lnTo>
                    <a:pt x="3381134" y="1849045"/>
                  </a:lnTo>
                  <a:lnTo>
                    <a:pt x="3384423" y="1800186"/>
                  </a:lnTo>
                  <a:lnTo>
                    <a:pt x="3384423" y="360045"/>
                  </a:lnTo>
                  <a:lnTo>
                    <a:pt x="3381134" y="311181"/>
                  </a:lnTo>
                  <a:lnTo>
                    <a:pt x="3371555" y="264318"/>
                  </a:lnTo>
                  <a:lnTo>
                    <a:pt x="3356115" y="219884"/>
                  </a:lnTo>
                  <a:lnTo>
                    <a:pt x="3335245" y="178308"/>
                  </a:lnTo>
                  <a:lnTo>
                    <a:pt x="3309375" y="140017"/>
                  </a:lnTo>
                  <a:lnTo>
                    <a:pt x="3278933" y="105441"/>
                  </a:lnTo>
                  <a:lnTo>
                    <a:pt x="3244351" y="75009"/>
                  </a:lnTo>
                  <a:lnTo>
                    <a:pt x="3206058" y="49149"/>
                  </a:lnTo>
                  <a:lnTo>
                    <a:pt x="3164484" y="28289"/>
                  </a:lnTo>
                  <a:lnTo>
                    <a:pt x="3120060" y="12858"/>
                  </a:lnTo>
                  <a:lnTo>
                    <a:pt x="3073214" y="3286"/>
                  </a:lnTo>
                  <a:lnTo>
                    <a:pt x="3024378" y="0"/>
                  </a:lnTo>
                  <a:close/>
                </a:path>
              </a:pathLst>
            </a:custGeom>
            <a:solidFill>
              <a:srgbClr val="4f8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75" name="object 20"/>
            <p:cNvSpPr/>
            <p:nvPr/>
          </p:nvSpPr>
          <p:spPr>
            <a:xfrm>
              <a:off x="5351400" y="3487680"/>
              <a:ext cx="3409920" cy="2185920"/>
            </a:xfrm>
            <a:custGeom>
              <a:avLst/>
              <a:gdLst>
                <a:gd name="textAreaLeft" fmla="*/ 0 w 3409920"/>
                <a:gd name="textAreaRight" fmla="*/ 3410280 w 3409920"/>
                <a:gd name="textAreaTop" fmla="*/ 0 h 2185920"/>
                <a:gd name="textAreaBottom" fmla="*/ 2186280 h 2185920"/>
              </a:gdLst>
              <a:ahLst/>
              <a:rect l="textAreaLeft" t="textAreaTop" r="textAreaRight" b="textAreaBottom"/>
              <a:pathLst>
                <a:path w="3384550" h="2160270">
                  <a:moveTo>
                    <a:pt x="0" y="360045"/>
                  </a:moveTo>
                  <a:lnTo>
                    <a:pt x="3286" y="311181"/>
                  </a:lnTo>
                  <a:lnTo>
                    <a:pt x="12858" y="264318"/>
                  </a:lnTo>
                  <a:lnTo>
                    <a:pt x="28289" y="219884"/>
                  </a:lnTo>
                  <a:lnTo>
                    <a:pt x="49149" y="178308"/>
                  </a:lnTo>
                  <a:lnTo>
                    <a:pt x="75009" y="140017"/>
                  </a:lnTo>
                  <a:lnTo>
                    <a:pt x="105441" y="105441"/>
                  </a:lnTo>
                  <a:lnTo>
                    <a:pt x="140017" y="75009"/>
                  </a:lnTo>
                  <a:lnTo>
                    <a:pt x="178308" y="49149"/>
                  </a:lnTo>
                  <a:lnTo>
                    <a:pt x="219884" y="28289"/>
                  </a:lnTo>
                  <a:lnTo>
                    <a:pt x="264318" y="12858"/>
                  </a:lnTo>
                  <a:lnTo>
                    <a:pt x="311181" y="3286"/>
                  </a:lnTo>
                  <a:lnTo>
                    <a:pt x="360045" y="0"/>
                  </a:lnTo>
                  <a:lnTo>
                    <a:pt x="3024378" y="0"/>
                  </a:lnTo>
                  <a:lnTo>
                    <a:pt x="3073214" y="3286"/>
                  </a:lnTo>
                  <a:lnTo>
                    <a:pt x="3120060" y="12858"/>
                  </a:lnTo>
                  <a:lnTo>
                    <a:pt x="3164484" y="28289"/>
                  </a:lnTo>
                  <a:lnTo>
                    <a:pt x="3206058" y="49149"/>
                  </a:lnTo>
                  <a:lnTo>
                    <a:pt x="3244351" y="75009"/>
                  </a:lnTo>
                  <a:lnTo>
                    <a:pt x="3278933" y="105441"/>
                  </a:lnTo>
                  <a:lnTo>
                    <a:pt x="3309375" y="140017"/>
                  </a:lnTo>
                  <a:lnTo>
                    <a:pt x="3335245" y="178308"/>
                  </a:lnTo>
                  <a:lnTo>
                    <a:pt x="3356115" y="219884"/>
                  </a:lnTo>
                  <a:lnTo>
                    <a:pt x="3371555" y="264318"/>
                  </a:lnTo>
                  <a:lnTo>
                    <a:pt x="3381134" y="311181"/>
                  </a:lnTo>
                  <a:lnTo>
                    <a:pt x="3384423" y="360045"/>
                  </a:lnTo>
                  <a:lnTo>
                    <a:pt x="3384423" y="1800186"/>
                  </a:lnTo>
                  <a:lnTo>
                    <a:pt x="3381134" y="1849045"/>
                  </a:lnTo>
                  <a:lnTo>
                    <a:pt x="3371555" y="1895905"/>
                  </a:lnTo>
                  <a:lnTo>
                    <a:pt x="3356115" y="1940338"/>
                  </a:lnTo>
                  <a:lnTo>
                    <a:pt x="3335245" y="1981915"/>
                  </a:lnTo>
                  <a:lnTo>
                    <a:pt x="3309375" y="2020208"/>
                  </a:lnTo>
                  <a:lnTo>
                    <a:pt x="3278933" y="2054786"/>
                  </a:lnTo>
                  <a:lnTo>
                    <a:pt x="3244351" y="2085222"/>
                  </a:lnTo>
                  <a:lnTo>
                    <a:pt x="3206058" y="2111086"/>
                  </a:lnTo>
                  <a:lnTo>
                    <a:pt x="3164484" y="2131949"/>
                  </a:lnTo>
                  <a:lnTo>
                    <a:pt x="3120060" y="2147383"/>
                  </a:lnTo>
                  <a:lnTo>
                    <a:pt x="3073214" y="2156957"/>
                  </a:lnTo>
                  <a:lnTo>
                    <a:pt x="3024378" y="2160244"/>
                  </a:lnTo>
                  <a:lnTo>
                    <a:pt x="360045" y="2160244"/>
                  </a:lnTo>
                  <a:lnTo>
                    <a:pt x="311181" y="2156957"/>
                  </a:lnTo>
                  <a:lnTo>
                    <a:pt x="264318" y="2147383"/>
                  </a:lnTo>
                  <a:lnTo>
                    <a:pt x="219884" y="2131949"/>
                  </a:lnTo>
                  <a:lnTo>
                    <a:pt x="178307" y="2111086"/>
                  </a:lnTo>
                  <a:lnTo>
                    <a:pt x="140017" y="2085222"/>
                  </a:lnTo>
                  <a:lnTo>
                    <a:pt x="105441" y="2054786"/>
                  </a:lnTo>
                  <a:lnTo>
                    <a:pt x="75009" y="2020208"/>
                  </a:lnTo>
                  <a:lnTo>
                    <a:pt x="49148" y="1981915"/>
                  </a:lnTo>
                  <a:lnTo>
                    <a:pt x="28289" y="1940338"/>
                  </a:lnTo>
                  <a:lnTo>
                    <a:pt x="12858" y="1895905"/>
                  </a:lnTo>
                  <a:lnTo>
                    <a:pt x="3286" y="1849045"/>
                  </a:lnTo>
                  <a:lnTo>
                    <a:pt x="0" y="1800186"/>
                  </a:lnTo>
                  <a:lnTo>
                    <a:pt x="0" y="360045"/>
                  </a:lnTo>
                  <a:close/>
                </a:path>
              </a:pathLst>
            </a:custGeom>
            <a:noFill/>
            <a:ln w="25560">
              <a:solidFill>
                <a:srgbClr val="385d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876" name="object 21"/>
          <p:cNvSpPr/>
          <p:nvPr/>
        </p:nvSpPr>
        <p:spPr>
          <a:xfrm>
            <a:off x="5600880" y="3594240"/>
            <a:ext cx="2912760" cy="19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Единые технологии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ведения и обработки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езультатов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спользование качественных  измерительных материалов  Интерпретация внутренней и  внешней оценки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7" name="Нижний колонтитул 3"/>
          <p:cNvSpPr/>
          <p:nvPr/>
        </p:nvSpPr>
        <p:spPr>
          <a:xfrm>
            <a:off x="609480" y="6248520"/>
            <a:ext cx="794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Управление образования Администрации Талицкого городского округа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8" name="Номер слайда 2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4A35-15F9-463E-B1E8-E5986FB5605F}" type="slidenum">
              <a:rPr b="1" lang="ru-RU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23640" y="528120"/>
            <a:ext cx="799308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92520" bIns="0" anchor="ctr">
            <a:noAutofit/>
          </a:bodyPr>
          <a:p>
            <a:pPr marL="426960" indent="0" algn="ctr">
              <a:lnSpc>
                <a:spcPts val="25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6fc6"/>
                </a:solidFill>
                <a:latin typeface="Calibri"/>
              </a:rPr>
              <a:t>Система оценки достижения планируемых результатов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0" name="object 3"/>
          <p:cNvSpPr/>
          <p:nvPr/>
        </p:nvSpPr>
        <p:spPr>
          <a:xfrm>
            <a:off x="539640" y="1898640"/>
            <a:ext cx="801396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360" bIns="0" anchor="t">
            <a:spAutoFit/>
          </a:bodyPr>
          <a:p>
            <a:pPr marL="93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fc0"/>
                </a:solidFill>
                <a:latin typeface="Times New Roman"/>
                <a:ea typeface="Times New Roman"/>
              </a:rPr>
              <a:t>Внутренняя оценка 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9360">
              <a:lnSpc>
                <a:spcPct val="100000"/>
              </a:lnSpc>
              <a:spcBef>
                <a:spcPts val="499"/>
              </a:spcBef>
              <a:buClr>
                <a:srgbClr val="006fc0"/>
              </a:buClr>
              <a:buFont typeface="Aria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fc0"/>
                </a:solidFill>
                <a:latin typeface="Times New Roman"/>
                <a:ea typeface="Times New Roman"/>
              </a:rPr>
              <a:t>стартовая диагностика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9360">
              <a:lnSpc>
                <a:spcPct val="100000"/>
              </a:lnSpc>
              <a:spcBef>
                <a:spcPts val="499"/>
              </a:spcBef>
              <a:buClr>
                <a:srgbClr val="006fc0"/>
              </a:buClr>
              <a:buFont typeface="Aria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fc0"/>
                </a:solidFill>
                <a:latin typeface="Times New Roman"/>
                <a:ea typeface="Times New Roman"/>
              </a:rPr>
              <a:t>текущая и тематическая оценка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9360">
              <a:lnSpc>
                <a:spcPct val="100000"/>
              </a:lnSpc>
              <a:spcBef>
                <a:spcPts val="499"/>
              </a:spcBef>
              <a:buClr>
                <a:srgbClr val="006fc0"/>
              </a:buClr>
              <a:buFont typeface="Aria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fc0"/>
                </a:solidFill>
                <a:latin typeface="Times New Roman"/>
                <a:ea typeface="Times New Roman"/>
              </a:rPr>
              <a:t>психолого-педагогическое наблюдение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9360">
              <a:lnSpc>
                <a:spcPct val="100000"/>
              </a:lnSpc>
              <a:spcBef>
                <a:spcPts val="499"/>
              </a:spcBef>
              <a:buClr>
                <a:srgbClr val="006fc0"/>
              </a:buClr>
              <a:buFont typeface="Aria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fc0"/>
                </a:solidFill>
                <a:latin typeface="Times New Roman"/>
                <a:ea typeface="Times New Roman"/>
              </a:rPr>
              <a:t>внутренний мониторинг образовательных достижений обучающихся.</a:t>
            </a:r>
            <a:r>
              <a:rPr b="0" lang="en-US" sz="2400" spc="-1" strike="noStrike">
                <a:solidFill>
                  <a:srgbClr val="006fc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9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fc0"/>
                </a:solidFill>
                <a:latin typeface="Times New Roman"/>
                <a:ea typeface="Times New Roman"/>
              </a:rPr>
              <a:t>Внешняя оценка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9360">
              <a:lnSpc>
                <a:spcPts val="2262"/>
              </a:lnSpc>
              <a:spcBef>
                <a:spcPts val="774"/>
              </a:spcBef>
              <a:buClr>
                <a:srgbClr val="006fc0"/>
              </a:buClr>
              <a:buFont typeface="Aria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fc0"/>
                </a:solidFill>
                <a:latin typeface="Times New Roman"/>
                <a:ea typeface="Times New Roman"/>
              </a:rPr>
              <a:t>мониторинговые исследования муниципального, регионального и  федерального уровней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1" name="Нижний колонтитул 3"/>
          <p:cNvSpPr/>
          <p:nvPr/>
        </p:nvSpPr>
        <p:spPr>
          <a:xfrm>
            <a:off x="609480" y="6248520"/>
            <a:ext cx="794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Управление образования Администрации Талицкого городского округа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2" name="Номер слайда 1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F42F-487D-4661-9C52-F00678559200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object 2" descr=""/>
          <p:cNvPicPr/>
          <p:nvPr/>
        </p:nvPicPr>
        <p:blipFill>
          <a:blip r:embed="rId1"/>
          <a:stretch/>
        </p:blipFill>
        <p:spPr>
          <a:xfrm>
            <a:off x="474840" y="1515960"/>
            <a:ext cx="8686800" cy="488016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6fc6"/>
                </a:solidFill>
                <a:latin typeface="Calibri"/>
              </a:rPr>
              <a:t>Признаки необъективности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Нижний колонтитул 3"/>
          <p:cNvSpPr/>
          <p:nvPr/>
        </p:nvSpPr>
        <p:spPr>
          <a:xfrm>
            <a:off x="612720" y="6396120"/>
            <a:ext cx="7940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Управление образования Администрации Талицкого городского округа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7" name="Номер слайда 1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7583-8CA5-4008-9ADD-4EA416EFF4CC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-684720" y="253800"/>
            <a:ext cx="945036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tIns="102600" bIns="0" anchor="ctr">
            <a:noAutofit/>
          </a:bodyPr>
          <a:p>
            <a:pPr marL="94608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6fc6"/>
                </a:solidFill>
                <a:latin typeface="Tw Cen MT"/>
              </a:rPr>
              <a:t>Механизмы обеспечения</a:t>
            </a:r>
            <a:br>
              <a:rPr sz="2400"/>
            </a:br>
            <a:r>
              <a:rPr b="1" lang="ru-RU" sz="2400" spc="-1" strike="noStrike">
                <a:solidFill>
                  <a:srgbClr val="0f6fc6"/>
                </a:solidFill>
                <a:latin typeface="Tw Cen MT"/>
              </a:rPr>
              <a:t>объективности внутренней оценки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889" name="object 3"/>
          <p:cNvGrpSpPr/>
          <p:nvPr/>
        </p:nvGrpSpPr>
        <p:grpSpPr>
          <a:xfrm>
            <a:off x="103320" y="1911240"/>
            <a:ext cx="8866080" cy="3538800"/>
            <a:chOff x="103320" y="1911240"/>
            <a:chExt cx="8866080" cy="3538800"/>
          </a:xfrm>
        </p:grpSpPr>
        <p:sp>
          <p:nvSpPr>
            <p:cNvPr id="890" name="object 4"/>
            <p:cNvSpPr/>
            <p:nvPr/>
          </p:nvSpPr>
          <p:spPr>
            <a:xfrm>
              <a:off x="103320" y="1911240"/>
              <a:ext cx="8866080" cy="3538800"/>
            </a:xfrm>
            <a:custGeom>
              <a:avLst/>
              <a:gdLst>
                <a:gd name="textAreaLeft" fmla="*/ 0 w 8866080"/>
                <a:gd name="textAreaRight" fmla="*/ 8866440 w 8866080"/>
                <a:gd name="textAreaTop" fmla="*/ 0 h 3538800"/>
                <a:gd name="textAreaBottom" fmla="*/ 3539160 h 3538800"/>
              </a:gdLst>
              <a:ahLst/>
              <a:rect l="textAreaLeft" t="textAreaTop" r="textAreaRight" b="textAreaBottom"/>
              <a:pathLst>
                <a:path w="8856980" h="3528695">
                  <a:moveTo>
                    <a:pt x="0" y="3528441"/>
                  </a:moveTo>
                  <a:lnTo>
                    <a:pt x="8856980" y="3528441"/>
                  </a:lnTo>
                  <a:lnTo>
                    <a:pt x="8856980" y="0"/>
                  </a:lnTo>
                  <a:lnTo>
                    <a:pt x="0" y="0"/>
                  </a:lnTo>
                  <a:lnTo>
                    <a:pt x="0" y="3528441"/>
                  </a:lnTo>
                  <a:close/>
                </a:path>
              </a:pathLst>
            </a:custGeom>
            <a:noFill/>
            <a:ln w="9360">
              <a:solidFill>
                <a:srgbClr val="0f24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91" name="object 5"/>
            <p:cNvSpPr/>
            <p:nvPr/>
          </p:nvSpPr>
          <p:spPr>
            <a:xfrm>
              <a:off x="196200" y="2063880"/>
              <a:ext cx="2018880" cy="1300320"/>
            </a:xfrm>
            <a:custGeom>
              <a:avLst/>
              <a:gdLst>
                <a:gd name="textAreaLeft" fmla="*/ 0 w 2018880"/>
                <a:gd name="textAreaRight" fmla="*/ 2019240 w 2018880"/>
                <a:gd name="textAreaTop" fmla="*/ 0 h 1300320"/>
                <a:gd name="textAreaBottom" fmla="*/ 1300680 h 1300320"/>
              </a:gdLst>
              <a:ahLst/>
              <a:rect l="textAreaLeft" t="textAreaTop" r="textAreaRight" b="textAreaBottom"/>
              <a:pathLst>
                <a:path w="2016760" h="1296670">
                  <a:moveTo>
                    <a:pt x="1368120" y="0"/>
                  </a:moveTo>
                  <a:lnTo>
                    <a:pt x="0" y="0"/>
                  </a:lnTo>
                  <a:lnTo>
                    <a:pt x="0" y="1296162"/>
                  </a:lnTo>
                  <a:lnTo>
                    <a:pt x="1368120" y="1296162"/>
                  </a:lnTo>
                  <a:lnTo>
                    <a:pt x="2016201" y="648080"/>
                  </a:lnTo>
                  <a:lnTo>
                    <a:pt x="1368120" y="0"/>
                  </a:lnTo>
                  <a:close/>
                </a:path>
              </a:pathLst>
            </a:custGeom>
            <a:solidFill>
              <a:srgbClr val="1737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92" name="object 6"/>
            <p:cNvSpPr/>
            <p:nvPr/>
          </p:nvSpPr>
          <p:spPr>
            <a:xfrm>
              <a:off x="196200" y="2063880"/>
              <a:ext cx="2018880" cy="1300320"/>
            </a:xfrm>
            <a:custGeom>
              <a:avLst/>
              <a:gdLst>
                <a:gd name="textAreaLeft" fmla="*/ 0 w 2018880"/>
                <a:gd name="textAreaRight" fmla="*/ 2019240 w 2018880"/>
                <a:gd name="textAreaTop" fmla="*/ 0 h 1300320"/>
                <a:gd name="textAreaBottom" fmla="*/ 1300680 h 1300320"/>
              </a:gdLst>
              <a:ahLst/>
              <a:rect l="textAreaLeft" t="textAreaTop" r="textAreaRight" b="textAreaBottom"/>
              <a:pathLst>
                <a:path w="2016760" h="1296670">
                  <a:moveTo>
                    <a:pt x="0" y="0"/>
                  </a:moveTo>
                  <a:lnTo>
                    <a:pt x="1368120" y="0"/>
                  </a:lnTo>
                  <a:lnTo>
                    <a:pt x="2016201" y="648080"/>
                  </a:lnTo>
                  <a:lnTo>
                    <a:pt x="1368120" y="1296162"/>
                  </a:lnTo>
                  <a:lnTo>
                    <a:pt x="0" y="129616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385d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893" name="object 8"/>
          <p:cNvSpPr/>
          <p:nvPr/>
        </p:nvSpPr>
        <p:spPr>
          <a:xfrm>
            <a:off x="376200" y="2278080"/>
            <a:ext cx="1339920" cy="8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1160"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Единство  требований к  результатам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894" name="object 9"/>
          <p:cNvGrpSpPr/>
          <p:nvPr/>
        </p:nvGrpSpPr>
        <p:grpSpPr>
          <a:xfrm>
            <a:off x="1679400" y="3435480"/>
            <a:ext cx="2041560" cy="1322280"/>
            <a:chOff x="1679400" y="3435480"/>
            <a:chExt cx="2041560" cy="1322280"/>
          </a:xfrm>
        </p:grpSpPr>
        <p:sp>
          <p:nvSpPr>
            <p:cNvPr id="895" name="object 10"/>
            <p:cNvSpPr/>
            <p:nvPr/>
          </p:nvSpPr>
          <p:spPr>
            <a:xfrm>
              <a:off x="1679400" y="3435480"/>
              <a:ext cx="2041560" cy="1322280"/>
            </a:xfrm>
            <a:custGeom>
              <a:avLst/>
              <a:gdLst>
                <a:gd name="textAreaLeft" fmla="*/ 0 w 2041560"/>
                <a:gd name="textAreaRight" fmla="*/ 2041920 w 2041560"/>
                <a:gd name="textAreaTop" fmla="*/ 0 h 1322280"/>
                <a:gd name="textAreaBottom" fmla="*/ 1322640 h 1322280"/>
              </a:gdLst>
              <a:ahLst/>
              <a:rect l="textAreaLeft" t="textAreaTop" r="textAreaRight" b="textAreaBottom"/>
              <a:pathLst>
                <a:path w="2016760" h="1296670">
                  <a:moveTo>
                    <a:pt x="1368171" y="0"/>
                  </a:moveTo>
                  <a:lnTo>
                    <a:pt x="0" y="0"/>
                  </a:lnTo>
                  <a:lnTo>
                    <a:pt x="0" y="1296136"/>
                  </a:lnTo>
                  <a:lnTo>
                    <a:pt x="1368171" y="1296136"/>
                  </a:lnTo>
                  <a:lnTo>
                    <a:pt x="2016252" y="648081"/>
                  </a:lnTo>
                  <a:lnTo>
                    <a:pt x="1368171" y="0"/>
                  </a:lnTo>
                  <a:close/>
                </a:path>
              </a:pathLst>
            </a:custGeom>
            <a:solidFill>
              <a:srgbClr val="1737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96" name="object 11"/>
            <p:cNvSpPr/>
            <p:nvPr/>
          </p:nvSpPr>
          <p:spPr>
            <a:xfrm>
              <a:off x="1679400" y="3435480"/>
              <a:ext cx="2041560" cy="1322280"/>
            </a:xfrm>
            <a:custGeom>
              <a:avLst/>
              <a:gdLst>
                <a:gd name="textAreaLeft" fmla="*/ 0 w 2041560"/>
                <a:gd name="textAreaRight" fmla="*/ 2041920 w 2041560"/>
                <a:gd name="textAreaTop" fmla="*/ 0 h 1322280"/>
                <a:gd name="textAreaBottom" fmla="*/ 1322640 h 1322280"/>
              </a:gdLst>
              <a:ahLst/>
              <a:rect l="textAreaLeft" t="textAreaTop" r="textAreaRight" b="textAreaBottom"/>
              <a:pathLst>
                <a:path w="2016760" h="1296670">
                  <a:moveTo>
                    <a:pt x="0" y="0"/>
                  </a:moveTo>
                  <a:lnTo>
                    <a:pt x="1368171" y="0"/>
                  </a:lnTo>
                  <a:lnTo>
                    <a:pt x="2016252" y="648081"/>
                  </a:lnTo>
                  <a:lnTo>
                    <a:pt x="1368171" y="1296136"/>
                  </a:lnTo>
                  <a:lnTo>
                    <a:pt x="0" y="129613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385d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897" name="object 12"/>
          <p:cNvSpPr/>
          <p:nvPr/>
        </p:nvSpPr>
        <p:spPr>
          <a:xfrm>
            <a:off x="1833480" y="3657600"/>
            <a:ext cx="1408320" cy="8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нструментар  ий внешней  оценки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898" name="object 13"/>
          <p:cNvGrpSpPr/>
          <p:nvPr/>
        </p:nvGrpSpPr>
        <p:grpSpPr>
          <a:xfrm>
            <a:off x="3406680" y="2081160"/>
            <a:ext cx="2043360" cy="1322280"/>
            <a:chOff x="3406680" y="2081160"/>
            <a:chExt cx="2043360" cy="1322280"/>
          </a:xfrm>
        </p:grpSpPr>
        <p:sp>
          <p:nvSpPr>
            <p:cNvPr id="899" name="object 14"/>
            <p:cNvSpPr/>
            <p:nvPr/>
          </p:nvSpPr>
          <p:spPr>
            <a:xfrm>
              <a:off x="3406680" y="2081160"/>
              <a:ext cx="2043360" cy="1322280"/>
            </a:xfrm>
            <a:custGeom>
              <a:avLst/>
              <a:gdLst>
                <a:gd name="textAreaLeft" fmla="*/ 0 w 2043360"/>
                <a:gd name="textAreaRight" fmla="*/ 2043720 w 2043360"/>
                <a:gd name="textAreaTop" fmla="*/ 0 h 1322280"/>
                <a:gd name="textAreaBottom" fmla="*/ 1322640 h 1322280"/>
              </a:gdLst>
              <a:ahLst/>
              <a:rect l="textAreaLeft" t="textAreaTop" r="textAreaRight" b="textAreaBottom"/>
              <a:pathLst>
                <a:path w="2016760" h="1296670">
                  <a:moveTo>
                    <a:pt x="1368171" y="0"/>
                  </a:moveTo>
                  <a:lnTo>
                    <a:pt x="0" y="0"/>
                  </a:lnTo>
                  <a:lnTo>
                    <a:pt x="0" y="1296161"/>
                  </a:lnTo>
                  <a:lnTo>
                    <a:pt x="1368171" y="1296161"/>
                  </a:lnTo>
                  <a:lnTo>
                    <a:pt x="2016252" y="648080"/>
                  </a:lnTo>
                  <a:lnTo>
                    <a:pt x="1368171" y="0"/>
                  </a:lnTo>
                  <a:close/>
                </a:path>
              </a:pathLst>
            </a:custGeom>
            <a:solidFill>
              <a:srgbClr val="1737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0" name="object 15"/>
            <p:cNvSpPr/>
            <p:nvPr/>
          </p:nvSpPr>
          <p:spPr>
            <a:xfrm>
              <a:off x="3406680" y="2081160"/>
              <a:ext cx="2043360" cy="1322280"/>
            </a:xfrm>
            <a:custGeom>
              <a:avLst/>
              <a:gdLst>
                <a:gd name="textAreaLeft" fmla="*/ 0 w 2043360"/>
                <a:gd name="textAreaRight" fmla="*/ 2043720 w 2043360"/>
                <a:gd name="textAreaTop" fmla="*/ 0 h 1322280"/>
                <a:gd name="textAreaBottom" fmla="*/ 1322640 h 1322280"/>
              </a:gdLst>
              <a:ahLst/>
              <a:rect l="textAreaLeft" t="textAreaTop" r="textAreaRight" b="textAreaBottom"/>
              <a:pathLst>
                <a:path w="2016760" h="1296670">
                  <a:moveTo>
                    <a:pt x="0" y="0"/>
                  </a:moveTo>
                  <a:lnTo>
                    <a:pt x="1368171" y="0"/>
                  </a:lnTo>
                  <a:lnTo>
                    <a:pt x="2016252" y="648080"/>
                  </a:lnTo>
                  <a:lnTo>
                    <a:pt x="1368171" y="1296161"/>
                  </a:lnTo>
                  <a:lnTo>
                    <a:pt x="0" y="129616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385d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901" name="object 16"/>
          <p:cNvSpPr/>
          <p:nvPr/>
        </p:nvSpPr>
        <p:spPr>
          <a:xfrm>
            <a:off x="3608280" y="2165400"/>
            <a:ext cx="13176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 indent="9216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ехнологии  проведения  независимой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2600" indent="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ценки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902" name="object 17"/>
          <p:cNvGrpSpPr/>
          <p:nvPr/>
        </p:nvGrpSpPr>
        <p:grpSpPr>
          <a:xfrm>
            <a:off x="4703760" y="3632040"/>
            <a:ext cx="2328840" cy="1754280"/>
            <a:chOff x="4703760" y="3632040"/>
            <a:chExt cx="2328840" cy="1754280"/>
          </a:xfrm>
        </p:grpSpPr>
        <p:sp>
          <p:nvSpPr>
            <p:cNvPr id="903" name="object 18"/>
            <p:cNvSpPr/>
            <p:nvPr/>
          </p:nvSpPr>
          <p:spPr>
            <a:xfrm>
              <a:off x="4703760" y="3632040"/>
              <a:ext cx="2328840" cy="1754280"/>
            </a:xfrm>
            <a:custGeom>
              <a:avLst/>
              <a:gdLst>
                <a:gd name="textAreaLeft" fmla="*/ 0 w 2328840"/>
                <a:gd name="textAreaRight" fmla="*/ 2329200 w 2328840"/>
                <a:gd name="textAreaTop" fmla="*/ 0 h 1754280"/>
                <a:gd name="textAreaBottom" fmla="*/ 1754640 h 1754280"/>
              </a:gdLst>
              <a:ahLst/>
              <a:rect l="textAreaLeft" t="textAreaTop" r="textAreaRight" b="textAreaBottom"/>
              <a:pathLst>
                <a:path w="2304415" h="1728470">
                  <a:moveTo>
                    <a:pt x="1440180" y="0"/>
                  </a:moveTo>
                  <a:lnTo>
                    <a:pt x="0" y="0"/>
                  </a:lnTo>
                  <a:lnTo>
                    <a:pt x="0" y="1728190"/>
                  </a:lnTo>
                  <a:lnTo>
                    <a:pt x="1440180" y="1728190"/>
                  </a:lnTo>
                  <a:lnTo>
                    <a:pt x="2304288" y="864108"/>
                  </a:lnTo>
                  <a:lnTo>
                    <a:pt x="1440180" y="0"/>
                  </a:lnTo>
                  <a:close/>
                </a:path>
              </a:pathLst>
            </a:custGeom>
            <a:solidFill>
              <a:srgbClr val="1737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4" name="object 19"/>
            <p:cNvSpPr/>
            <p:nvPr/>
          </p:nvSpPr>
          <p:spPr>
            <a:xfrm>
              <a:off x="4703760" y="3632040"/>
              <a:ext cx="2328840" cy="1754280"/>
            </a:xfrm>
            <a:custGeom>
              <a:avLst/>
              <a:gdLst>
                <a:gd name="textAreaLeft" fmla="*/ 0 w 2328840"/>
                <a:gd name="textAreaRight" fmla="*/ 2329200 w 2328840"/>
                <a:gd name="textAreaTop" fmla="*/ 0 h 1754280"/>
                <a:gd name="textAreaBottom" fmla="*/ 1754640 h 1754280"/>
              </a:gdLst>
              <a:ahLst/>
              <a:rect l="textAreaLeft" t="textAreaTop" r="textAreaRight" b="textAreaBottom"/>
              <a:pathLst>
                <a:path w="2304415" h="1728470">
                  <a:moveTo>
                    <a:pt x="0" y="0"/>
                  </a:moveTo>
                  <a:lnTo>
                    <a:pt x="1440180" y="0"/>
                  </a:lnTo>
                  <a:lnTo>
                    <a:pt x="2304288" y="864108"/>
                  </a:lnTo>
                  <a:lnTo>
                    <a:pt x="1440180" y="1728190"/>
                  </a:lnTo>
                  <a:lnTo>
                    <a:pt x="0" y="172819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385d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905" name="object 20"/>
          <p:cNvSpPr/>
          <p:nvPr/>
        </p:nvSpPr>
        <p:spPr>
          <a:xfrm>
            <a:off x="4994280" y="3659040"/>
            <a:ext cx="1320840" cy="16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 indent="9216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ехнологии  независимой  оценки при  проверке и  обработке  результатов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906" name="object 21"/>
          <p:cNvGrpSpPr/>
          <p:nvPr/>
        </p:nvGrpSpPr>
        <p:grpSpPr>
          <a:xfrm>
            <a:off x="6575400" y="2031840"/>
            <a:ext cx="2330640" cy="1754280"/>
            <a:chOff x="6575400" y="2031840"/>
            <a:chExt cx="2330640" cy="1754280"/>
          </a:xfrm>
        </p:grpSpPr>
        <p:sp>
          <p:nvSpPr>
            <p:cNvPr id="907" name="object 22"/>
            <p:cNvSpPr/>
            <p:nvPr/>
          </p:nvSpPr>
          <p:spPr>
            <a:xfrm>
              <a:off x="6575400" y="2031840"/>
              <a:ext cx="2330640" cy="1754280"/>
            </a:xfrm>
            <a:custGeom>
              <a:avLst/>
              <a:gdLst>
                <a:gd name="textAreaLeft" fmla="*/ 0 w 2330640"/>
                <a:gd name="textAreaRight" fmla="*/ 2331000 w 2330640"/>
                <a:gd name="textAreaTop" fmla="*/ 0 h 1754280"/>
                <a:gd name="textAreaBottom" fmla="*/ 1754640 h 1754280"/>
              </a:gdLst>
              <a:ahLst/>
              <a:rect l="textAreaLeft" t="textAreaTop" r="textAreaRight" b="textAreaBottom"/>
              <a:pathLst>
                <a:path w="2304415" h="1728470">
                  <a:moveTo>
                    <a:pt x="1440179" y="0"/>
                  </a:moveTo>
                  <a:lnTo>
                    <a:pt x="0" y="0"/>
                  </a:lnTo>
                  <a:lnTo>
                    <a:pt x="0" y="1728215"/>
                  </a:lnTo>
                  <a:lnTo>
                    <a:pt x="1440179" y="1728215"/>
                  </a:lnTo>
                  <a:lnTo>
                    <a:pt x="2304288" y="864107"/>
                  </a:lnTo>
                  <a:lnTo>
                    <a:pt x="1440179" y="0"/>
                  </a:lnTo>
                  <a:close/>
                </a:path>
              </a:pathLst>
            </a:custGeom>
            <a:solidFill>
              <a:srgbClr val="1737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8" name="object 23"/>
            <p:cNvSpPr/>
            <p:nvPr/>
          </p:nvSpPr>
          <p:spPr>
            <a:xfrm>
              <a:off x="6575400" y="2031840"/>
              <a:ext cx="2330640" cy="1754280"/>
            </a:xfrm>
            <a:custGeom>
              <a:avLst/>
              <a:gdLst>
                <a:gd name="textAreaLeft" fmla="*/ 0 w 2330640"/>
                <a:gd name="textAreaRight" fmla="*/ 2331000 w 2330640"/>
                <a:gd name="textAreaTop" fmla="*/ 0 h 1754280"/>
                <a:gd name="textAreaBottom" fmla="*/ 1754640 h 1754280"/>
              </a:gdLst>
              <a:ahLst/>
              <a:rect l="textAreaLeft" t="textAreaTop" r="textAreaRight" b="textAreaBottom"/>
              <a:pathLst>
                <a:path w="2304415" h="1728470">
                  <a:moveTo>
                    <a:pt x="0" y="0"/>
                  </a:moveTo>
                  <a:lnTo>
                    <a:pt x="1440179" y="0"/>
                  </a:lnTo>
                  <a:lnTo>
                    <a:pt x="2304288" y="864107"/>
                  </a:lnTo>
                  <a:lnTo>
                    <a:pt x="1440179" y="1728215"/>
                  </a:lnTo>
                  <a:lnTo>
                    <a:pt x="0" y="172821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385d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909" name="object 24"/>
          <p:cNvSpPr/>
          <p:nvPr/>
        </p:nvSpPr>
        <p:spPr>
          <a:xfrm>
            <a:off x="6675480" y="2195640"/>
            <a:ext cx="169848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92240"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равнение с  результатами  региона,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92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униципалитета,  город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0" name="Нижний колонтитул 3"/>
          <p:cNvSpPr/>
          <p:nvPr/>
        </p:nvSpPr>
        <p:spPr>
          <a:xfrm>
            <a:off x="609480" y="6248520"/>
            <a:ext cx="794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Управление образования Администрации Талицкого городского округа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1" name="Номер слайда 2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408E-EDAA-4B53-8872-0112016C5600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Рисунок 5" descr=""/>
          <p:cNvPicPr/>
          <p:nvPr/>
        </p:nvPicPr>
        <p:blipFill>
          <a:blip r:embed="rId1"/>
          <a:stretch/>
        </p:blipFill>
        <p:spPr>
          <a:xfrm>
            <a:off x="252360" y="44280"/>
            <a:ext cx="720720" cy="1047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58560" y="44280"/>
            <a:ext cx="7507080" cy="11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Управление образования Администрации Талицкого городского округа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611280" y="1557000"/>
            <a:ext cx="8153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здравляем с Годом педагог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 наставника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5" name="Рисунок 1" descr=""/>
          <p:cNvPicPr/>
          <p:nvPr/>
        </p:nvPicPr>
        <p:blipFill>
          <a:blip r:embed="rId2"/>
          <a:stretch/>
        </p:blipFill>
        <p:spPr>
          <a:xfrm>
            <a:off x="1908000" y="1663560"/>
            <a:ext cx="5040360" cy="3060720"/>
          </a:xfrm>
          <a:prstGeom prst="rect">
            <a:avLst/>
          </a:prstGeom>
          <a:ln w="0">
            <a:noFill/>
          </a:ln>
        </p:spPr>
      </p:pic>
      <p:sp>
        <p:nvSpPr>
          <p:cNvPr id="916" name="Номер слайда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044B-D9D0-4346-AE16-E247F2998309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Рисунок 5" descr=""/>
          <p:cNvPicPr/>
          <p:nvPr/>
        </p:nvPicPr>
        <p:blipFill>
          <a:blip r:embed="rId1"/>
          <a:stretch/>
        </p:blipFill>
        <p:spPr>
          <a:xfrm>
            <a:off x="252360" y="11592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6fc6"/>
                </a:solidFill>
                <a:latin typeface="Calibri"/>
              </a:rPr>
              <a:t>Совершенствование государственной  политики в сфере образования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395280" y="1699920"/>
            <a:ext cx="8569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Номер слайда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23E4-518E-4434-8A58-462C6FE913A5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Нижний колонтитул 4"/>
          <p:cNvSpPr/>
          <p:nvPr/>
        </p:nvSpPr>
        <p:spPr>
          <a:xfrm>
            <a:off x="609480" y="6248520"/>
            <a:ext cx="7131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Управление образования Администрации Талицкого городского округа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2" name="object 5"/>
          <p:cNvSpPr/>
          <p:nvPr/>
        </p:nvSpPr>
        <p:spPr>
          <a:xfrm>
            <a:off x="755640" y="3657600"/>
            <a:ext cx="820908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560" bIns="0" anchor="t">
            <a:spAutoFit/>
          </a:bodyPr>
          <a:p>
            <a:pPr marL="9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marL="9360" algn="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83" name="object 3" descr=""/>
          <p:cNvPicPr/>
          <p:nvPr/>
        </p:nvPicPr>
        <p:blipFill>
          <a:blip r:embed="rId2"/>
          <a:stretch/>
        </p:blipFill>
        <p:spPr>
          <a:xfrm>
            <a:off x="6929280" y="1522440"/>
            <a:ext cx="1486080" cy="1989000"/>
          </a:xfrm>
          <a:prstGeom prst="rect">
            <a:avLst/>
          </a:prstGeom>
          <a:ln w="0">
            <a:noFill/>
          </a:ln>
        </p:spPr>
      </p:pic>
      <p:sp>
        <p:nvSpPr>
          <p:cNvPr id="684" name="TextBox 1"/>
          <p:cNvSpPr/>
          <p:nvPr/>
        </p:nvSpPr>
        <p:spPr>
          <a:xfrm>
            <a:off x="946080" y="3119400"/>
            <a:ext cx="7278840" cy="25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Успешное будущее человека зависит от качественного образования и  разностороннего развития. Такие возможности нужно обеспечить  повсеместно, в любом регионе нашей страны»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01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Президент Российской Федерации В.В. Путин,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01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заседание Совета по стратегическому развитию и нацпроектам (15 декабря 2022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68320" y="619200"/>
            <a:ext cx="757728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9360" bIns="0" anchor="ctr">
            <a:noAutofit/>
          </a:bodyPr>
          <a:p>
            <a:pPr marL="9360" indent="0" algn="ctr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6fc6"/>
                </a:solidFill>
                <a:latin typeface="Tw Cen MT"/>
              </a:rPr>
              <a:t>Единое содержание образования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686" name="object 4"/>
          <p:cNvGrpSpPr/>
          <p:nvPr/>
        </p:nvGrpSpPr>
        <p:grpSpPr>
          <a:xfrm>
            <a:off x="214200" y="2071800"/>
            <a:ext cx="7989840" cy="3794040"/>
            <a:chOff x="214200" y="2071800"/>
            <a:chExt cx="7989840" cy="3794040"/>
          </a:xfrm>
        </p:grpSpPr>
        <p:sp>
          <p:nvSpPr>
            <p:cNvPr id="687" name="object 5"/>
            <p:cNvSpPr/>
            <p:nvPr/>
          </p:nvSpPr>
          <p:spPr>
            <a:xfrm>
              <a:off x="859320" y="2071800"/>
              <a:ext cx="7344720" cy="3794040"/>
            </a:xfrm>
            <a:custGeom>
              <a:avLst/>
              <a:gdLst>
                <a:gd name="textAreaLeft" fmla="*/ 0 w 7344720"/>
                <a:gd name="textAreaRight" fmla="*/ 7344720 w 7344720"/>
                <a:gd name="textAreaTop" fmla="*/ 0 h 3794040"/>
                <a:gd name="textAreaBottom" fmla="*/ 3794400 h 3794040"/>
              </a:gdLst>
              <a:ahLst/>
              <a:rect l="textAreaLeft" t="textAreaTop" r="textAreaRight" b="textAreaBottom"/>
              <a:pathLst>
                <a:path w="9781540" h="5059680">
                  <a:moveTo>
                    <a:pt x="7251191" y="0"/>
                  </a:moveTo>
                  <a:lnTo>
                    <a:pt x="7251191" y="1264920"/>
                  </a:lnTo>
                  <a:lnTo>
                    <a:pt x="0" y="1264920"/>
                  </a:lnTo>
                  <a:lnTo>
                    <a:pt x="0" y="3794760"/>
                  </a:lnTo>
                  <a:lnTo>
                    <a:pt x="7251191" y="3794760"/>
                  </a:lnTo>
                  <a:lnTo>
                    <a:pt x="7251191" y="5059680"/>
                  </a:lnTo>
                  <a:lnTo>
                    <a:pt x="9781032" y="2529840"/>
                  </a:lnTo>
                  <a:lnTo>
                    <a:pt x="7251191" y="0"/>
                  </a:lnTo>
                  <a:close/>
                </a:path>
              </a:pathLst>
            </a:custGeom>
            <a:solidFill>
              <a:srgbClr val="cae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88" name="object 6"/>
            <p:cNvSpPr/>
            <p:nvPr/>
          </p:nvSpPr>
          <p:spPr>
            <a:xfrm>
              <a:off x="214200" y="3178080"/>
              <a:ext cx="2256480" cy="1518120"/>
            </a:xfrm>
            <a:custGeom>
              <a:avLst/>
              <a:gdLst>
                <a:gd name="textAreaLeft" fmla="*/ 0 w 2256480"/>
                <a:gd name="textAreaRight" fmla="*/ 2256480 w 2256480"/>
                <a:gd name="textAreaTop" fmla="*/ 0 h 1518120"/>
                <a:gd name="textAreaBottom" fmla="*/ 1518480 h 1518120"/>
              </a:gdLst>
              <a:ahLst/>
              <a:rect l="textAreaLeft" t="textAreaTop" r="textAreaRight" b="textAreaBottom"/>
              <a:pathLst>
                <a:path w="3005454" h="2024379">
                  <a:moveTo>
                    <a:pt x="2668016" y="0"/>
                  </a:moveTo>
                  <a:lnTo>
                    <a:pt x="337312" y="0"/>
                  </a:lnTo>
                  <a:lnTo>
                    <a:pt x="291539" y="3078"/>
                  </a:lnTo>
                  <a:lnTo>
                    <a:pt x="247639" y="12047"/>
                  </a:lnTo>
                  <a:lnTo>
                    <a:pt x="206013" y="26505"/>
                  </a:lnTo>
                  <a:lnTo>
                    <a:pt x="167062" y="46049"/>
                  </a:lnTo>
                  <a:lnTo>
                    <a:pt x="131188" y="70278"/>
                  </a:lnTo>
                  <a:lnTo>
                    <a:pt x="98794" y="98790"/>
                  </a:lnTo>
                  <a:lnTo>
                    <a:pt x="70281" y="131183"/>
                  </a:lnTo>
                  <a:lnTo>
                    <a:pt x="46052" y="167056"/>
                  </a:lnTo>
                  <a:lnTo>
                    <a:pt x="26507" y="206007"/>
                  </a:lnTo>
                  <a:lnTo>
                    <a:pt x="12048" y="247635"/>
                  </a:lnTo>
                  <a:lnTo>
                    <a:pt x="3079" y="291537"/>
                  </a:lnTo>
                  <a:lnTo>
                    <a:pt x="0" y="337312"/>
                  </a:lnTo>
                  <a:lnTo>
                    <a:pt x="0" y="1686559"/>
                  </a:lnTo>
                  <a:lnTo>
                    <a:pt x="3079" y="1732334"/>
                  </a:lnTo>
                  <a:lnTo>
                    <a:pt x="12048" y="1776236"/>
                  </a:lnTo>
                  <a:lnTo>
                    <a:pt x="26507" y="1817864"/>
                  </a:lnTo>
                  <a:lnTo>
                    <a:pt x="46052" y="1856815"/>
                  </a:lnTo>
                  <a:lnTo>
                    <a:pt x="70281" y="1892688"/>
                  </a:lnTo>
                  <a:lnTo>
                    <a:pt x="98794" y="1925081"/>
                  </a:lnTo>
                  <a:lnTo>
                    <a:pt x="131188" y="1953593"/>
                  </a:lnTo>
                  <a:lnTo>
                    <a:pt x="167062" y="1977822"/>
                  </a:lnTo>
                  <a:lnTo>
                    <a:pt x="206013" y="1997366"/>
                  </a:lnTo>
                  <a:lnTo>
                    <a:pt x="247639" y="2011824"/>
                  </a:lnTo>
                  <a:lnTo>
                    <a:pt x="291539" y="2020793"/>
                  </a:lnTo>
                  <a:lnTo>
                    <a:pt x="337312" y="2023871"/>
                  </a:lnTo>
                  <a:lnTo>
                    <a:pt x="2668016" y="2023871"/>
                  </a:lnTo>
                  <a:lnTo>
                    <a:pt x="2713790" y="2020793"/>
                  </a:lnTo>
                  <a:lnTo>
                    <a:pt x="2757692" y="2011824"/>
                  </a:lnTo>
                  <a:lnTo>
                    <a:pt x="2799320" y="1997366"/>
                  </a:lnTo>
                  <a:lnTo>
                    <a:pt x="2838271" y="1977822"/>
                  </a:lnTo>
                  <a:lnTo>
                    <a:pt x="2874144" y="1953593"/>
                  </a:lnTo>
                  <a:lnTo>
                    <a:pt x="2906537" y="1925081"/>
                  </a:lnTo>
                  <a:lnTo>
                    <a:pt x="2935049" y="1892688"/>
                  </a:lnTo>
                  <a:lnTo>
                    <a:pt x="2959278" y="1856815"/>
                  </a:lnTo>
                  <a:lnTo>
                    <a:pt x="2978822" y="1817864"/>
                  </a:lnTo>
                  <a:lnTo>
                    <a:pt x="2993280" y="1776236"/>
                  </a:lnTo>
                  <a:lnTo>
                    <a:pt x="3002249" y="1732334"/>
                  </a:lnTo>
                  <a:lnTo>
                    <a:pt x="3005328" y="1686559"/>
                  </a:lnTo>
                  <a:lnTo>
                    <a:pt x="3005328" y="337312"/>
                  </a:lnTo>
                  <a:lnTo>
                    <a:pt x="3002249" y="291537"/>
                  </a:lnTo>
                  <a:lnTo>
                    <a:pt x="2993280" y="247635"/>
                  </a:lnTo>
                  <a:lnTo>
                    <a:pt x="2978822" y="206007"/>
                  </a:lnTo>
                  <a:lnTo>
                    <a:pt x="2959278" y="167056"/>
                  </a:lnTo>
                  <a:lnTo>
                    <a:pt x="2935049" y="131183"/>
                  </a:lnTo>
                  <a:lnTo>
                    <a:pt x="2906537" y="98790"/>
                  </a:lnTo>
                  <a:lnTo>
                    <a:pt x="2874144" y="70278"/>
                  </a:lnTo>
                  <a:lnTo>
                    <a:pt x="2838271" y="46049"/>
                  </a:lnTo>
                  <a:lnTo>
                    <a:pt x="2799320" y="26505"/>
                  </a:lnTo>
                  <a:lnTo>
                    <a:pt x="2757692" y="12047"/>
                  </a:lnTo>
                  <a:lnTo>
                    <a:pt x="2713790" y="3078"/>
                  </a:lnTo>
                  <a:lnTo>
                    <a:pt x="2668016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89" name="object 7"/>
            <p:cNvSpPr/>
            <p:nvPr/>
          </p:nvSpPr>
          <p:spPr>
            <a:xfrm>
              <a:off x="214200" y="3178080"/>
              <a:ext cx="2256480" cy="1518120"/>
            </a:xfrm>
            <a:custGeom>
              <a:avLst/>
              <a:gdLst>
                <a:gd name="textAreaLeft" fmla="*/ 0 w 2256480"/>
                <a:gd name="textAreaRight" fmla="*/ 2256480 w 2256480"/>
                <a:gd name="textAreaTop" fmla="*/ 0 h 1518120"/>
                <a:gd name="textAreaBottom" fmla="*/ 1518480 h 1518120"/>
              </a:gdLst>
              <a:ahLst/>
              <a:rect l="textAreaLeft" t="textAreaTop" r="textAreaRight" b="textAreaBottom"/>
              <a:pathLst>
                <a:path w="3005454" h="2024379">
                  <a:moveTo>
                    <a:pt x="0" y="337312"/>
                  </a:moveTo>
                  <a:lnTo>
                    <a:pt x="3079" y="291537"/>
                  </a:lnTo>
                  <a:lnTo>
                    <a:pt x="12048" y="247635"/>
                  </a:lnTo>
                  <a:lnTo>
                    <a:pt x="26507" y="206007"/>
                  </a:lnTo>
                  <a:lnTo>
                    <a:pt x="46052" y="167056"/>
                  </a:lnTo>
                  <a:lnTo>
                    <a:pt x="70281" y="131183"/>
                  </a:lnTo>
                  <a:lnTo>
                    <a:pt x="98794" y="98790"/>
                  </a:lnTo>
                  <a:lnTo>
                    <a:pt x="131188" y="70278"/>
                  </a:lnTo>
                  <a:lnTo>
                    <a:pt x="167062" y="46049"/>
                  </a:lnTo>
                  <a:lnTo>
                    <a:pt x="206013" y="26505"/>
                  </a:lnTo>
                  <a:lnTo>
                    <a:pt x="247639" y="12047"/>
                  </a:lnTo>
                  <a:lnTo>
                    <a:pt x="291539" y="3078"/>
                  </a:lnTo>
                  <a:lnTo>
                    <a:pt x="337312" y="0"/>
                  </a:lnTo>
                  <a:lnTo>
                    <a:pt x="2668016" y="0"/>
                  </a:lnTo>
                  <a:lnTo>
                    <a:pt x="2713790" y="3078"/>
                  </a:lnTo>
                  <a:lnTo>
                    <a:pt x="2757692" y="12047"/>
                  </a:lnTo>
                  <a:lnTo>
                    <a:pt x="2799320" y="26505"/>
                  </a:lnTo>
                  <a:lnTo>
                    <a:pt x="2838271" y="46049"/>
                  </a:lnTo>
                  <a:lnTo>
                    <a:pt x="2874144" y="70278"/>
                  </a:lnTo>
                  <a:lnTo>
                    <a:pt x="2906537" y="98790"/>
                  </a:lnTo>
                  <a:lnTo>
                    <a:pt x="2935049" y="131183"/>
                  </a:lnTo>
                  <a:lnTo>
                    <a:pt x="2959278" y="167056"/>
                  </a:lnTo>
                  <a:lnTo>
                    <a:pt x="2978822" y="206007"/>
                  </a:lnTo>
                  <a:lnTo>
                    <a:pt x="2993280" y="247635"/>
                  </a:lnTo>
                  <a:lnTo>
                    <a:pt x="3002249" y="291537"/>
                  </a:lnTo>
                  <a:lnTo>
                    <a:pt x="3005328" y="337312"/>
                  </a:lnTo>
                  <a:lnTo>
                    <a:pt x="3005328" y="1686559"/>
                  </a:lnTo>
                  <a:lnTo>
                    <a:pt x="3002249" y="1732334"/>
                  </a:lnTo>
                  <a:lnTo>
                    <a:pt x="2993280" y="1776236"/>
                  </a:lnTo>
                  <a:lnTo>
                    <a:pt x="2978822" y="1817864"/>
                  </a:lnTo>
                  <a:lnTo>
                    <a:pt x="2959278" y="1856815"/>
                  </a:lnTo>
                  <a:lnTo>
                    <a:pt x="2935049" y="1892688"/>
                  </a:lnTo>
                  <a:lnTo>
                    <a:pt x="2906537" y="1925081"/>
                  </a:lnTo>
                  <a:lnTo>
                    <a:pt x="2874144" y="1953593"/>
                  </a:lnTo>
                  <a:lnTo>
                    <a:pt x="2838271" y="1977822"/>
                  </a:lnTo>
                  <a:lnTo>
                    <a:pt x="2799320" y="1997366"/>
                  </a:lnTo>
                  <a:lnTo>
                    <a:pt x="2757692" y="2011824"/>
                  </a:lnTo>
                  <a:lnTo>
                    <a:pt x="2713790" y="2020793"/>
                  </a:lnTo>
                  <a:lnTo>
                    <a:pt x="2668016" y="2023871"/>
                  </a:lnTo>
                  <a:lnTo>
                    <a:pt x="337312" y="2023871"/>
                  </a:lnTo>
                  <a:lnTo>
                    <a:pt x="291539" y="2020793"/>
                  </a:lnTo>
                  <a:lnTo>
                    <a:pt x="247639" y="2011824"/>
                  </a:lnTo>
                  <a:lnTo>
                    <a:pt x="206013" y="1997366"/>
                  </a:lnTo>
                  <a:lnTo>
                    <a:pt x="167062" y="1977822"/>
                  </a:lnTo>
                  <a:lnTo>
                    <a:pt x="131188" y="1953593"/>
                  </a:lnTo>
                  <a:lnTo>
                    <a:pt x="98794" y="1925081"/>
                  </a:lnTo>
                  <a:lnTo>
                    <a:pt x="70281" y="1892688"/>
                  </a:lnTo>
                  <a:lnTo>
                    <a:pt x="46052" y="1856815"/>
                  </a:lnTo>
                  <a:lnTo>
                    <a:pt x="26507" y="1817864"/>
                  </a:lnTo>
                  <a:lnTo>
                    <a:pt x="12048" y="1776236"/>
                  </a:lnTo>
                  <a:lnTo>
                    <a:pt x="3079" y="1732334"/>
                  </a:lnTo>
                  <a:lnTo>
                    <a:pt x="0" y="1686559"/>
                  </a:lnTo>
                  <a:lnTo>
                    <a:pt x="0" y="337312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690" name="object 8"/>
          <p:cNvSpPr/>
          <p:nvPr/>
        </p:nvSpPr>
        <p:spPr>
          <a:xfrm>
            <a:off x="398520" y="3456000"/>
            <a:ext cx="190656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4280" bIns="0" anchor="t">
            <a:spAutoFit/>
          </a:bodyPr>
          <a:p>
            <a:pPr marL="7920" indent="-4680" algn="ctr">
              <a:lnSpc>
                <a:spcPct val="8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едеральные  государственные  образовательные  стандарты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691" name="object 9"/>
          <p:cNvGrpSpPr/>
          <p:nvPr/>
        </p:nvGrpSpPr>
        <p:grpSpPr>
          <a:xfrm>
            <a:off x="2568600" y="3200400"/>
            <a:ext cx="2043000" cy="1536840"/>
            <a:chOff x="2568600" y="3200400"/>
            <a:chExt cx="2043000" cy="1536840"/>
          </a:xfrm>
        </p:grpSpPr>
        <p:sp>
          <p:nvSpPr>
            <p:cNvPr id="692" name="object 10"/>
            <p:cNvSpPr/>
            <p:nvPr/>
          </p:nvSpPr>
          <p:spPr>
            <a:xfrm>
              <a:off x="2568600" y="3200400"/>
              <a:ext cx="2043000" cy="1536840"/>
            </a:xfrm>
            <a:custGeom>
              <a:avLst/>
              <a:gdLst>
                <a:gd name="textAreaLeft" fmla="*/ 0 w 2043000"/>
                <a:gd name="textAreaRight" fmla="*/ 2043360 w 2043000"/>
                <a:gd name="textAreaTop" fmla="*/ 0 h 1536840"/>
                <a:gd name="textAreaBottom" fmla="*/ 1537200 h 1536840"/>
              </a:gdLst>
              <a:ahLst/>
              <a:rect l="textAreaLeft" t="textAreaTop" r="textAreaRight" b="textAreaBottom"/>
              <a:pathLst>
                <a:path w="2697479" h="2024379">
                  <a:moveTo>
                    <a:pt x="2360167" y="0"/>
                  </a:moveTo>
                  <a:lnTo>
                    <a:pt x="337311" y="0"/>
                  </a:lnTo>
                  <a:lnTo>
                    <a:pt x="291537" y="3078"/>
                  </a:lnTo>
                  <a:lnTo>
                    <a:pt x="247635" y="12047"/>
                  </a:lnTo>
                  <a:lnTo>
                    <a:pt x="206007" y="26505"/>
                  </a:lnTo>
                  <a:lnTo>
                    <a:pt x="167056" y="46049"/>
                  </a:lnTo>
                  <a:lnTo>
                    <a:pt x="131183" y="70278"/>
                  </a:lnTo>
                  <a:lnTo>
                    <a:pt x="98790" y="98790"/>
                  </a:lnTo>
                  <a:lnTo>
                    <a:pt x="70278" y="131183"/>
                  </a:lnTo>
                  <a:lnTo>
                    <a:pt x="46049" y="167056"/>
                  </a:lnTo>
                  <a:lnTo>
                    <a:pt x="26505" y="206007"/>
                  </a:lnTo>
                  <a:lnTo>
                    <a:pt x="12047" y="247635"/>
                  </a:lnTo>
                  <a:lnTo>
                    <a:pt x="3078" y="291537"/>
                  </a:lnTo>
                  <a:lnTo>
                    <a:pt x="0" y="337312"/>
                  </a:lnTo>
                  <a:lnTo>
                    <a:pt x="0" y="1686560"/>
                  </a:lnTo>
                  <a:lnTo>
                    <a:pt x="3078" y="1732334"/>
                  </a:lnTo>
                  <a:lnTo>
                    <a:pt x="12047" y="1776236"/>
                  </a:lnTo>
                  <a:lnTo>
                    <a:pt x="26505" y="1817864"/>
                  </a:lnTo>
                  <a:lnTo>
                    <a:pt x="46049" y="1856815"/>
                  </a:lnTo>
                  <a:lnTo>
                    <a:pt x="70278" y="1892688"/>
                  </a:lnTo>
                  <a:lnTo>
                    <a:pt x="98790" y="1925081"/>
                  </a:lnTo>
                  <a:lnTo>
                    <a:pt x="131183" y="1953593"/>
                  </a:lnTo>
                  <a:lnTo>
                    <a:pt x="167056" y="1977822"/>
                  </a:lnTo>
                  <a:lnTo>
                    <a:pt x="206007" y="1997366"/>
                  </a:lnTo>
                  <a:lnTo>
                    <a:pt x="247635" y="2011824"/>
                  </a:lnTo>
                  <a:lnTo>
                    <a:pt x="291537" y="2020793"/>
                  </a:lnTo>
                  <a:lnTo>
                    <a:pt x="337311" y="2023872"/>
                  </a:lnTo>
                  <a:lnTo>
                    <a:pt x="2360167" y="2023872"/>
                  </a:lnTo>
                  <a:lnTo>
                    <a:pt x="2405942" y="2020793"/>
                  </a:lnTo>
                  <a:lnTo>
                    <a:pt x="2449844" y="2011824"/>
                  </a:lnTo>
                  <a:lnTo>
                    <a:pt x="2491472" y="1997366"/>
                  </a:lnTo>
                  <a:lnTo>
                    <a:pt x="2530423" y="1977822"/>
                  </a:lnTo>
                  <a:lnTo>
                    <a:pt x="2566296" y="1953593"/>
                  </a:lnTo>
                  <a:lnTo>
                    <a:pt x="2598689" y="1925081"/>
                  </a:lnTo>
                  <a:lnTo>
                    <a:pt x="2627201" y="1892688"/>
                  </a:lnTo>
                  <a:lnTo>
                    <a:pt x="2651430" y="1856815"/>
                  </a:lnTo>
                  <a:lnTo>
                    <a:pt x="2670974" y="1817864"/>
                  </a:lnTo>
                  <a:lnTo>
                    <a:pt x="2685432" y="1776236"/>
                  </a:lnTo>
                  <a:lnTo>
                    <a:pt x="2694401" y="1732334"/>
                  </a:lnTo>
                  <a:lnTo>
                    <a:pt x="2697479" y="1686560"/>
                  </a:lnTo>
                  <a:lnTo>
                    <a:pt x="2697479" y="337312"/>
                  </a:lnTo>
                  <a:lnTo>
                    <a:pt x="2694401" y="291537"/>
                  </a:lnTo>
                  <a:lnTo>
                    <a:pt x="2685432" y="247635"/>
                  </a:lnTo>
                  <a:lnTo>
                    <a:pt x="2670974" y="206007"/>
                  </a:lnTo>
                  <a:lnTo>
                    <a:pt x="2651430" y="167056"/>
                  </a:lnTo>
                  <a:lnTo>
                    <a:pt x="2627201" y="131183"/>
                  </a:lnTo>
                  <a:lnTo>
                    <a:pt x="2598689" y="98790"/>
                  </a:lnTo>
                  <a:lnTo>
                    <a:pt x="2566296" y="70278"/>
                  </a:lnTo>
                  <a:lnTo>
                    <a:pt x="2530423" y="46049"/>
                  </a:lnTo>
                  <a:lnTo>
                    <a:pt x="2491472" y="26505"/>
                  </a:lnTo>
                  <a:lnTo>
                    <a:pt x="2449844" y="12047"/>
                  </a:lnTo>
                  <a:lnTo>
                    <a:pt x="2405942" y="3078"/>
                  </a:lnTo>
                  <a:lnTo>
                    <a:pt x="2360167" y="0"/>
                  </a:lnTo>
                  <a:close/>
                </a:path>
              </a:pathLst>
            </a:custGeom>
            <a:solidFill>
              <a:srgbClr val="00a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3" name="object 11"/>
            <p:cNvSpPr/>
            <p:nvPr/>
          </p:nvSpPr>
          <p:spPr>
            <a:xfrm>
              <a:off x="2568600" y="3200400"/>
              <a:ext cx="2043000" cy="1536840"/>
            </a:xfrm>
            <a:custGeom>
              <a:avLst/>
              <a:gdLst>
                <a:gd name="textAreaLeft" fmla="*/ 0 w 2043000"/>
                <a:gd name="textAreaRight" fmla="*/ 2043360 w 2043000"/>
                <a:gd name="textAreaTop" fmla="*/ 0 h 1536840"/>
                <a:gd name="textAreaBottom" fmla="*/ 1537200 h 1536840"/>
              </a:gdLst>
              <a:ahLst/>
              <a:rect l="textAreaLeft" t="textAreaTop" r="textAreaRight" b="textAreaBottom"/>
              <a:pathLst>
                <a:path w="2697479" h="2024379">
                  <a:moveTo>
                    <a:pt x="0" y="337312"/>
                  </a:moveTo>
                  <a:lnTo>
                    <a:pt x="3078" y="291537"/>
                  </a:lnTo>
                  <a:lnTo>
                    <a:pt x="12047" y="247635"/>
                  </a:lnTo>
                  <a:lnTo>
                    <a:pt x="26505" y="206007"/>
                  </a:lnTo>
                  <a:lnTo>
                    <a:pt x="46049" y="167056"/>
                  </a:lnTo>
                  <a:lnTo>
                    <a:pt x="70278" y="131183"/>
                  </a:lnTo>
                  <a:lnTo>
                    <a:pt x="98790" y="98790"/>
                  </a:lnTo>
                  <a:lnTo>
                    <a:pt x="131183" y="70278"/>
                  </a:lnTo>
                  <a:lnTo>
                    <a:pt x="167056" y="46049"/>
                  </a:lnTo>
                  <a:lnTo>
                    <a:pt x="206007" y="26505"/>
                  </a:lnTo>
                  <a:lnTo>
                    <a:pt x="247635" y="12047"/>
                  </a:lnTo>
                  <a:lnTo>
                    <a:pt x="291537" y="3078"/>
                  </a:lnTo>
                  <a:lnTo>
                    <a:pt x="337311" y="0"/>
                  </a:lnTo>
                  <a:lnTo>
                    <a:pt x="2360167" y="0"/>
                  </a:lnTo>
                  <a:lnTo>
                    <a:pt x="2405942" y="3078"/>
                  </a:lnTo>
                  <a:lnTo>
                    <a:pt x="2449844" y="12047"/>
                  </a:lnTo>
                  <a:lnTo>
                    <a:pt x="2491472" y="26505"/>
                  </a:lnTo>
                  <a:lnTo>
                    <a:pt x="2530423" y="46049"/>
                  </a:lnTo>
                  <a:lnTo>
                    <a:pt x="2566296" y="70278"/>
                  </a:lnTo>
                  <a:lnTo>
                    <a:pt x="2598689" y="98790"/>
                  </a:lnTo>
                  <a:lnTo>
                    <a:pt x="2627201" y="131183"/>
                  </a:lnTo>
                  <a:lnTo>
                    <a:pt x="2651430" y="167056"/>
                  </a:lnTo>
                  <a:lnTo>
                    <a:pt x="2670974" y="206007"/>
                  </a:lnTo>
                  <a:lnTo>
                    <a:pt x="2685432" y="247635"/>
                  </a:lnTo>
                  <a:lnTo>
                    <a:pt x="2694401" y="291537"/>
                  </a:lnTo>
                  <a:lnTo>
                    <a:pt x="2697479" y="337312"/>
                  </a:lnTo>
                  <a:lnTo>
                    <a:pt x="2697479" y="1686560"/>
                  </a:lnTo>
                  <a:lnTo>
                    <a:pt x="2694401" y="1732334"/>
                  </a:lnTo>
                  <a:lnTo>
                    <a:pt x="2685432" y="1776236"/>
                  </a:lnTo>
                  <a:lnTo>
                    <a:pt x="2670974" y="1817864"/>
                  </a:lnTo>
                  <a:lnTo>
                    <a:pt x="2651430" y="1856815"/>
                  </a:lnTo>
                  <a:lnTo>
                    <a:pt x="2627201" y="1892688"/>
                  </a:lnTo>
                  <a:lnTo>
                    <a:pt x="2598689" y="1925081"/>
                  </a:lnTo>
                  <a:lnTo>
                    <a:pt x="2566296" y="1953593"/>
                  </a:lnTo>
                  <a:lnTo>
                    <a:pt x="2530423" y="1977822"/>
                  </a:lnTo>
                  <a:lnTo>
                    <a:pt x="2491472" y="1997366"/>
                  </a:lnTo>
                  <a:lnTo>
                    <a:pt x="2449844" y="2011824"/>
                  </a:lnTo>
                  <a:lnTo>
                    <a:pt x="2405942" y="2020793"/>
                  </a:lnTo>
                  <a:lnTo>
                    <a:pt x="2360167" y="2023872"/>
                  </a:lnTo>
                  <a:lnTo>
                    <a:pt x="337311" y="2023872"/>
                  </a:lnTo>
                  <a:lnTo>
                    <a:pt x="291537" y="2020793"/>
                  </a:lnTo>
                  <a:lnTo>
                    <a:pt x="247635" y="2011824"/>
                  </a:lnTo>
                  <a:lnTo>
                    <a:pt x="206007" y="1997366"/>
                  </a:lnTo>
                  <a:lnTo>
                    <a:pt x="167056" y="1977822"/>
                  </a:lnTo>
                  <a:lnTo>
                    <a:pt x="131183" y="1953593"/>
                  </a:lnTo>
                  <a:lnTo>
                    <a:pt x="98790" y="1925081"/>
                  </a:lnTo>
                  <a:lnTo>
                    <a:pt x="70278" y="1892688"/>
                  </a:lnTo>
                  <a:lnTo>
                    <a:pt x="46049" y="1856815"/>
                  </a:lnTo>
                  <a:lnTo>
                    <a:pt x="26505" y="1817864"/>
                  </a:lnTo>
                  <a:lnTo>
                    <a:pt x="12047" y="1776236"/>
                  </a:lnTo>
                  <a:lnTo>
                    <a:pt x="3078" y="1732334"/>
                  </a:lnTo>
                  <a:lnTo>
                    <a:pt x="0" y="1686560"/>
                  </a:lnTo>
                  <a:lnTo>
                    <a:pt x="0" y="337312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694" name="object 12"/>
          <p:cNvSpPr/>
          <p:nvPr/>
        </p:nvSpPr>
        <p:spPr>
          <a:xfrm>
            <a:off x="2573280" y="3327480"/>
            <a:ext cx="2027160" cy="12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t">
            <a:spAutoFit/>
          </a:bodyPr>
          <a:p>
            <a:pPr marL="38160" algn="ctr">
              <a:lnSpc>
                <a:spcPts val="1874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деральные  основные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8160"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образов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8160" algn="ctr">
              <a:lnSpc>
                <a:spcPts val="18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льные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8160"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695" name="object 13"/>
          <p:cNvGrpSpPr/>
          <p:nvPr/>
        </p:nvGrpSpPr>
        <p:grpSpPr>
          <a:xfrm>
            <a:off x="4692600" y="3200400"/>
            <a:ext cx="2041560" cy="1536840"/>
            <a:chOff x="4692600" y="3200400"/>
            <a:chExt cx="2041560" cy="1536840"/>
          </a:xfrm>
        </p:grpSpPr>
        <p:sp>
          <p:nvSpPr>
            <p:cNvPr id="696" name="object 14"/>
            <p:cNvSpPr/>
            <p:nvPr/>
          </p:nvSpPr>
          <p:spPr>
            <a:xfrm>
              <a:off x="4692600" y="3200400"/>
              <a:ext cx="2041560" cy="1536840"/>
            </a:xfrm>
            <a:custGeom>
              <a:avLst/>
              <a:gdLst>
                <a:gd name="textAreaLeft" fmla="*/ 0 w 2041560"/>
                <a:gd name="textAreaRight" fmla="*/ 2041920 w 2041560"/>
                <a:gd name="textAreaTop" fmla="*/ 0 h 1536840"/>
                <a:gd name="textAreaBottom" fmla="*/ 1537200 h 1536840"/>
              </a:gdLst>
              <a:ahLst/>
              <a:rect l="textAreaLeft" t="textAreaTop" r="textAreaRight" b="textAreaBottom"/>
              <a:pathLst>
                <a:path w="2697479" h="2024379">
                  <a:moveTo>
                    <a:pt x="2360167" y="0"/>
                  </a:moveTo>
                  <a:lnTo>
                    <a:pt x="337312" y="0"/>
                  </a:lnTo>
                  <a:lnTo>
                    <a:pt x="291537" y="3078"/>
                  </a:lnTo>
                  <a:lnTo>
                    <a:pt x="247635" y="12047"/>
                  </a:lnTo>
                  <a:lnTo>
                    <a:pt x="206007" y="26505"/>
                  </a:lnTo>
                  <a:lnTo>
                    <a:pt x="167056" y="46049"/>
                  </a:lnTo>
                  <a:lnTo>
                    <a:pt x="131183" y="70278"/>
                  </a:lnTo>
                  <a:lnTo>
                    <a:pt x="98790" y="98790"/>
                  </a:lnTo>
                  <a:lnTo>
                    <a:pt x="70278" y="131183"/>
                  </a:lnTo>
                  <a:lnTo>
                    <a:pt x="46049" y="167056"/>
                  </a:lnTo>
                  <a:lnTo>
                    <a:pt x="26505" y="206007"/>
                  </a:lnTo>
                  <a:lnTo>
                    <a:pt x="12047" y="247635"/>
                  </a:lnTo>
                  <a:lnTo>
                    <a:pt x="3078" y="291537"/>
                  </a:lnTo>
                  <a:lnTo>
                    <a:pt x="0" y="337312"/>
                  </a:lnTo>
                  <a:lnTo>
                    <a:pt x="0" y="1686560"/>
                  </a:lnTo>
                  <a:lnTo>
                    <a:pt x="3078" y="1732334"/>
                  </a:lnTo>
                  <a:lnTo>
                    <a:pt x="12047" y="1776236"/>
                  </a:lnTo>
                  <a:lnTo>
                    <a:pt x="26505" y="1817864"/>
                  </a:lnTo>
                  <a:lnTo>
                    <a:pt x="46049" y="1856815"/>
                  </a:lnTo>
                  <a:lnTo>
                    <a:pt x="70278" y="1892688"/>
                  </a:lnTo>
                  <a:lnTo>
                    <a:pt x="98790" y="1925081"/>
                  </a:lnTo>
                  <a:lnTo>
                    <a:pt x="131183" y="1953593"/>
                  </a:lnTo>
                  <a:lnTo>
                    <a:pt x="167056" y="1977822"/>
                  </a:lnTo>
                  <a:lnTo>
                    <a:pt x="206007" y="1997366"/>
                  </a:lnTo>
                  <a:lnTo>
                    <a:pt x="247635" y="2011824"/>
                  </a:lnTo>
                  <a:lnTo>
                    <a:pt x="291537" y="2020793"/>
                  </a:lnTo>
                  <a:lnTo>
                    <a:pt x="337312" y="2023872"/>
                  </a:lnTo>
                  <a:lnTo>
                    <a:pt x="2360167" y="2023872"/>
                  </a:lnTo>
                  <a:lnTo>
                    <a:pt x="2405942" y="2020793"/>
                  </a:lnTo>
                  <a:lnTo>
                    <a:pt x="2449844" y="2011824"/>
                  </a:lnTo>
                  <a:lnTo>
                    <a:pt x="2491472" y="1997366"/>
                  </a:lnTo>
                  <a:lnTo>
                    <a:pt x="2530423" y="1977822"/>
                  </a:lnTo>
                  <a:lnTo>
                    <a:pt x="2566296" y="1953593"/>
                  </a:lnTo>
                  <a:lnTo>
                    <a:pt x="2598689" y="1925081"/>
                  </a:lnTo>
                  <a:lnTo>
                    <a:pt x="2627201" y="1892688"/>
                  </a:lnTo>
                  <a:lnTo>
                    <a:pt x="2651430" y="1856815"/>
                  </a:lnTo>
                  <a:lnTo>
                    <a:pt x="2670974" y="1817864"/>
                  </a:lnTo>
                  <a:lnTo>
                    <a:pt x="2685432" y="1776236"/>
                  </a:lnTo>
                  <a:lnTo>
                    <a:pt x="2694401" y="1732334"/>
                  </a:lnTo>
                  <a:lnTo>
                    <a:pt x="2697480" y="1686560"/>
                  </a:lnTo>
                  <a:lnTo>
                    <a:pt x="2697480" y="337312"/>
                  </a:lnTo>
                  <a:lnTo>
                    <a:pt x="2694401" y="291537"/>
                  </a:lnTo>
                  <a:lnTo>
                    <a:pt x="2685432" y="247635"/>
                  </a:lnTo>
                  <a:lnTo>
                    <a:pt x="2670974" y="206007"/>
                  </a:lnTo>
                  <a:lnTo>
                    <a:pt x="2651430" y="167056"/>
                  </a:lnTo>
                  <a:lnTo>
                    <a:pt x="2627201" y="131183"/>
                  </a:lnTo>
                  <a:lnTo>
                    <a:pt x="2598689" y="98790"/>
                  </a:lnTo>
                  <a:lnTo>
                    <a:pt x="2566296" y="70278"/>
                  </a:lnTo>
                  <a:lnTo>
                    <a:pt x="2530423" y="46049"/>
                  </a:lnTo>
                  <a:lnTo>
                    <a:pt x="2491472" y="26505"/>
                  </a:lnTo>
                  <a:lnTo>
                    <a:pt x="2449844" y="12047"/>
                  </a:lnTo>
                  <a:lnTo>
                    <a:pt x="2405942" y="3078"/>
                  </a:lnTo>
                  <a:lnTo>
                    <a:pt x="2360167" y="0"/>
                  </a:lnTo>
                  <a:close/>
                </a:path>
              </a:pathLst>
            </a:custGeom>
            <a:solidFill>
              <a:srgbClr val="00a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7" name="object 15"/>
            <p:cNvSpPr/>
            <p:nvPr/>
          </p:nvSpPr>
          <p:spPr>
            <a:xfrm>
              <a:off x="4692600" y="3200400"/>
              <a:ext cx="2041560" cy="1536840"/>
            </a:xfrm>
            <a:custGeom>
              <a:avLst/>
              <a:gdLst>
                <a:gd name="textAreaLeft" fmla="*/ 0 w 2041560"/>
                <a:gd name="textAreaRight" fmla="*/ 2041920 w 2041560"/>
                <a:gd name="textAreaTop" fmla="*/ 0 h 1536840"/>
                <a:gd name="textAreaBottom" fmla="*/ 1537200 h 1536840"/>
              </a:gdLst>
              <a:ahLst/>
              <a:rect l="textAreaLeft" t="textAreaTop" r="textAreaRight" b="textAreaBottom"/>
              <a:pathLst>
                <a:path w="2697479" h="2024379">
                  <a:moveTo>
                    <a:pt x="0" y="337312"/>
                  </a:moveTo>
                  <a:lnTo>
                    <a:pt x="3078" y="291537"/>
                  </a:lnTo>
                  <a:lnTo>
                    <a:pt x="12047" y="247635"/>
                  </a:lnTo>
                  <a:lnTo>
                    <a:pt x="26505" y="206007"/>
                  </a:lnTo>
                  <a:lnTo>
                    <a:pt x="46049" y="167056"/>
                  </a:lnTo>
                  <a:lnTo>
                    <a:pt x="70278" y="131183"/>
                  </a:lnTo>
                  <a:lnTo>
                    <a:pt x="98790" y="98790"/>
                  </a:lnTo>
                  <a:lnTo>
                    <a:pt x="131183" y="70278"/>
                  </a:lnTo>
                  <a:lnTo>
                    <a:pt x="167056" y="46049"/>
                  </a:lnTo>
                  <a:lnTo>
                    <a:pt x="206007" y="26505"/>
                  </a:lnTo>
                  <a:lnTo>
                    <a:pt x="247635" y="12047"/>
                  </a:lnTo>
                  <a:lnTo>
                    <a:pt x="291537" y="3078"/>
                  </a:lnTo>
                  <a:lnTo>
                    <a:pt x="337312" y="0"/>
                  </a:lnTo>
                  <a:lnTo>
                    <a:pt x="2360167" y="0"/>
                  </a:lnTo>
                  <a:lnTo>
                    <a:pt x="2405942" y="3078"/>
                  </a:lnTo>
                  <a:lnTo>
                    <a:pt x="2449844" y="12047"/>
                  </a:lnTo>
                  <a:lnTo>
                    <a:pt x="2491472" y="26505"/>
                  </a:lnTo>
                  <a:lnTo>
                    <a:pt x="2530423" y="46049"/>
                  </a:lnTo>
                  <a:lnTo>
                    <a:pt x="2566296" y="70278"/>
                  </a:lnTo>
                  <a:lnTo>
                    <a:pt x="2598689" y="98790"/>
                  </a:lnTo>
                  <a:lnTo>
                    <a:pt x="2627201" y="131183"/>
                  </a:lnTo>
                  <a:lnTo>
                    <a:pt x="2651430" y="167056"/>
                  </a:lnTo>
                  <a:lnTo>
                    <a:pt x="2670974" y="206007"/>
                  </a:lnTo>
                  <a:lnTo>
                    <a:pt x="2685432" y="247635"/>
                  </a:lnTo>
                  <a:lnTo>
                    <a:pt x="2694401" y="291537"/>
                  </a:lnTo>
                  <a:lnTo>
                    <a:pt x="2697480" y="337312"/>
                  </a:lnTo>
                  <a:lnTo>
                    <a:pt x="2697480" y="1686560"/>
                  </a:lnTo>
                  <a:lnTo>
                    <a:pt x="2694401" y="1732334"/>
                  </a:lnTo>
                  <a:lnTo>
                    <a:pt x="2685432" y="1776236"/>
                  </a:lnTo>
                  <a:lnTo>
                    <a:pt x="2670974" y="1817864"/>
                  </a:lnTo>
                  <a:lnTo>
                    <a:pt x="2651430" y="1856815"/>
                  </a:lnTo>
                  <a:lnTo>
                    <a:pt x="2627201" y="1892688"/>
                  </a:lnTo>
                  <a:lnTo>
                    <a:pt x="2598689" y="1925081"/>
                  </a:lnTo>
                  <a:lnTo>
                    <a:pt x="2566296" y="1953593"/>
                  </a:lnTo>
                  <a:lnTo>
                    <a:pt x="2530423" y="1977822"/>
                  </a:lnTo>
                  <a:lnTo>
                    <a:pt x="2491472" y="1997366"/>
                  </a:lnTo>
                  <a:lnTo>
                    <a:pt x="2449844" y="2011824"/>
                  </a:lnTo>
                  <a:lnTo>
                    <a:pt x="2405942" y="2020793"/>
                  </a:lnTo>
                  <a:lnTo>
                    <a:pt x="2360167" y="2023872"/>
                  </a:lnTo>
                  <a:lnTo>
                    <a:pt x="337312" y="2023872"/>
                  </a:lnTo>
                  <a:lnTo>
                    <a:pt x="291537" y="2020793"/>
                  </a:lnTo>
                  <a:lnTo>
                    <a:pt x="247635" y="2011824"/>
                  </a:lnTo>
                  <a:lnTo>
                    <a:pt x="206007" y="1997366"/>
                  </a:lnTo>
                  <a:lnTo>
                    <a:pt x="167056" y="1977822"/>
                  </a:lnTo>
                  <a:lnTo>
                    <a:pt x="131183" y="1953593"/>
                  </a:lnTo>
                  <a:lnTo>
                    <a:pt x="98790" y="1925081"/>
                  </a:lnTo>
                  <a:lnTo>
                    <a:pt x="70278" y="1892688"/>
                  </a:lnTo>
                  <a:lnTo>
                    <a:pt x="46049" y="1856815"/>
                  </a:lnTo>
                  <a:lnTo>
                    <a:pt x="26505" y="1817864"/>
                  </a:lnTo>
                  <a:lnTo>
                    <a:pt x="12047" y="1776236"/>
                  </a:lnTo>
                  <a:lnTo>
                    <a:pt x="3078" y="1732334"/>
                  </a:lnTo>
                  <a:lnTo>
                    <a:pt x="0" y="1686560"/>
                  </a:lnTo>
                  <a:lnTo>
                    <a:pt x="0" y="337312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698" name="object 16"/>
          <p:cNvSpPr/>
          <p:nvPr/>
        </p:nvSpPr>
        <p:spPr>
          <a:xfrm>
            <a:off x="5111640" y="3446640"/>
            <a:ext cx="1209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 marL="9360" indent="-2880" algn="ctr">
              <a:lnSpc>
                <a:spcPct val="86000"/>
              </a:lnSpc>
              <a:spcBef>
                <a:spcPts val="3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ая  линейка  учебников  (ФПУ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699" name="object 17"/>
          <p:cNvGrpSpPr/>
          <p:nvPr/>
        </p:nvGrpSpPr>
        <p:grpSpPr>
          <a:xfrm>
            <a:off x="6816600" y="3178080"/>
            <a:ext cx="2219400" cy="1559160"/>
            <a:chOff x="6816600" y="3178080"/>
            <a:chExt cx="2219400" cy="1559160"/>
          </a:xfrm>
        </p:grpSpPr>
        <p:sp>
          <p:nvSpPr>
            <p:cNvPr id="700" name="object 18"/>
            <p:cNvSpPr/>
            <p:nvPr/>
          </p:nvSpPr>
          <p:spPr>
            <a:xfrm>
              <a:off x="6816600" y="3178080"/>
              <a:ext cx="2219400" cy="1559160"/>
            </a:xfrm>
            <a:custGeom>
              <a:avLst/>
              <a:gdLst>
                <a:gd name="textAreaLeft" fmla="*/ 0 w 2219400"/>
                <a:gd name="textAreaRight" fmla="*/ 2219760 w 2219400"/>
                <a:gd name="textAreaTop" fmla="*/ 0 h 1559160"/>
                <a:gd name="textAreaBottom" fmla="*/ 1559520 h 1559160"/>
              </a:gdLst>
              <a:ahLst/>
              <a:rect l="textAreaLeft" t="textAreaTop" r="textAreaRight" b="textAreaBottom"/>
              <a:pathLst>
                <a:path w="2697479" h="2024379">
                  <a:moveTo>
                    <a:pt x="2360168" y="0"/>
                  </a:moveTo>
                  <a:lnTo>
                    <a:pt x="337312" y="0"/>
                  </a:lnTo>
                  <a:lnTo>
                    <a:pt x="291537" y="3078"/>
                  </a:lnTo>
                  <a:lnTo>
                    <a:pt x="247635" y="12047"/>
                  </a:lnTo>
                  <a:lnTo>
                    <a:pt x="206007" y="26505"/>
                  </a:lnTo>
                  <a:lnTo>
                    <a:pt x="167056" y="46049"/>
                  </a:lnTo>
                  <a:lnTo>
                    <a:pt x="131183" y="70278"/>
                  </a:lnTo>
                  <a:lnTo>
                    <a:pt x="98790" y="98790"/>
                  </a:lnTo>
                  <a:lnTo>
                    <a:pt x="70278" y="131183"/>
                  </a:lnTo>
                  <a:lnTo>
                    <a:pt x="46049" y="167056"/>
                  </a:lnTo>
                  <a:lnTo>
                    <a:pt x="26505" y="206007"/>
                  </a:lnTo>
                  <a:lnTo>
                    <a:pt x="12047" y="247635"/>
                  </a:lnTo>
                  <a:lnTo>
                    <a:pt x="3078" y="291537"/>
                  </a:lnTo>
                  <a:lnTo>
                    <a:pt x="0" y="337312"/>
                  </a:lnTo>
                  <a:lnTo>
                    <a:pt x="0" y="1686560"/>
                  </a:lnTo>
                  <a:lnTo>
                    <a:pt x="3078" y="1732334"/>
                  </a:lnTo>
                  <a:lnTo>
                    <a:pt x="12047" y="1776236"/>
                  </a:lnTo>
                  <a:lnTo>
                    <a:pt x="26505" y="1817864"/>
                  </a:lnTo>
                  <a:lnTo>
                    <a:pt x="46049" y="1856815"/>
                  </a:lnTo>
                  <a:lnTo>
                    <a:pt x="70278" y="1892688"/>
                  </a:lnTo>
                  <a:lnTo>
                    <a:pt x="98790" y="1925081"/>
                  </a:lnTo>
                  <a:lnTo>
                    <a:pt x="131183" y="1953593"/>
                  </a:lnTo>
                  <a:lnTo>
                    <a:pt x="167056" y="1977822"/>
                  </a:lnTo>
                  <a:lnTo>
                    <a:pt x="206007" y="1997366"/>
                  </a:lnTo>
                  <a:lnTo>
                    <a:pt x="247635" y="2011824"/>
                  </a:lnTo>
                  <a:lnTo>
                    <a:pt x="291537" y="2020793"/>
                  </a:lnTo>
                  <a:lnTo>
                    <a:pt x="337312" y="2023872"/>
                  </a:lnTo>
                  <a:lnTo>
                    <a:pt x="2360168" y="2023872"/>
                  </a:lnTo>
                  <a:lnTo>
                    <a:pt x="2405942" y="2020793"/>
                  </a:lnTo>
                  <a:lnTo>
                    <a:pt x="2449844" y="2011824"/>
                  </a:lnTo>
                  <a:lnTo>
                    <a:pt x="2491472" y="1997366"/>
                  </a:lnTo>
                  <a:lnTo>
                    <a:pt x="2530423" y="1977822"/>
                  </a:lnTo>
                  <a:lnTo>
                    <a:pt x="2566296" y="1953593"/>
                  </a:lnTo>
                  <a:lnTo>
                    <a:pt x="2598689" y="1925081"/>
                  </a:lnTo>
                  <a:lnTo>
                    <a:pt x="2627201" y="1892688"/>
                  </a:lnTo>
                  <a:lnTo>
                    <a:pt x="2651430" y="1856815"/>
                  </a:lnTo>
                  <a:lnTo>
                    <a:pt x="2670974" y="1817864"/>
                  </a:lnTo>
                  <a:lnTo>
                    <a:pt x="2685432" y="1776236"/>
                  </a:lnTo>
                  <a:lnTo>
                    <a:pt x="2694401" y="1732334"/>
                  </a:lnTo>
                  <a:lnTo>
                    <a:pt x="2697479" y="1686560"/>
                  </a:lnTo>
                  <a:lnTo>
                    <a:pt x="2697479" y="337312"/>
                  </a:lnTo>
                  <a:lnTo>
                    <a:pt x="2694401" y="291537"/>
                  </a:lnTo>
                  <a:lnTo>
                    <a:pt x="2685432" y="247635"/>
                  </a:lnTo>
                  <a:lnTo>
                    <a:pt x="2670974" y="206007"/>
                  </a:lnTo>
                  <a:lnTo>
                    <a:pt x="2651430" y="167056"/>
                  </a:lnTo>
                  <a:lnTo>
                    <a:pt x="2627201" y="131183"/>
                  </a:lnTo>
                  <a:lnTo>
                    <a:pt x="2598689" y="98790"/>
                  </a:lnTo>
                  <a:lnTo>
                    <a:pt x="2566296" y="70278"/>
                  </a:lnTo>
                  <a:lnTo>
                    <a:pt x="2530423" y="46049"/>
                  </a:lnTo>
                  <a:lnTo>
                    <a:pt x="2491472" y="26505"/>
                  </a:lnTo>
                  <a:lnTo>
                    <a:pt x="2449844" y="12047"/>
                  </a:lnTo>
                  <a:lnTo>
                    <a:pt x="2405942" y="3078"/>
                  </a:lnTo>
                  <a:lnTo>
                    <a:pt x="2360168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1" name="object 19"/>
            <p:cNvSpPr/>
            <p:nvPr/>
          </p:nvSpPr>
          <p:spPr>
            <a:xfrm>
              <a:off x="6816600" y="3178080"/>
              <a:ext cx="2219400" cy="1559160"/>
            </a:xfrm>
            <a:custGeom>
              <a:avLst/>
              <a:gdLst>
                <a:gd name="textAreaLeft" fmla="*/ 0 w 2219400"/>
                <a:gd name="textAreaRight" fmla="*/ 2219760 w 2219400"/>
                <a:gd name="textAreaTop" fmla="*/ 0 h 1559160"/>
                <a:gd name="textAreaBottom" fmla="*/ 1559520 h 1559160"/>
              </a:gdLst>
              <a:ahLst/>
              <a:rect l="textAreaLeft" t="textAreaTop" r="textAreaRight" b="textAreaBottom"/>
              <a:pathLst>
                <a:path w="2697479" h="2024379">
                  <a:moveTo>
                    <a:pt x="0" y="337312"/>
                  </a:moveTo>
                  <a:lnTo>
                    <a:pt x="3078" y="291537"/>
                  </a:lnTo>
                  <a:lnTo>
                    <a:pt x="12047" y="247635"/>
                  </a:lnTo>
                  <a:lnTo>
                    <a:pt x="26505" y="206007"/>
                  </a:lnTo>
                  <a:lnTo>
                    <a:pt x="46049" y="167056"/>
                  </a:lnTo>
                  <a:lnTo>
                    <a:pt x="70278" y="131183"/>
                  </a:lnTo>
                  <a:lnTo>
                    <a:pt x="98790" y="98790"/>
                  </a:lnTo>
                  <a:lnTo>
                    <a:pt x="131183" y="70278"/>
                  </a:lnTo>
                  <a:lnTo>
                    <a:pt x="167056" y="46049"/>
                  </a:lnTo>
                  <a:lnTo>
                    <a:pt x="206007" y="26505"/>
                  </a:lnTo>
                  <a:lnTo>
                    <a:pt x="247635" y="12047"/>
                  </a:lnTo>
                  <a:lnTo>
                    <a:pt x="291537" y="3078"/>
                  </a:lnTo>
                  <a:lnTo>
                    <a:pt x="337312" y="0"/>
                  </a:lnTo>
                  <a:lnTo>
                    <a:pt x="2360168" y="0"/>
                  </a:lnTo>
                  <a:lnTo>
                    <a:pt x="2405942" y="3078"/>
                  </a:lnTo>
                  <a:lnTo>
                    <a:pt x="2449844" y="12047"/>
                  </a:lnTo>
                  <a:lnTo>
                    <a:pt x="2491472" y="26505"/>
                  </a:lnTo>
                  <a:lnTo>
                    <a:pt x="2530423" y="46049"/>
                  </a:lnTo>
                  <a:lnTo>
                    <a:pt x="2566296" y="70278"/>
                  </a:lnTo>
                  <a:lnTo>
                    <a:pt x="2598689" y="98790"/>
                  </a:lnTo>
                  <a:lnTo>
                    <a:pt x="2627201" y="131183"/>
                  </a:lnTo>
                  <a:lnTo>
                    <a:pt x="2651430" y="167056"/>
                  </a:lnTo>
                  <a:lnTo>
                    <a:pt x="2670974" y="206007"/>
                  </a:lnTo>
                  <a:lnTo>
                    <a:pt x="2685432" y="247635"/>
                  </a:lnTo>
                  <a:lnTo>
                    <a:pt x="2694401" y="291537"/>
                  </a:lnTo>
                  <a:lnTo>
                    <a:pt x="2697479" y="337312"/>
                  </a:lnTo>
                  <a:lnTo>
                    <a:pt x="2697479" y="1686560"/>
                  </a:lnTo>
                  <a:lnTo>
                    <a:pt x="2694401" y="1732334"/>
                  </a:lnTo>
                  <a:lnTo>
                    <a:pt x="2685432" y="1776236"/>
                  </a:lnTo>
                  <a:lnTo>
                    <a:pt x="2670974" y="1817864"/>
                  </a:lnTo>
                  <a:lnTo>
                    <a:pt x="2651430" y="1856815"/>
                  </a:lnTo>
                  <a:lnTo>
                    <a:pt x="2627201" y="1892688"/>
                  </a:lnTo>
                  <a:lnTo>
                    <a:pt x="2598689" y="1925081"/>
                  </a:lnTo>
                  <a:lnTo>
                    <a:pt x="2566296" y="1953593"/>
                  </a:lnTo>
                  <a:lnTo>
                    <a:pt x="2530423" y="1977822"/>
                  </a:lnTo>
                  <a:lnTo>
                    <a:pt x="2491472" y="1997366"/>
                  </a:lnTo>
                  <a:lnTo>
                    <a:pt x="2449844" y="2011824"/>
                  </a:lnTo>
                  <a:lnTo>
                    <a:pt x="2405942" y="2020793"/>
                  </a:lnTo>
                  <a:lnTo>
                    <a:pt x="2360168" y="2023872"/>
                  </a:lnTo>
                  <a:lnTo>
                    <a:pt x="337312" y="2023872"/>
                  </a:lnTo>
                  <a:lnTo>
                    <a:pt x="291537" y="2020793"/>
                  </a:lnTo>
                  <a:lnTo>
                    <a:pt x="247635" y="2011824"/>
                  </a:lnTo>
                  <a:lnTo>
                    <a:pt x="206007" y="1997366"/>
                  </a:lnTo>
                  <a:lnTo>
                    <a:pt x="167056" y="1977822"/>
                  </a:lnTo>
                  <a:lnTo>
                    <a:pt x="131183" y="1953593"/>
                  </a:lnTo>
                  <a:lnTo>
                    <a:pt x="98790" y="1925081"/>
                  </a:lnTo>
                  <a:lnTo>
                    <a:pt x="70278" y="1892688"/>
                  </a:lnTo>
                  <a:lnTo>
                    <a:pt x="46049" y="1856815"/>
                  </a:lnTo>
                  <a:lnTo>
                    <a:pt x="26505" y="1817864"/>
                  </a:lnTo>
                  <a:lnTo>
                    <a:pt x="12047" y="1776236"/>
                  </a:lnTo>
                  <a:lnTo>
                    <a:pt x="3078" y="1732334"/>
                  </a:lnTo>
                  <a:lnTo>
                    <a:pt x="0" y="1686560"/>
                  </a:lnTo>
                  <a:lnTo>
                    <a:pt x="0" y="337312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702" name="object 20"/>
          <p:cNvSpPr/>
          <p:nvPr/>
        </p:nvSpPr>
        <p:spPr>
          <a:xfrm>
            <a:off x="6948360" y="3327480"/>
            <a:ext cx="1900440" cy="12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 marL="246240" indent="79200" algn="ctr">
              <a:lnSpc>
                <a:spcPct val="86000"/>
              </a:lnSpc>
              <a:spcBef>
                <a:spcPts val="3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ая  система  оценки  качеств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46240" indent="79200" algn="ctr">
              <a:lnSpc>
                <a:spcPct val="86000"/>
              </a:lnSpc>
              <a:spcBef>
                <a:spcPts val="3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3" name="Прямоугольник 21"/>
          <p:cNvSpPr/>
          <p:nvPr/>
        </p:nvSpPr>
        <p:spPr>
          <a:xfrm>
            <a:off x="868320" y="5983200"/>
            <a:ext cx="757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w Cen MT"/>
              </a:rPr>
              <a:t>Управление образования Администрации Талицкого городского округа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4" name="Номер слайда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722E-49BA-4C47-A2F3-829044B996DA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Рисунок 5" descr=""/>
          <p:cNvPicPr/>
          <p:nvPr/>
        </p:nvPicPr>
        <p:blipFill>
          <a:blip r:embed="rId1"/>
          <a:stretch/>
        </p:blipFill>
        <p:spPr>
          <a:xfrm>
            <a:off x="252360" y="11592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771120" y="228600"/>
            <a:ext cx="7994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6fc6"/>
                </a:solidFill>
                <a:latin typeface="Calibri"/>
              </a:rPr>
              <a:t>Инструменты формирования единого образовательного  пространства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395280" y="1699920"/>
            <a:ext cx="8569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Номер слайда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ED64-029A-4772-8F66-CED68174AFE0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9" name="Нижний колонтитул 4"/>
          <p:cNvSpPr/>
          <p:nvPr/>
        </p:nvSpPr>
        <p:spPr>
          <a:xfrm>
            <a:off x="609480" y="6248520"/>
            <a:ext cx="7131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Управление образования Администрации Талицкого городского округа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10" name="object 5" descr=""/>
          <p:cNvPicPr/>
          <p:nvPr/>
        </p:nvPicPr>
        <p:blipFill>
          <a:blip r:embed="rId2"/>
          <a:stretch/>
        </p:blipFill>
        <p:spPr>
          <a:xfrm>
            <a:off x="771480" y="1755720"/>
            <a:ext cx="7836120" cy="4145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1" name="object 2"/>
          <p:cNvGrpSpPr/>
          <p:nvPr/>
        </p:nvGrpSpPr>
        <p:grpSpPr>
          <a:xfrm>
            <a:off x="4143240" y="1787400"/>
            <a:ext cx="4953240" cy="4056120"/>
            <a:chOff x="4143240" y="1787400"/>
            <a:chExt cx="4953240" cy="4056120"/>
          </a:xfrm>
        </p:grpSpPr>
        <p:pic>
          <p:nvPicPr>
            <p:cNvPr id="712" name="object 3" descr=""/>
            <p:cNvPicPr/>
            <p:nvPr/>
          </p:nvPicPr>
          <p:blipFill>
            <a:blip r:embed="rId1"/>
            <a:stretch/>
          </p:blipFill>
          <p:spPr>
            <a:xfrm>
              <a:off x="5849640" y="1787400"/>
              <a:ext cx="3246840" cy="405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object 4" descr=""/>
            <p:cNvPicPr/>
            <p:nvPr/>
          </p:nvPicPr>
          <p:blipFill>
            <a:blip r:embed="rId2"/>
            <a:stretch/>
          </p:blipFill>
          <p:spPr>
            <a:xfrm>
              <a:off x="4143240" y="3374640"/>
              <a:ext cx="258120" cy="2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object 5"/>
            <p:cNvSpPr/>
            <p:nvPr/>
          </p:nvSpPr>
          <p:spPr>
            <a:xfrm>
              <a:off x="4384440" y="3444480"/>
              <a:ext cx="706320" cy="45720"/>
            </a:xfrm>
            <a:custGeom>
              <a:avLst/>
              <a:gdLst>
                <a:gd name="textAreaLeft" fmla="*/ 0 w 706320"/>
                <a:gd name="textAreaRight" fmla="*/ 706680 w 70632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232659" h="190500">
                  <a:moveTo>
                    <a:pt x="2042032" y="0"/>
                  </a:moveTo>
                  <a:lnTo>
                    <a:pt x="2041829" y="76150"/>
                  </a:lnTo>
                  <a:lnTo>
                    <a:pt x="2060828" y="76200"/>
                  </a:lnTo>
                  <a:lnTo>
                    <a:pt x="2060702" y="114300"/>
                  </a:lnTo>
                  <a:lnTo>
                    <a:pt x="2041728" y="114300"/>
                  </a:lnTo>
                  <a:lnTo>
                    <a:pt x="2041525" y="190500"/>
                  </a:lnTo>
                  <a:lnTo>
                    <a:pt x="2194946" y="114300"/>
                  </a:lnTo>
                  <a:lnTo>
                    <a:pt x="2060702" y="114300"/>
                  </a:lnTo>
                  <a:lnTo>
                    <a:pt x="2195045" y="114250"/>
                  </a:lnTo>
                  <a:lnTo>
                    <a:pt x="2232279" y="95758"/>
                  </a:lnTo>
                  <a:lnTo>
                    <a:pt x="2042032" y="0"/>
                  </a:lnTo>
                  <a:close/>
                </a:path>
                <a:path w="2232659" h="190500">
                  <a:moveTo>
                    <a:pt x="2041829" y="76150"/>
                  </a:moveTo>
                  <a:lnTo>
                    <a:pt x="2041728" y="114250"/>
                  </a:lnTo>
                  <a:lnTo>
                    <a:pt x="2060702" y="114300"/>
                  </a:lnTo>
                  <a:lnTo>
                    <a:pt x="2060828" y="76200"/>
                  </a:lnTo>
                  <a:lnTo>
                    <a:pt x="2041829" y="76150"/>
                  </a:lnTo>
                  <a:close/>
                </a:path>
                <a:path w="2232659" h="190500">
                  <a:moveTo>
                    <a:pt x="0" y="70865"/>
                  </a:moveTo>
                  <a:lnTo>
                    <a:pt x="0" y="108965"/>
                  </a:lnTo>
                  <a:lnTo>
                    <a:pt x="2041728" y="114250"/>
                  </a:lnTo>
                  <a:lnTo>
                    <a:pt x="2041829" y="76150"/>
                  </a:lnTo>
                  <a:lnTo>
                    <a:pt x="0" y="708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402080" y="571320"/>
            <a:ext cx="4540320" cy="379080"/>
          </a:xfrm>
          <a:prstGeom prst="rect">
            <a:avLst/>
          </a:prstGeom>
          <a:noFill/>
          <a:ln w="0">
            <a:noFill/>
          </a:ln>
        </p:spPr>
        <p:txBody>
          <a:bodyPr lIns="0" rIns="0" tIns="9360" bIns="0" anchor="ctr">
            <a:noAutofit/>
          </a:bodyPr>
          <a:p>
            <a:pPr marL="9360" indent="0" algn="ctr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6fc6"/>
                </a:solidFill>
                <a:latin typeface="Tw Cen MT"/>
                <a:ea typeface="Arial"/>
              </a:rPr>
              <a:t>Идеальная школа</a:t>
            </a:r>
            <a:r>
              <a:rPr b="1" lang="ru-RU" sz="2400" spc="-1" strike="noStrike">
                <a:solidFill>
                  <a:srgbClr val="0f6fc6"/>
                </a:solidFill>
                <a:latin typeface="Calibri"/>
                <a:ea typeface="Arial"/>
              </a:rPr>
              <a:t> России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716" name="object 7"/>
          <p:cNvGrpSpPr/>
          <p:nvPr/>
        </p:nvGrpSpPr>
        <p:grpSpPr>
          <a:xfrm>
            <a:off x="311040" y="0"/>
            <a:ext cx="3832200" cy="6524640"/>
            <a:chOff x="311040" y="0"/>
            <a:chExt cx="3832200" cy="6524640"/>
          </a:xfrm>
        </p:grpSpPr>
        <p:pic>
          <p:nvPicPr>
            <p:cNvPr id="717" name="object 8" descr=""/>
            <p:cNvPicPr/>
            <p:nvPr/>
          </p:nvPicPr>
          <p:blipFill>
            <a:blip r:embed="rId3"/>
            <a:stretch/>
          </p:blipFill>
          <p:spPr>
            <a:xfrm>
              <a:off x="311040" y="0"/>
              <a:ext cx="3832200" cy="65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object 9"/>
            <p:cNvSpPr/>
            <p:nvPr/>
          </p:nvSpPr>
          <p:spPr>
            <a:xfrm>
              <a:off x="311040" y="0"/>
              <a:ext cx="3832200" cy="6524640"/>
            </a:xfrm>
            <a:custGeom>
              <a:avLst/>
              <a:gdLst>
                <a:gd name="textAreaLeft" fmla="*/ 0 w 3832200"/>
                <a:gd name="textAreaRight" fmla="*/ 3832560 w 3832200"/>
                <a:gd name="textAreaTop" fmla="*/ 0 h 6524640"/>
                <a:gd name="textAreaBottom" fmla="*/ 6525000 h 6524640"/>
              </a:gdLst>
              <a:ahLst/>
              <a:rect l="textAreaLeft" t="textAreaTop" r="textAreaRight" b="textAreaBottom"/>
              <a:pathLst>
                <a:path w="4191000" h="5689600">
                  <a:moveTo>
                    <a:pt x="0" y="307467"/>
                  </a:moveTo>
                  <a:lnTo>
                    <a:pt x="3333" y="262034"/>
                  </a:lnTo>
                  <a:lnTo>
                    <a:pt x="13017" y="218670"/>
                  </a:lnTo>
                  <a:lnTo>
                    <a:pt x="28576" y="177851"/>
                  </a:lnTo>
                  <a:lnTo>
                    <a:pt x="49533" y="140052"/>
                  </a:lnTo>
                  <a:lnTo>
                    <a:pt x="75414" y="105750"/>
                  </a:lnTo>
                  <a:lnTo>
                    <a:pt x="105743" y="75419"/>
                  </a:lnTo>
                  <a:lnTo>
                    <a:pt x="140043" y="49537"/>
                  </a:lnTo>
                  <a:lnTo>
                    <a:pt x="177840" y="28578"/>
                  </a:lnTo>
                  <a:lnTo>
                    <a:pt x="218658" y="13018"/>
                  </a:lnTo>
                  <a:lnTo>
                    <a:pt x="262021" y="3333"/>
                  </a:lnTo>
                  <a:lnTo>
                    <a:pt x="307454" y="0"/>
                  </a:lnTo>
                  <a:lnTo>
                    <a:pt x="3883533" y="0"/>
                  </a:lnTo>
                  <a:lnTo>
                    <a:pt x="3928965" y="3333"/>
                  </a:lnTo>
                  <a:lnTo>
                    <a:pt x="3972329" y="13018"/>
                  </a:lnTo>
                  <a:lnTo>
                    <a:pt x="4013148" y="28578"/>
                  </a:lnTo>
                  <a:lnTo>
                    <a:pt x="4050947" y="49537"/>
                  </a:lnTo>
                  <a:lnTo>
                    <a:pt x="4085249" y="75419"/>
                  </a:lnTo>
                  <a:lnTo>
                    <a:pt x="4115580" y="105750"/>
                  </a:lnTo>
                  <a:lnTo>
                    <a:pt x="4141462" y="140052"/>
                  </a:lnTo>
                  <a:lnTo>
                    <a:pt x="4162421" y="177851"/>
                  </a:lnTo>
                  <a:lnTo>
                    <a:pt x="4177981" y="218670"/>
                  </a:lnTo>
                  <a:lnTo>
                    <a:pt x="4187666" y="262034"/>
                  </a:lnTo>
                  <a:lnTo>
                    <a:pt x="4191000" y="307467"/>
                  </a:lnTo>
                  <a:lnTo>
                    <a:pt x="4191000" y="5381637"/>
                  </a:lnTo>
                  <a:lnTo>
                    <a:pt x="4187666" y="5427070"/>
                  </a:lnTo>
                  <a:lnTo>
                    <a:pt x="4177981" y="5470433"/>
                  </a:lnTo>
                  <a:lnTo>
                    <a:pt x="4162421" y="5511251"/>
                  </a:lnTo>
                  <a:lnTo>
                    <a:pt x="4141462" y="5549048"/>
                  </a:lnTo>
                  <a:lnTo>
                    <a:pt x="4115580" y="5583348"/>
                  </a:lnTo>
                  <a:lnTo>
                    <a:pt x="4085249" y="5613677"/>
                  </a:lnTo>
                  <a:lnTo>
                    <a:pt x="4050947" y="5639558"/>
                  </a:lnTo>
                  <a:lnTo>
                    <a:pt x="4013148" y="5660515"/>
                  </a:lnTo>
                  <a:lnTo>
                    <a:pt x="3972329" y="5676074"/>
                  </a:lnTo>
                  <a:lnTo>
                    <a:pt x="3928965" y="5685758"/>
                  </a:lnTo>
                  <a:lnTo>
                    <a:pt x="3883533" y="5689092"/>
                  </a:lnTo>
                  <a:lnTo>
                    <a:pt x="307454" y="5689092"/>
                  </a:lnTo>
                  <a:lnTo>
                    <a:pt x="262021" y="5685758"/>
                  </a:lnTo>
                  <a:lnTo>
                    <a:pt x="218658" y="5676074"/>
                  </a:lnTo>
                  <a:lnTo>
                    <a:pt x="177840" y="5660515"/>
                  </a:lnTo>
                  <a:lnTo>
                    <a:pt x="140043" y="5639558"/>
                  </a:lnTo>
                  <a:lnTo>
                    <a:pt x="105743" y="5613677"/>
                  </a:lnTo>
                  <a:lnTo>
                    <a:pt x="75414" y="5583348"/>
                  </a:lnTo>
                  <a:lnTo>
                    <a:pt x="49533" y="5549048"/>
                  </a:lnTo>
                  <a:lnTo>
                    <a:pt x="28576" y="5511251"/>
                  </a:lnTo>
                  <a:lnTo>
                    <a:pt x="13017" y="5470433"/>
                  </a:lnTo>
                  <a:lnTo>
                    <a:pt x="3333" y="5427070"/>
                  </a:lnTo>
                  <a:lnTo>
                    <a:pt x="0" y="5381637"/>
                  </a:lnTo>
                  <a:lnTo>
                    <a:pt x="0" y="307467"/>
                  </a:lnTo>
                  <a:close/>
                </a:path>
              </a:pathLst>
            </a:custGeom>
            <a:noFill/>
            <a:ln w="6120">
              <a:solidFill>
                <a:srgbClr val="3682f1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719" name="object 10"/>
          <p:cNvSpPr/>
          <p:nvPr/>
        </p:nvSpPr>
        <p:spPr>
          <a:xfrm>
            <a:off x="133200" y="2854440"/>
            <a:ext cx="177840" cy="1193760"/>
          </a:xfrm>
          <a:custGeom>
            <a:avLst/>
            <a:gdLst>
              <a:gd name="textAreaLeft" fmla="*/ 0 w 177840"/>
              <a:gd name="textAreaRight" fmla="*/ 178200 w 177840"/>
              <a:gd name="textAreaTop" fmla="*/ 0 h 1193760"/>
              <a:gd name="textAreaBottom" fmla="*/ 1194120 h 1193760"/>
            </a:gdLst>
            <a:ahLst/>
            <a:rect l="textAreaLeft" t="textAreaTop" r="textAreaRight" b="textAreaBottom"/>
            <a:pathLst>
              <a:path w="236854" h="1591945">
                <a:moveTo>
                  <a:pt x="186410" y="1446529"/>
                </a:moveTo>
                <a:lnTo>
                  <a:pt x="4229" y="1446529"/>
                </a:lnTo>
                <a:lnTo>
                  <a:pt x="4229" y="1591436"/>
                </a:lnTo>
                <a:lnTo>
                  <a:pt x="186410" y="1591436"/>
                </a:lnTo>
                <a:lnTo>
                  <a:pt x="186410" y="1554606"/>
                </a:lnTo>
                <a:lnTo>
                  <a:pt x="34797" y="1554606"/>
                </a:lnTo>
                <a:lnTo>
                  <a:pt x="34797" y="1483233"/>
                </a:lnTo>
                <a:lnTo>
                  <a:pt x="186410" y="1483233"/>
                </a:lnTo>
                <a:lnTo>
                  <a:pt x="186410" y="1446529"/>
                </a:lnTo>
                <a:close/>
              </a:path>
              <a:path w="236854" h="1591945">
                <a:moveTo>
                  <a:pt x="119672" y="1243456"/>
                </a:moveTo>
                <a:lnTo>
                  <a:pt x="79365" y="1252458"/>
                </a:lnTo>
                <a:lnTo>
                  <a:pt x="52607" y="1287271"/>
                </a:lnTo>
                <a:lnTo>
                  <a:pt x="51447" y="1298447"/>
                </a:lnTo>
                <a:lnTo>
                  <a:pt x="51447" y="1307210"/>
                </a:lnTo>
                <a:lnTo>
                  <a:pt x="53517" y="1315211"/>
                </a:lnTo>
                <a:lnTo>
                  <a:pt x="61810" y="1329689"/>
                </a:lnTo>
                <a:lnTo>
                  <a:pt x="67195" y="1335404"/>
                </a:lnTo>
                <a:lnTo>
                  <a:pt x="73825" y="1339595"/>
                </a:lnTo>
                <a:lnTo>
                  <a:pt x="54432" y="1339595"/>
                </a:lnTo>
                <a:lnTo>
                  <a:pt x="54432" y="1372108"/>
                </a:lnTo>
                <a:lnTo>
                  <a:pt x="236613" y="1372108"/>
                </a:lnTo>
                <a:lnTo>
                  <a:pt x="236613" y="1337564"/>
                </a:lnTo>
                <a:lnTo>
                  <a:pt x="118186" y="1337564"/>
                </a:lnTo>
                <a:lnTo>
                  <a:pt x="109085" y="1337040"/>
                </a:lnTo>
                <a:lnTo>
                  <a:pt x="79044" y="1316481"/>
                </a:lnTo>
                <a:lnTo>
                  <a:pt x="79044" y="1299717"/>
                </a:lnTo>
                <a:lnTo>
                  <a:pt x="119926" y="1279016"/>
                </a:lnTo>
                <a:lnTo>
                  <a:pt x="185348" y="1279016"/>
                </a:lnTo>
                <a:lnTo>
                  <a:pt x="184813" y="1277429"/>
                </a:lnTo>
                <a:lnTo>
                  <a:pt x="149051" y="1247473"/>
                </a:lnTo>
                <a:lnTo>
                  <a:pt x="135253" y="1244457"/>
                </a:lnTo>
                <a:lnTo>
                  <a:pt x="119672" y="1243456"/>
                </a:lnTo>
                <a:close/>
              </a:path>
              <a:path w="236854" h="1591945">
                <a:moveTo>
                  <a:pt x="185348" y="1279016"/>
                </a:moveTo>
                <a:lnTo>
                  <a:pt x="119926" y="1279016"/>
                </a:lnTo>
                <a:lnTo>
                  <a:pt x="130293" y="1279521"/>
                </a:lnTo>
                <a:lnTo>
                  <a:pt x="139052" y="1281017"/>
                </a:lnTo>
                <a:lnTo>
                  <a:pt x="146272" y="1283517"/>
                </a:lnTo>
                <a:lnTo>
                  <a:pt x="151930" y="1287017"/>
                </a:lnTo>
                <a:lnTo>
                  <a:pt x="158432" y="1292478"/>
                </a:lnTo>
                <a:lnTo>
                  <a:pt x="161683" y="1299209"/>
                </a:lnTo>
                <a:lnTo>
                  <a:pt x="161683" y="1315720"/>
                </a:lnTo>
                <a:lnTo>
                  <a:pt x="128583" y="1337016"/>
                </a:lnTo>
                <a:lnTo>
                  <a:pt x="118186" y="1337564"/>
                </a:lnTo>
                <a:lnTo>
                  <a:pt x="236613" y="1337564"/>
                </a:lnTo>
                <a:lnTo>
                  <a:pt x="236613" y="1337183"/>
                </a:lnTo>
                <a:lnTo>
                  <a:pt x="170129" y="1337183"/>
                </a:lnTo>
                <a:lnTo>
                  <a:pt x="177177" y="1330705"/>
                </a:lnTo>
                <a:lnTo>
                  <a:pt x="182143" y="1324483"/>
                </a:lnTo>
                <a:lnTo>
                  <a:pt x="185039" y="1318514"/>
                </a:lnTo>
                <a:lnTo>
                  <a:pt x="187947" y="1312671"/>
                </a:lnTo>
                <a:lnTo>
                  <a:pt x="189395" y="1306067"/>
                </a:lnTo>
                <a:lnTo>
                  <a:pt x="189368" y="1298447"/>
                </a:lnTo>
                <a:lnTo>
                  <a:pt x="188249" y="1287625"/>
                </a:lnTo>
                <a:lnTo>
                  <a:pt x="185348" y="1279016"/>
                </a:lnTo>
                <a:close/>
              </a:path>
              <a:path w="236854" h="1591945">
                <a:moveTo>
                  <a:pt x="120053" y="1049527"/>
                </a:moveTo>
                <a:lnTo>
                  <a:pt x="81269" y="1060243"/>
                </a:lnTo>
                <a:lnTo>
                  <a:pt x="56313" y="1090485"/>
                </a:lnTo>
                <a:lnTo>
                  <a:pt x="51447" y="1117727"/>
                </a:lnTo>
                <a:lnTo>
                  <a:pt x="51983" y="1127204"/>
                </a:lnTo>
                <a:lnTo>
                  <a:pt x="70531" y="1166780"/>
                </a:lnTo>
                <a:lnTo>
                  <a:pt x="109927" y="1185146"/>
                </a:lnTo>
                <a:lnTo>
                  <a:pt x="118554" y="1185671"/>
                </a:lnTo>
                <a:lnTo>
                  <a:pt x="129496" y="1185146"/>
                </a:lnTo>
                <a:lnTo>
                  <a:pt x="171080" y="1166590"/>
                </a:lnTo>
                <a:lnTo>
                  <a:pt x="182124" y="1149858"/>
                </a:lnTo>
                <a:lnTo>
                  <a:pt x="120421" y="1149858"/>
                </a:lnTo>
                <a:lnTo>
                  <a:pt x="111177" y="1149284"/>
                </a:lnTo>
                <a:lnTo>
                  <a:pt x="79908" y="1126743"/>
                </a:lnTo>
                <a:lnTo>
                  <a:pt x="79908" y="1108455"/>
                </a:lnTo>
                <a:lnTo>
                  <a:pt x="111043" y="1086040"/>
                </a:lnTo>
                <a:lnTo>
                  <a:pt x="120180" y="1085468"/>
                </a:lnTo>
                <a:lnTo>
                  <a:pt x="181717" y="1085468"/>
                </a:lnTo>
                <a:lnTo>
                  <a:pt x="178315" y="1079093"/>
                </a:lnTo>
                <a:lnTo>
                  <a:pt x="169697" y="1068831"/>
                </a:lnTo>
                <a:lnTo>
                  <a:pt x="159207" y="1060350"/>
                </a:lnTo>
                <a:lnTo>
                  <a:pt x="147437" y="1054322"/>
                </a:lnTo>
                <a:lnTo>
                  <a:pt x="134338" y="1050718"/>
                </a:lnTo>
                <a:lnTo>
                  <a:pt x="120053" y="1049527"/>
                </a:lnTo>
                <a:close/>
              </a:path>
              <a:path w="236854" h="1591945">
                <a:moveTo>
                  <a:pt x="181717" y="1085468"/>
                </a:moveTo>
                <a:lnTo>
                  <a:pt x="120180" y="1085468"/>
                </a:lnTo>
                <a:lnTo>
                  <a:pt x="129526" y="1086040"/>
                </a:lnTo>
                <a:lnTo>
                  <a:pt x="137694" y="1087754"/>
                </a:lnTo>
                <a:lnTo>
                  <a:pt x="144708" y="1090628"/>
                </a:lnTo>
                <a:lnTo>
                  <a:pt x="150494" y="1094612"/>
                </a:lnTo>
                <a:lnTo>
                  <a:pt x="157454" y="1100835"/>
                </a:lnTo>
                <a:lnTo>
                  <a:pt x="160934" y="1108455"/>
                </a:lnTo>
                <a:lnTo>
                  <a:pt x="160934" y="1126743"/>
                </a:lnTo>
                <a:lnTo>
                  <a:pt x="129665" y="1149284"/>
                </a:lnTo>
                <a:lnTo>
                  <a:pt x="120421" y="1149858"/>
                </a:lnTo>
                <a:lnTo>
                  <a:pt x="182124" y="1149858"/>
                </a:lnTo>
                <a:lnTo>
                  <a:pt x="184782" y="1143708"/>
                </a:lnTo>
                <a:lnTo>
                  <a:pt x="187345" y="1135173"/>
                </a:lnTo>
                <a:lnTo>
                  <a:pt x="188882" y="1126424"/>
                </a:lnTo>
                <a:lnTo>
                  <a:pt x="189395" y="1117472"/>
                </a:lnTo>
                <a:lnTo>
                  <a:pt x="188163" y="1103425"/>
                </a:lnTo>
                <a:lnTo>
                  <a:pt x="184470" y="1090628"/>
                </a:lnTo>
                <a:lnTo>
                  <a:pt x="181717" y="1085468"/>
                </a:lnTo>
                <a:close/>
              </a:path>
              <a:path w="236854" h="1591945">
                <a:moveTo>
                  <a:pt x="0" y="861313"/>
                </a:moveTo>
                <a:lnTo>
                  <a:pt x="15" y="885070"/>
                </a:lnTo>
                <a:lnTo>
                  <a:pt x="3314" y="886713"/>
                </a:lnTo>
                <a:lnTo>
                  <a:pt x="4978" y="890015"/>
                </a:lnTo>
                <a:lnTo>
                  <a:pt x="4978" y="912494"/>
                </a:lnTo>
                <a:lnTo>
                  <a:pt x="6272" y="932561"/>
                </a:lnTo>
                <a:lnTo>
                  <a:pt x="25730" y="973454"/>
                </a:lnTo>
                <a:lnTo>
                  <a:pt x="71887" y="989778"/>
                </a:lnTo>
                <a:lnTo>
                  <a:pt x="93954" y="990853"/>
                </a:lnTo>
                <a:lnTo>
                  <a:pt x="112714" y="990427"/>
                </a:lnTo>
                <a:lnTo>
                  <a:pt x="151803" y="984122"/>
                </a:lnTo>
                <a:lnTo>
                  <a:pt x="175056" y="967104"/>
                </a:lnTo>
                <a:lnTo>
                  <a:pt x="83883" y="967104"/>
                </a:lnTo>
                <a:lnTo>
                  <a:pt x="72948" y="966531"/>
                </a:lnTo>
                <a:lnTo>
                  <a:pt x="38049" y="949959"/>
                </a:lnTo>
                <a:lnTo>
                  <a:pt x="31998" y="917955"/>
                </a:lnTo>
                <a:lnTo>
                  <a:pt x="32067" y="904748"/>
                </a:lnTo>
                <a:lnTo>
                  <a:pt x="31558" y="892036"/>
                </a:lnTo>
                <a:lnTo>
                  <a:pt x="10528" y="862076"/>
                </a:lnTo>
                <a:lnTo>
                  <a:pt x="0" y="861313"/>
                </a:lnTo>
                <a:close/>
              </a:path>
              <a:path w="236854" h="1591945">
                <a:moveTo>
                  <a:pt x="121919" y="855979"/>
                </a:moveTo>
                <a:lnTo>
                  <a:pt x="75120" y="874013"/>
                </a:lnTo>
                <a:lnTo>
                  <a:pt x="54927" y="917955"/>
                </a:lnTo>
                <a:lnTo>
                  <a:pt x="55379" y="926125"/>
                </a:lnTo>
                <a:lnTo>
                  <a:pt x="77073" y="962933"/>
                </a:lnTo>
                <a:lnTo>
                  <a:pt x="83883" y="967104"/>
                </a:lnTo>
                <a:lnTo>
                  <a:pt x="175056" y="967104"/>
                </a:lnTo>
                <a:lnTo>
                  <a:pt x="179324" y="961389"/>
                </a:lnTo>
                <a:lnTo>
                  <a:pt x="182489" y="955420"/>
                </a:lnTo>
                <a:lnTo>
                  <a:pt x="121411" y="955420"/>
                </a:lnTo>
                <a:lnTo>
                  <a:pt x="112982" y="954829"/>
                </a:lnTo>
                <a:lnTo>
                  <a:pt x="82524" y="915034"/>
                </a:lnTo>
                <a:lnTo>
                  <a:pt x="86105" y="907414"/>
                </a:lnTo>
                <a:lnTo>
                  <a:pt x="121539" y="892175"/>
                </a:lnTo>
                <a:lnTo>
                  <a:pt x="181999" y="892175"/>
                </a:lnTo>
                <a:lnTo>
                  <a:pt x="178201" y="885063"/>
                </a:lnTo>
                <a:lnTo>
                  <a:pt x="169506" y="874902"/>
                </a:lnTo>
                <a:lnTo>
                  <a:pt x="159074" y="866588"/>
                </a:lnTo>
                <a:lnTo>
                  <a:pt x="147666" y="860678"/>
                </a:lnTo>
                <a:lnTo>
                  <a:pt x="135281" y="857150"/>
                </a:lnTo>
                <a:lnTo>
                  <a:pt x="121919" y="855979"/>
                </a:lnTo>
                <a:close/>
              </a:path>
              <a:path w="236854" h="1591945">
                <a:moveTo>
                  <a:pt x="181999" y="892175"/>
                </a:moveTo>
                <a:lnTo>
                  <a:pt x="121539" y="892175"/>
                </a:lnTo>
                <a:lnTo>
                  <a:pt x="129729" y="892746"/>
                </a:lnTo>
                <a:lnTo>
                  <a:pt x="137157" y="894461"/>
                </a:lnTo>
                <a:lnTo>
                  <a:pt x="160439" y="932941"/>
                </a:lnTo>
                <a:lnTo>
                  <a:pt x="156933" y="940307"/>
                </a:lnTo>
                <a:lnTo>
                  <a:pt x="121411" y="955420"/>
                </a:lnTo>
                <a:lnTo>
                  <a:pt x="182489" y="955420"/>
                </a:lnTo>
                <a:lnTo>
                  <a:pt x="189349" y="923903"/>
                </a:lnTo>
                <a:lnTo>
                  <a:pt x="188152" y="909835"/>
                </a:lnTo>
                <a:lnTo>
                  <a:pt x="184423" y="896715"/>
                </a:lnTo>
                <a:lnTo>
                  <a:pt x="181999" y="892175"/>
                </a:lnTo>
                <a:close/>
              </a:path>
              <a:path w="236854" h="1591945">
                <a:moveTo>
                  <a:pt x="186410" y="662558"/>
                </a:moveTo>
                <a:lnTo>
                  <a:pt x="54432" y="662558"/>
                </a:lnTo>
                <a:lnTo>
                  <a:pt x="54432" y="779526"/>
                </a:lnTo>
                <a:lnTo>
                  <a:pt x="130733" y="779526"/>
                </a:lnTo>
                <a:lnTo>
                  <a:pt x="140325" y="779623"/>
                </a:lnTo>
                <a:lnTo>
                  <a:pt x="161302" y="785113"/>
                </a:lnTo>
                <a:lnTo>
                  <a:pt x="161188" y="794638"/>
                </a:lnTo>
                <a:lnTo>
                  <a:pt x="160934" y="798321"/>
                </a:lnTo>
                <a:lnTo>
                  <a:pt x="160680" y="803401"/>
                </a:lnTo>
                <a:lnTo>
                  <a:pt x="160680" y="804163"/>
                </a:lnTo>
                <a:lnTo>
                  <a:pt x="186410" y="804163"/>
                </a:lnTo>
                <a:lnTo>
                  <a:pt x="187896" y="795019"/>
                </a:lnTo>
                <a:lnTo>
                  <a:pt x="188645" y="787653"/>
                </a:lnTo>
                <a:lnTo>
                  <a:pt x="188645" y="772794"/>
                </a:lnTo>
                <a:lnTo>
                  <a:pt x="152512" y="745313"/>
                </a:lnTo>
                <a:lnTo>
                  <a:pt x="142049" y="744981"/>
                </a:lnTo>
                <a:lnTo>
                  <a:pt x="82765" y="744981"/>
                </a:lnTo>
                <a:lnTo>
                  <a:pt x="82765" y="697356"/>
                </a:lnTo>
                <a:lnTo>
                  <a:pt x="186410" y="697356"/>
                </a:lnTo>
                <a:lnTo>
                  <a:pt x="186410" y="662558"/>
                </a:lnTo>
                <a:close/>
              </a:path>
              <a:path w="236854" h="1591945">
                <a:moveTo>
                  <a:pt x="130492" y="476250"/>
                </a:moveTo>
                <a:lnTo>
                  <a:pt x="81922" y="485126"/>
                </a:lnTo>
                <a:lnTo>
                  <a:pt x="52664" y="525081"/>
                </a:lnTo>
                <a:lnTo>
                  <a:pt x="51447" y="538988"/>
                </a:lnTo>
                <a:lnTo>
                  <a:pt x="52539" y="550799"/>
                </a:lnTo>
                <a:lnTo>
                  <a:pt x="80205" y="589922"/>
                </a:lnTo>
                <a:lnTo>
                  <a:pt x="121411" y="599566"/>
                </a:lnTo>
                <a:lnTo>
                  <a:pt x="134556" y="598755"/>
                </a:lnTo>
                <a:lnTo>
                  <a:pt x="176739" y="577099"/>
                </a:lnTo>
                <a:lnTo>
                  <a:pt x="184301" y="563752"/>
                </a:lnTo>
                <a:lnTo>
                  <a:pt x="130492" y="563752"/>
                </a:lnTo>
                <a:lnTo>
                  <a:pt x="130492" y="563244"/>
                </a:lnTo>
                <a:lnTo>
                  <a:pt x="99580" y="563244"/>
                </a:lnTo>
                <a:lnTo>
                  <a:pt x="92049" y="560831"/>
                </a:lnTo>
                <a:lnTo>
                  <a:pt x="86499" y="555751"/>
                </a:lnTo>
                <a:lnTo>
                  <a:pt x="80949" y="550799"/>
                </a:lnTo>
                <a:lnTo>
                  <a:pt x="78168" y="544576"/>
                </a:lnTo>
                <a:lnTo>
                  <a:pt x="78223" y="529716"/>
                </a:lnTo>
                <a:lnTo>
                  <a:pt x="80797" y="523748"/>
                </a:lnTo>
                <a:lnTo>
                  <a:pt x="91325" y="513841"/>
                </a:lnTo>
                <a:lnTo>
                  <a:pt x="99009" y="511175"/>
                </a:lnTo>
                <a:lnTo>
                  <a:pt x="109118" y="510920"/>
                </a:lnTo>
                <a:lnTo>
                  <a:pt x="130492" y="510920"/>
                </a:lnTo>
                <a:lnTo>
                  <a:pt x="130492" y="476250"/>
                </a:lnTo>
                <a:close/>
              </a:path>
              <a:path w="236854" h="1591945">
                <a:moveTo>
                  <a:pt x="150253" y="478154"/>
                </a:moveTo>
                <a:lnTo>
                  <a:pt x="144411" y="512952"/>
                </a:lnTo>
                <a:lnTo>
                  <a:pt x="151041" y="514857"/>
                </a:lnTo>
                <a:lnTo>
                  <a:pt x="155841" y="517651"/>
                </a:lnTo>
                <a:lnTo>
                  <a:pt x="158826" y="521334"/>
                </a:lnTo>
                <a:lnTo>
                  <a:pt x="161813" y="525152"/>
                </a:lnTo>
                <a:lnTo>
                  <a:pt x="163296" y="529716"/>
                </a:lnTo>
                <a:lnTo>
                  <a:pt x="163296" y="543178"/>
                </a:lnTo>
                <a:lnTo>
                  <a:pt x="130492" y="563752"/>
                </a:lnTo>
                <a:lnTo>
                  <a:pt x="184301" y="563752"/>
                </a:lnTo>
                <a:lnTo>
                  <a:pt x="187988" y="551660"/>
                </a:lnTo>
                <a:lnTo>
                  <a:pt x="189395" y="535558"/>
                </a:lnTo>
                <a:lnTo>
                  <a:pt x="188754" y="525081"/>
                </a:lnTo>
                <a:lnTo>
                  <a:pt x="167101" y="486806"/>
                </a:lnTo>
                <a:lnTo>
                  <a:pt x="159247" y="481986"/>
                </a:lnTo>
                <a:lnTo>
                  <a:pt x="150253" y="478154"/>
                </a:lnTo>
                <a:close/>
              </a:path>
              <a:path w="236854" h="1591945">
                <a:moveTo>
                  <a:pt x="130492" y="510920"/>
                </a:moveTo>
                <a:lnTo>
                  <a:pt x="109118" y="510920"/>
                </a:lnTo>
                <a:lnTo>
                  <a:pt x="109118" y="563117"/>
                </a:lnTo>
                <a:lnTo>
                  <a:pt x="99580" y="563244"/>
                </a:lnTo>
                <a:lnTo>
                  <a:pt x="130492" y="563244"/>
                </a:lnTo>
                <a:lnTo>
                  <a:pt x="130492" y="510920"/>
                </a:lnTo>
                <a:close/>
              </a:path>
              <a:path w="236854" h="1591945">
                <a:moveTo>
                  <a:pt x="186410" y="256286"/>
                </a:moveTo>
                <a:lnTo>
                  <a:pt x="54432" y="256286"/>
                </a:lnTo>
                <a:lnTo>
                  <a:pt x="54432" y="299465"/>
                </a:lnTo>
                <a:lnTo>
                  <a:pt x="146392" y="332486"/>
                </a:lnTo>
                <a:lnTo>
                  <a:pt x="54432" y="365251"/>
                </a:lnTo>
                <a:lnTo>
                  <a:pt x="54432" y="408558"/>
                </a:lnTo>
                <a:lnTo>
                  <a:pt x="186410" y="408558"/>
                </a:lnTo>
                <a:lnTo>
                  <a:pt x="186410" y="378713"/>
                </a:lnTo>
                <a:lnTo>
                  <a:pt x="99542" y="378713"/>
                </a:lnTo>
                <a:lnTo>
                  <a:pt x="186410" y="347979"/>
                </a:lnTo>
                <a:lnTo>
                  <a:pt x="186410" y="318134"/>
                </a:lnTo>
                <a:lnTo>
                  <a:pt x="99542" y="286003"/>
                </a:lnTo>
                <a:lnTo>
                  <a:pt x="186410" y="286003"/>
                </a:lnTo>
                <a:lnTo>
                  <a:pt x="186410" y="256286"/>
                </a:lnTo>
                <a:close/>
              </a:path>
              <a:path w="236854" h="1591945">
                <a:moveTo>
                  <a:pt x="185049" y="90677"/>
                </a:moveTo>
                <a:lnTo>
                  <a:pt x="153352" y="90677"/>
                </a:lnTo>
                <a:lnTo>
                  <a:pt x="157657" y="92582"/>
                </a:lnTo>
                <a:lnTo>
                  <a:pt x="162966" y="100202"/>
                </a:lnTo>
                <a:lnTo>
                  <a:pt x="164287" y="106425"/>
                </a:lnTo>
                <a:lnTo>
                  <a:pt x="164287" y="147319"/>
                </a:lnTo>
                <a:lnTo>
                  <a:pt x="54432" y="147319"/>
                </a:lnTo>
                <a:lnTo>
                  <a:pt x="54432" y="182244"/>
                </a:lnTo>
                <a:lnTo>
                  <a:pt x="186410" y="182244"/>
                </a:lnTo>
                <a:lnTo>
                  <a:pt x="186355" y="106425"/>
                </a:lnTo>
                <a:lnTo>
                  <a:pt x="185808" y="95180"/>
                </a:lnTo>
                <a:lnTo>
                  <a:pt x="185049" y="90677"/>
                </a:lnTo>
                <a:close/>
              </a:path>
              <a:path w="236854" h="1591945">
                <a:moveTo>
                  <a:pt x="148005" y="54863"/>
                </a:moveTo>
                <a:lnTo>
                  <a:pt x="139141" y="54863"/>
                </a:lnTo>
                <a:lnTo>
                  <a:pt x="131444" y="57276"/>
                </a:lnTo>
                <a:lnTo>
                  <a:pt x="124891" y="62356"/>
                </a:lnTo>
                <a:lnTo>
                  <a:pt x="118351" y="67309"/>
                </a:lnTo>
                <a:lnTo>
                  <a:pt x="109342" y="106425"/>
                </a:lnTo>
                <a:lnTo>
                  <a:pt x="109232" y="147319"/>
                </a:lnTo>
                <a:lnTo>
                  <a:pt x="130733" y="147319"/>
                </a:lnTo>
                <a:lnTo>
                  <a:pt x="130733" y="124713"/>
                </a:lnTo>
                <a:lnTo>
                  <a:pt x="130955" y="115833"/>
                </a:lnTo>
                <a:lnTo>
                  <a:pt x="141008" y="90677"/>
                </a:lnTo>
                <a:lnTo>
                  <a:pt x="185049" y="90677"/>
                </a:lnTo>
                <a:lnTo>
                  <a:pt x="184002" y="84470"/>
                </a:lnTo>
                <a:lnTo>
                  <a:pt x="156983" y="55675"/>
                </a:lnTo>
                <a:lnTo>
                  <a:pt x="148005" y="54863"/>
                </a:lnTo>
                <a:close/>
              </a:path>
              <a:path w="236854" h="1591945">
                <a:moveTo>
                  <a:pt x="186410" y="0"/>
                </a:moveTo>
                <a:lnTo>
                  <a:pt x="54432" y="0"/>
                </a:lnTo>
                <a:lnTo>
                  <a:pt x="54432" y="34925"/>
                </a:lnTo>
                <a:lnTo>
                  <a:pt x="186410" y="34925"/>
                </a:lnTo>
                <a:lnTo>
                  <a:pt x="18641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20" name="object 11" descr=""/>
          <p:cNvPicPr/>
          <p:nvPr/>
        </p:nvPicPr>
        <p:blipFill>
          <a:blip r:embed="rId4"/>
          <a:stretch/>
        </p:blipFill>
        <p:spPr>
          <a:xfrm>
            <a:off x="135000" y="2743200"/>
            <a:ext cx="65160" cy="68400"/>
          </a:xfrm>
          <a:prstGeom prst="rect">
            <a:avLst/>
          </a:prstGeom>
          <a:ln w="0">
            <a:noFill/>
          </a:ln>
        </p:spPr>
      </p:pic>
      <p:sp>
        <p:nvSpPr>
          <p:cNvPr id="721" name="object 13"/>
          <p:cNvSpPr/>
          <p:nvPr/>
        </p:nvSpPr>
        <p:spPr>
          <a:xfrm>
            <a:off x="4211640" y="2811600"/>
            <a:ext cx="135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360" bIns="0" anchor="t">
            <a:spAutoFit/>
          </a:bodyPr>
          <a:p>
            <a:pPr marL="936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1f377a"/>
                </a:solidFill>
                <a:latin typeface="Arial"/>
              </a:rPr>
              <a:t>Войти в 10-ку лучших!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722" name="object 20"/>
          <p:cNvGrpSpPr/>
          <p:nvPr/>
        </p:nvGrpSpPr>
        <p:grpSpPr>
          <a:xfrm>
            <a:off x="5546880" y="1700280"/>
            <a:ext cx="1571400" cy="3854520"/>
            <a:chOff x="5546880" y="1700280"/>
            <a:chExt cx="1571400" cy="3854520"/>
          </a:xfrm>
        </p:grpSpPr>
        <p:pic>
          <p:nvPicPr>
            <p:cNvPr id="723" name="object 21" descr=""/>
            <p:cNvPicPr/>
            <p:nvPr/>
          </p:nvPicPr>
          <p:blipFill>
            <a:blip r:embed="rId5"/>
            <a:stretch/>
          </p:blipFill>
          <p:spPr>
            <a:xfrm>
              <a:off x="6451560" y="1700280"/>
              <a:ext cx="635760" cy="41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4" name="object 22" descr=""/>
            <p:cNvPicPr/>
            <p:nvPr/>
          </p:nvPicPr>
          <p:blipFill>
            <a:blip r:embed="rId6"/>
            <a:stretch/>
          </p:blipFill>
          <p:spPr>
            <a:xfrm>
              <a:off x="6451560" y="2179080"/>
              <a:ext cx="635760" cy="41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" name="object 23" descr=""/>
            <p:cNvPicPr/>
            <p:nvPr/>
          </p:nvPicPr>
          <p:blipFill>
            <a:blip r:embed="rId7"/>
            <a:stretch/>
          </p:blipFill>
          <p:spPr>
            <a:xfrm>
              <a:off x="6451560" y="2681640"/>
              <a:ext cx="635760" cy="41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object 24" descr=""/>
            <p:cNvPicPr/>
            <p:nvPr/>
          </p:nvPicPr>
          <p:blipFill>
            <a:blip r:embed="rId8"/>
            <a:stretch/>
          </p:blipFill>
          <p:spPr>
            <a:xfrm>
              <a:off x="6451560" y="3184200"/>
              <a:ext cx="635760" cy="41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object 25" descr=""/>
            <p:cNvPicPr/>
            <p:nvPr/>
          </p:nvPicPr>
          <p:blipFill>
            <a:blip r:embed="rId9"/>
            <a:stretch/>
          </p:blipFill>
          <p:spPr>
            <a:xfrm>
              <a:off x="6451560" y="3687840"/>
              <a:ext cx="635760" cy="41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object 26" descr=""/>
            <p:cNvPicPr/>
            <p:nvPr/>
          </p:nvPicPr>
          <p:blipFill>
            <a:blip r:embed="rId10"/>
            <a:stretch/>
          </p:blipFill>
          <p:spPr>
            <a:xfrm>
              <a:off x="5546880" y="2610720"/>
              <a:ext cx="664200" cy="16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9" name="object 27" descr=""/>
            <p:cNvPicPr/>
            <p:nvPr/>
          </p:nvPicPr>
          <p:blipFill>
            <a:blip r:embed="rId11"/>
            <a:stretch/>
          </p:blipFill>
          <p:spPr>
            <a:xfrm>
              <a:off x="6471720" y="5135040"/>
              <a:ext cx="634680" cy="41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object 28" descr=""/>
            <p:cNvPicPr/>
            <p:nvPr/>
          </p:nvPicPr>
          <p:blipFill>
            <a:blip r:embed="rId12"/>
            <a:stretch/>
          </p:blipFill>
          <p:spPr>
            <a:xfrm>
              <a:off x="6435000" y="4160880"/>
              <a:ext cx="634680" cy="41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object 29" descr=""/>
            <p:cNvPicPr/>
            <p:nvPr/>
          </p:nvPicPr>
          <p:blipFill>
            <a:blip r:embed="rId13"/>
            <a:stretch/>
          </p:blipFill>
          <p:spPr>
            <a:xfrm>
              <a:off x="6482520" y="4638600"/>
              <a:ext cx="635760" cy="419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2" name="object 34"/>
          <p:cNvSpPr/>
          <p:nvPr/>
        </p:nvSpPr>
        <p:spPr>
          <a:xfrm>
            <a:off x="719280" y="6380280"/>
            <a:ext cx="792612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936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f377a"/>
                </a:solidFill>
                <a:latin typeface="Calibri"/>
              </a:rPr>
              <a:t>Единое образовательное пространство (обучение и воспитание)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3" name="object 35"/>
          <p:cNvSpPr/>
          <p:nvPr/>
        </p:nvSpPr>
        <p:spPr>
          <a:xfrm>
            <a:off x="-95400" y="3240"/>
            <a:ext cx="4235760" cy="70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360" bIns="0" anchor="t">
            <a:spAutoFit/>
          </a:bodyPr>
          <a:p>
            <a:pPr marL="64440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С о ц и а л ь н ы е :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64440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Проблема личностного и профессионального самоопределения детей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644400"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Замещение традиционного общения сетевым,  интернет-зависимость, кибербуллинг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644400"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Неоднородность условий семейного воспитания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644400"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Низкая мотивация к обучению, самообразованию,  саморазвитию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644400"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Учащение случаев социально-опасного поведения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644400"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Неоднородность организации досуга во внеурочное  время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644400"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Рост числа обучающихся с ОВЗ, с инвалидностью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644400"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Рост числа обучающихся с неродным русским языком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644400"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Проблемы с организацией питания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644400">
              <a:lnSpc>
                <a:spcPts val="1599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П р о ф е с с и о н а л ь н ы е :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644400">
              <a:lnSpc>
                <a:spcPts val="106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Увеличение непедагогической нагрузки учителей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644400"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Привлечение репетиторов для достижения высоких  образовательных результатов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644400"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Неоднородность подходов к организации  образовательной среды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644400"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Неоднородность уровня профессиональной  компетентности учителей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644400"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Неоднородность программного и учебно-  методического обеспечения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644400"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Дефицит отдельных групп педагогических кадров (логопед, дефектолог, психолог и др.)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4" name="Номер слайда 2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EA97-91D6-4551-8545-B32A2E6BDAE0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object 2"/>
          <p:cNvGrpSpPr/>
          <p:nvPr/>
        </p:nvGrpSpPr>
        <p:grpSpPr>
          <a:xfrm>
            <a:off x="4140360" y="1828800"/>
            <a:ext cx="4952880" cy="4056120"/>
            <a:chOff x="4140360" y="1828800"/>
            <a:chExt cx="4952880" cy="4056120"/>
          </a:xfrm>
        </p:grpSpPr>
        <p:pic>
          <p:nvPicPr>
            <p:cNvPr id="736" name="object 3" descr=""/>
            <p:cNvPicPr/>
            <p:nvPr/>
          </p:nvPicPr>
          <p:blipFill>
            <a:blip r:embed="rId1"/>
            <a:stretch/>
          </p:blipFill>
          <p:spPr>
            <a:xfrm>
              <a:off x="5846760" y="1828800"/>
              <a:ext cx="3246480" cy="405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7" name="object 4" descr=""/>
            <p:cNvPicPr/>
            <p:nvPr/>
          </p:nvPicPr>
          <p:blipFill>
            <a:blip r:embed="rId2"/>
            <a:stretch/>
          </p:blipFill>
          <p:spPr>
            <a:xfrm>
              <a:off x="4140360" y="3386880"/>
              <a:ext cx="258120" cy="2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object 5"/>
            <p:cNvSpPr/>
            <p:nvPr/>
          </p:nvSpPr>
          <p:spPr>
            <a:xfrm>
              <a:off x="4398840" y="3456720"/>
              <a:ext cx="706320" cy="45720"/>
            </a:xfrm>
            <a:custGeom>
              <a:avLst/>
              <a:gdLst>
                <a:gd name="textAreaLeft" fmla="*/ 0 w 706320"/>
                <a:gd name="textAreaRight" fmla="*/ 706680 w 70632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232659" h="190500">
                  <a:moveTo>
                    <a:pt x="2042032" y="0"/>
                  </a:moveTo>
                  <a:lnTo>
                    <a:pt x="2041829" y="76150"/>
                  </a:lnTo>
                  <a:lnTo>
                    <a:pt x="2060828" y="76200"/>
                  </a:lnTo>
                  <a:lnTo>
                    <a:pt x="2060702" y="114300"/>
                  </a:lnTo>
                  <a:lnTo>
                    <a:pt x="2041728" y="114300"/>
                  </a:lnTo>
                  <a:lnTo>
                    <a:pt x="2041525" y="190500"/>
                  </a:lnTo>
                  <a:lnTo>
                    <a:pt x="2194946" y="114300"/>
                  </a:lnTo>
                  <a:lnTo>
                    <a:pt x="2060702" y="114300"/>
                  </a:lnTo>
                  <a:lnTo>
                    <a:pt x="2195045" y="114250"/>
                  </a:lnTo>
                  <a:lnTo>
                    <a:pt x="2232279" y="95758"/>
                  </a:lnTo>
                  <a:lnTo>
                    <a:pt x="2042032" y="0"/>
                  </a:lnTo>
                  <a:close/>
                </a:path>
                <a:path w="2232659" h="190500">
                  <a:moveTo>
                    <a:pt x="2041829" y="76150"/>
                  </a:moveTo>
                  <a:lnTo>
                    <a:pt x="2041728" y="114250"/>
                  </a:lnTo>
                  <a:lnTo>
                    <a:pt x="2060702" y="114300"/>
                  </a:lnTo>
                  <a:lnTo>
                    <a:pt x="2060828" y="76200"/>
                  </a:lnTo>
                  <a:lnTo>
                    <a:pt x="2041829" y="76150"/>
                  </a:lnTo>
                  <a:close/>
                </a:path>
                <a:path w="2232659" h="190500">
                  <a:moveTo>
                    <a:pt x="0" y="70865"/>
                  </a:moveTo>
                  <a:lnTo>
                    <a:pt x="0" y="108965"/>
                  </a:lnTo>
                  <a:lnTo>
                    <a:pt x="2041728" y="114250"/>
                  </a:lnTo>
                  <a:lnTo>
                    <a:pt x="2041829" y="76150"/>
                  </a:lnTo>
                  <a:lnTo>
                    <a:pt x="0" y="708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402080" y="571320"/>
            <a:ext cx="4540320" cy="379080"/>
          </a:xfrm>
          <a:prstGeom prst="rect">
            <a:avLst/>
          </a:prstGeom>
          <a:noFill/>
          <a:ln w="0">
            <a:noFill/>
          </a:ln>
        </p:spPr>
        <p:txBody>
          <a:bodyPr lIns="0" rIns="0" tIns="9360" bIns="0" anchor="ctr">
            <a:noAutofit/>
          </a:bodyPr>
          <a:p>
            <a:pPr marL="9360" indent="0" algn="ctr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6fc6"/>
                </a:solidFill>
                <a:latin typeface="Tw Cen MT"/>
                <a:ea typeface="Arial"/>
              </a:rPr>
              <a:t>Идеальная школа</a:t>
            </a:r>
            <a:r>
              <a:rPr b="1" lang="ru-RU" sz="2400" spc="-1" strike="noStrike">
                <a:solidFill>
                  <a:srgbClr val="0f6fc6"/>
                </a:solidFill>
                <a:latin typeface="Calibri"/>
                <a:ea typeface="Arial"/>
              </a:rPr>
              <a:t> России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740" name="object 7"/>
          <p:cNvGrpSpPr/>
          <p:nvPr/>
        </p:nvGrpSpPr>
        <p:grpSpPr>
          <a:xfrm>
            <a:off x="311040" y="0"/>
            <a:ext cx="3832200" cy="6524640"/>
            <a:chOff x="311040" y="0"/>
            <a:chExt cx="3832200" cy="6524640"/>
          </a:xfrm>
        </p:grpSpPr>
        <p:pic>
          <p:nvPicPr>
            <p:cNvPr id="741" name="object 8" descr=""/>
            <p:cNvPicPr/>
            <p:nvPr/>
          </p:nvPicPr>
          <p:blipFill>
            <a:blip r:embed="rId3"/>
            <a:stretch/>
          </p:blipFill>
          <p:spPr>
            <a:xfrm>
              <a:off x="311040" y="0"/>
              <a:ext cx="3832200" cy="65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object 9"/>
            <p:cNvSpPr/>
            <p:nvPr/>
          </p:nvSpPr>
          <p:spPr>
            <a:xfrm>
              <a:off x="311040" y="0"/>
              <a:ext cx="3832200" cy="6524640"/>
            </a:xfrm>
            <a:custGeom>
              <a:avLst/>
              <a:gdLst>
                <a:gd name="textAreaLeft" fmla="*/ 0 w 3832200"/>
                <a:gd name="textAreaRight" fmla="*/ 3832560 w 3832200"/>
                <a:gd name="textAreaTop" fmla="*/ 0 h 6524640"/>
                <a:gd name="textAreaBottom" fmla="*/ 6525000 h 6524640"/>
              </a:gdLst>
              <a:ahLst/>
              <a:rect l="textAreaLeft" t="textAreaTop" r="textAreaRight" b="textAreaBottom"/>
              <a:pathLst>
                <a:path w="4191000" h="5689600">
                  <a:moveTo>
                    <a:pt x="0" y="307467"/>
                  </a:moveTo>
                  <a:lnTo>
                    <a:pt x="3333" y="262034"/>
                  </a:lnTo>
                  <a:lnTo>
                    <a:pt x="13017" y="218670"/>
                  </a:lnTo>
                  <a:lnTo>
                    <a:pt x="28576" y="177851"/>
                  </a:lnTo>
                  <a:lnTo>
                    <a:pt x="49533" y="140052"/>
                  </a:lnTo>
                  <a:lnTo>
                    <a:pt x="75414" y="105750"/>
                  </a:lnTo>
                  <a:lnTo>
                    <a:pt x="105743" y="75419"/>
                  </a:lnTo>
                  <a:lnTo>
                    <a:pt x="140043" y="49537"/>
                  </a:lnTo>
                  <a:lnTo>
                    <a:pt x="177840" y="28578"/>
                  </a:lnTo>
                  <a:lnTo>
                    <a:pt x="218658" y="13018"/>
                  </a:lnTo>
                  <a:lnTo>
                    <a:pt x="262021" y="3333"/>
                  </a:lnTo>
                  <a:lnTo>
                    <a:pt x="307454" y="0"/>
                  </a:lnTo>
                  <a:lnTo>
                    <a:pt x="3883533" y="0"/>
                  </a:lnTo>
                  <a:lnTo>
                    <a:pt x="3928965" y="3333"/>
                  </a:lnTo>
                  <a:lnTo>
                    <a:pt x="3972329" y="13018"/>
                  </a:lnTo>
                  <a:lnTo>
                    <a:pt x="4013148" y="28578"/>
                  </a:lnTo>
                  <a:lnTo>
                    <a:pt x="4050947" y="49537"/>
                  </a:lnTo>
                  <a:lnTo>
                    <a:pt x="4085249" y="75419"/>
                  </a:lnTo>
                  <a:lnTo>
                    <a:pt x="4115580" y="105750"/>
                  </a:lnTo>
                  <a:lnTo>
                    <a:pt x="4141462" y="140052"/>
                  </a:lnTo>
                  <a:lnTo>
                    <a:pt x="4162421" y="177851"/>
                  </a:lnTo>
                  <a:lnTo>
                    <a:pt x="4177981" y="218670"/>
                  </a:lnTo>
                  <a:lnTo>
                    <a:pt x="4187666" y="262034"/>
                  </a:lnTo>
                  <a:lnTo>
                    <a:pt x="4191000" y="307467"/>
                  </a:lnTo>
                  <a:lnTo>
                    <a:pt x="4191000" y="5381637"/>
                  </a:lnTo>
                  <a:lnTo>
                    <a:pt x="4187666" y="5427070"/>
                  </a:lnTo>
                  <a:lnTo>
                    <a:pt x="4177981" y="5470433"/>
                  </a:lnTo>
                  <a:lnTo>
                    <a:pt x="4162421" y="5511251"/>
                  </a:lnTo>
                  <a:lnTo>
                    <a:pt x="4141462" y="5549048"/>
                  </a:lnTo>
                  <a:lnTo>
                    <a:pt x="4115580" y="5583348"/>
                  </a:lnTo>
                  <a:lnTo>
                    <a:pt x="4085249" y="5613677"/>
                  </a:lnTo>
                  <a:lnTo>
                    <a:pt x="4050947" y="5639558"/>
                  </a:lnTo>
                  <a:lnTo>
                    <a:pt x="4013148" y="5660515"/>
                  </a:lnTo>
                  <a:lnTo>
                    <a:pt x="3972329" y="5676074"/>
                  </a:lnTo>
                  <a:lnTo>
                    <a:pt x="3928965" y="5685758"/>
                  </a:lnTo>
                  <a:lnTo>
                    <a:pt x="3883533" y="5689092"/>
                  </a:lnTo>
                  <a:lnTo>
                    <a:pt x="307454" y="5689092"/>
                  </a:lnTo>
                  <a:lnTo>
                    <a:pt x="262021" y="5685758"/>
                  </a:lnTo>
                  <a:lnTo>
                    <a:pt x="218658" y="5676074"/>
                  </a:lnTo>
                  <a:lnTo>
                    <a:pt x="177840" y="5660515"/>
                  </a:lnTo>
                  <a:lnTo>
                    <a:pt x="140043" y="5639558"/>
                  </a:lnTo>
                  <a:lnTo>
                    <a:pt x="105743" y="5613677"/>
                  </a:lnTo>
                  <a:lnTo>
                    <a:pt x="75414" y="5583348"/>
                  </a:lnTo>
                  <a:lnTo>
                    <a:pt x="49533" y="5549048"/>
                  </a:lnTo>
                  <a:lnTo>
                    <a:pt x="28576" y="5511251"/>
                  </a:lnTo>
                  <a:lnTo>
                    <a:pt x="13017" y="5470433"/>
                  </a:lnTo>
                  <a:lnTo>
                    <a:pt x="3333" y="5427070"/>
                  </a:lnTo>
                  <a:lnTo>
                    <a:pt x="0" y="5381637"/>
                  </a:lnTo>
                  <a:lnTo>
                    <a:pt x="0" y="307467"/>
                  </a:lnTo>
                  <a:close/>
                </a:path>
              </a:pathLst>
            </a:custGeom>
            <a:noFill/>
            <a:ln w="6120">
              <a:solidFill>
                <a:srgbClr val="3682f1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743" name="object 10"/>
          <p:cNvSpPr/>
          <p:nvPr/>
        </p:nvSpPr>
        <p:spPr>
          <a:xfrm>
            <a:off x="133200" y="2854440"/>
            <a:ext cx="177840" cy="1193760"/>
          </a:xfrm>
          <a:custGeom>
            <a:avLst/>
            <a:gdLst>
              <a:gd name="textAreaLeft" fmla="*/ 0 w 177840"/>
              <a:gd name="textAreaRight" fmla="*/ 178200 w 177840"/>
              <a:gd name="textAreaTop" fmla="*/ 0 h 1193760"/>
              <a:gd name="textAreaBottom" fmla="*/ 1194120 h 1193760"/>
            </a:gdLst>
            <a:ahLst/>
            <a:rect l="textAreaLeft" t="textAreaTop" r="textAreaRight" b="textAreaBottom"/>
            <a:pathLst>
              <a:path w="236854" h="1591945">
                <a:moveTo>
                  <a:pt x="186410" y="1446529"/>
                </a:moveTo>
                <a:lnTo>
                  <a:pt x="4229" y="1446529"/>
                </a:lnTo>
                <a:lnTo>
                  <a:pt x="4229" y="1591436"/>
                </a:lnTo>
                <a:lnTo>
                  <a:pt x="186410" y="1591436"/>
                </a:lnTo>
                <a:lnTo>
                  <a:pt x="186410" y="1554606"/>
                </a:lnTo>
                <a:lnTo>
                  <a:pt x="34797" y="1554606"/>
                </a:lnTo>
                <a:lnTo>
                  <a:pt x="34797" y="1483233"/>
                </a:lnTo>
                <a:lnTo>
                  <a:pt x="186410" y="1483233"/>
                </a:lnTo>
                <a:lnTo>
                  <a:pt x="186410" y="1446529"/>
                </a:lnTo>
                <a:close/>
              </a:path>
              <a:path w="236854" h="1591945">
                <a:moveTo>
                  <a:pt x="119672" y="1243456"/>
                </a:moveTo>
                <a:lnTo>
                  <a:pt x="79365" y="1252458"/>
                </a:lnTo>
                <a:lnTo>
                  <a:pt x="52607" y="1287271"/>
                </a:lnTo>
                <a:lnTo>
                  <a:pt x="51447" y="1298447"/>
                </a:lnTo>
                <a:lnTo>
                  <a:pt x="51447" y="1307210"/>
                </a:lnTo>
                <a:lnTo>
                  <a:pt x="53517" y="1315211"/>
                </a:lnTo>
                <a:lnTo>
                  <a:pt x="61810" y="1329689"/>
                </a:lnTo>
                <a:lnTo>
                  <a:pt x="67195" y="1335404"/>
                </a:lnTo>
                <a:lnTo>
                  <a:pt x="73825" y="1339595"/>
                </a:lnTo>
                <a:lnTo>
                  <a:pt x="54432" y="1339595"/>
                </a:lnTo>
                <a:lnTo>
                  <a:pt x="54432" y="1372108"/>
                </a:lnTo>
                <a:lnTo>
                  <a:pt x="236613" y="1372108"/>
                </a:lnTo>
                <a:lnTo>
                  <a:pt x="236613" y="1337564"/>
                </a:lnTo>
                <a:lnTo>
                  <a:pt x="118186" y="1337564"/>
                </a:lnTo>
                <a:lnTo>
                  <a:pt x="109085" y="1337040"/>
                </a:lnTo>
                <a:lnTo>
                  <a:pt x="79044" y="1316481"/>
                </a:lnTo>
                <a:lnTo>
                  <a:pt x="79044" y="1299717"/>
                </a:lnTo>
                <a:lnTo>
                  <a:pt x="119926" y="1279016"/>
                </a:lnTo>
                <a:lnTo>
                  <a:pt x="185348" y="1279016"/>
                </a:lnTo>
                <a:lnTo>
                  <a:pt x="184813" y="1277429"/>
                </a:lnTo>
                <a:lnTo>
                  <a:pt x="149051" y="1247473"/>
                </a:lnTo>
                <a:lnTo>
                  <a:pt x="135253" y="1244457"/>
                </a:lnTo>
                <a:lnTo>
                  <a:pt x="119672" y="1243456"/>
                </a:lnTo>
                <a:close/>
              </a:path>
              <a:path w="236854" h="1591945">
                <a:moveTo>
                  <a:pt x="185348" y="1279016"/>
                </a:moveTo>
                <a:lnTo>
                  <a:pt x="119926" y="1279016"/>
                </a:lnTo>
                <a:lnTo>
                  <a:pt x="130293" y="1279521"/>
                </a:lnTo>
                <a:lnTo>
                  <a:pt x="139052" y="1281017"/>
                </a:lnTo>
                <a:lnTo>
                  <a:pt x="146272" y="1283517"/>
                </a:lnTo>
                <a:lnTo>
                  <a:pt x="151930" y="1287017"/>
                </a:lnTo>
                <a:lnTo>
                  <a:pt x="158432" y="1292478"/>
                </a:lnTo>
                <a:lnTo>
                  <a:pt x="161683" y="1299209"/>
                </a:lnTo>
                <a:lnTo>
                  <a:pt x="161683" y="1315720"/>
                </a:lnTo>
                <a:lnTo>
                  <a:pt x="128583" y="1337016"/>
                </a:lnTo>
                <a:lnTo>
                  <a:pt x="118186" y="1337564"/>
                </a:lnTo>
                <a:lnTo>
                  <a:pt x="236613" y="1337564"/>
                </a:lnTo>
                <a:lnTo>
                  <a:pt x="236613" y="1337183"/>
                </a:lnTo>
                <a:lnTo>
                  <a:pt x="170129" y="1337183"/>
                </a:lnTo>
                <a:lnTo>
                  <a:pt x="177177" y="1330705"/>
                </a:lnTo>
                <a:lnTo>
                  <a:pt x="182143" y="1324483"/>
                </a:lnTo>
                <a:lnTo>
                  <a:pt x="185039" y="1318514"/>
                </a:lnTo>
                <a:lnTo>
                  <a:pt x="187947" y="1312671"/>
                </a:lnTo>
                <a:lnTo>
                  <a:pt x="189395" y="1306067"/>
                </a:lnTo>
                <a:lnTo>
                  <a:pt x="189368" y="1298447"/>
                </a:lnTo>
                <a:lnTo>
                  <a:pt x="188249" y="1287625"/>
                </a:lnTo>
                <a:lnTo>
                  <a:pt x="185348" y="1279016"/>
                </a:lnTo>
                <a:close/>
              </a:path>
              <a:path w="236854" h="1591945">
                <a:moveTo>
                  <a:pt x="120053" y="1049527"/>
                </a:moveTo>
                <a:lnTo>
                  <a:pt x="81269" y="1060243"/>
                </a:lnTo>
                <a:lnTo>
                  <a:pt x="56313" y="1090485"/>
                </a:lnTo>
                <a:lnTo>
                  <a:pt x="51447" y="1117727"/>
                </a:lnTo>
                <a:lnTo>
                  <a:pt x="51983" y="1127204"/>
                </a:lnTo>
                <a:lnTo>
                  <a:pt x="70531" y="1166780"/>
                </a:lnTo>
                <a:lnTo>
                  <a:pt x="109927" y="1185146"/>
                </a:lnTo>
                <a:lnTo>
                  <a:pt x="118554" y="1185671"/>
                </a:lnTo>
                <a:lnTo>
                  <a:pt x="129496" y="1185146"/>
                </a:lnTo>
                <a:lnTo>
                  <a:pt x="171080" y="1166590"/>
                </a:lnTo>
                <a:lnTo>
                  <a:pt x="182124" y="1149858"/>
                </a:lnTo>
                <a:lnTo>
                  <a:pt x="120421" y="1149858"/>
                </a:lnTo>
                <a:lnTo>
                  <a:pt x="111177" y="1149284"/>
                </a:lnTo>
                <a:lnTo>
                  <a:pt x="79908" y="1126743"/>
                </a:lnTo>
                <a:lnTo>
                  <a:pt x="79908" y="1108455"/>
                </a:lnTo>
                <a:lnTo>
                  <a:pt x="111043" y="1086040"/>
                </a:lnTo>
                <a:lnTo>
                  <a:pt x="120180" y="1085468"/>
                </a:lnTo>
                <a:lnTo>
                  <a:pt x="181717" y="1085468"/>
                </a:lnTo>
                <a:lnTo>
                  <a:pt x="178315" y="1079093"/>
                </a:lnTo>
                <a:lnTo>
                  <a:pt x="169697" y="1068831"/>
                </a:lnTo>
                <a:lnTo>
                  <a:pt x="159207" y="1060350"/>
                </a:lnTo>
                <a:lnTo>
                  <a:pt x="147437" y="1054322"/>
                </a:lnTo>
                <a:lnTo>
                  <a:pt x="134338" y="1050718"/>
                </a:lnTo>
                <a:lnTo>
                  <a:pt x="120053" y="1049527"/>
                </a:lnTo>
                <a:close/>
              </a:path>
              <a:path w="236854" h="1591945">
                <a:moveTo>
                  <a:pt x="181717" y="1085468"/>
                </a:moveTo>
                <a:lnTo>
                  <a:pt x="120180" y="1085468"/>
                </a:lnTo>
                <a:lnTo>
                  <a:pt x="129526" y="1086040"/>
                </a:lnTo>
                <a:lnTo>
                  <a:pt x="137694" y="1087754"/>
                </a:lnTo>
                <a:lnTo>
                  <a:pt x="144708" y="1090628"/>
                </a:lnTo>
                <a:lnTo>
                  <a:pt x="150494" y="1094612"/>
                </a:lnTo>
                <a:lnTo>
                  <a:pt x="157454" y="1100835"/>
                </a:lnTo>
                <a:lnTo>
                  <a:pt x="160934" y="1108455"/>
                </a:lnTo>
                <a:lnTo>
                  <a:pt x="160934" y="1126743"/>
                </a:lnTo>
                <a:lnTo>
                  <a:pt x="129665" y="1149284"/>
                </a:lnTo>
                <a:lnTo>
                  <a:pt x="120421" y="1149858"/>
                </a:lnTo>
                <a:lnTo>
                  <a:pt x="182124" y="1149858"/>
                </a:lnTo>
                <a:lnTo>
                  <a:pt x="184782" y="1143708"/>
                </a:lnTo>
                <a:lnTo>
                  <a:pt x="187345" y="1135173"/>
                </a:lnTo>
                <a:lnTo>
                  <a:pt x="188882" y="1126424"/>
                </a:lnTo>
                <a:lnTo>
                  <a:pt x="189395" y="1117472"/>
                </a:lnTo>
                <a:lnTo>
                  <a:pt x="188163" y="1103425"/>
                </a:lnTo>
                <a:lnTo>
                  <a:pt x="184470" y="1090628"/>
                </a:lnTo>
                <a:lnTo>
                  <a:pt x="181717" y="1085468"/>
                </a:lnTo>
                <a:close/>
              </a:path>
              <a:path w="236854" h="1591945">
                <a:moveTo>
                  <a:pt x="0" y="861313"/>
                </a:moveTo>
                <a:lnTo>
                  <a:pt x="15" y="885070"/>
                </a:lnTo>
                <a:lnTo>
                  <a:pt x="3314" y="886713"/>
                </a:lnTo>
                <a:lnTo>
                  <a:pt x="4978" y="890015"/>
                </a:lnTo>
                <a:lnTo>
                  <a:pt x="4978" y="912494"/>
                </a:lnTo>
                <a:lnTo>
                  <a:pt x="6272" y="932561"/>
                </a:lnTo>
                <a:lnTo>
                  <a:pt x="25730" y="973454"/>
                </a:lnTo>
                <a:lnTo>
                  <a:pt x="71887" y="989778"/>
                </a:lnTo>
                <a:lnTo>
                  <a:pt x="93954" y="990853"/>
                </a:lnTo>
                <a:lnTo>
                  <a:pt x="112714" y="990427"/>
                </a:lnTo>
                <a:lnTo>
                  <a:pt x="151803" y="984122"/>
                </a:lnTo>
                <a:lnTo>
                  <a:pt x="175056" y="967104"/>
                </a:lnTo>
                <a:lnTo>
                  <a:pt x="83883" y="967104"/>
                </a:lnTo>
                <a:lnTo>
                  <a:pt x="72948" y="966531"/>
                </a:lnTo>
                <a:lnTo>
                  <a:pt x="38049" y="949959"/>
                </a:lnTo>
                <a:lnTo>
                  <a:pt x="31998" y="917955"/>
                </a:lnTo>
                <a:lnTo>
                  <a:pt x="32067" y="904748"/>
                </a:lnTo>
                <a:lnTo>
                  <a:pt x="31558" y="892036"/>
                </a:lnTo>
                <a:lnTo>
                  <a:pt x="10528" y="862076"/>
                </a:lnTo>
                <a:lnTo>
                  <a:pt x="0" y="861313"/>
                </a:lnTo>
                <a:close/>
              </a:path>
              <a:path w="236854" h="1591945">
                <a:moveTo>
                  <a:pt x="121919" y="855979"/>
                </a:moveTo>
                <a:lnTo>
                  <a:pt x="75120" y="874013"/>
                </a:lnTo>
                <a:lnTo>
                  <a:pt x="54927" y="917955"/>
                </a:lnTo>
                <a:lnTo>
                  <a:pt x="55379" y="926125"/>
                </a:lnTo>
                <a:lnTo>
                  <a:pt x="77073" y="962933"/>
                </a:lnTo>
                <a:lnTo>
                  <a:pt x="83883" y="967104"/>
                </a:lnTo>
                <a:lnTo>
                  <a:pt x="175056" y="967104"/>
                </a:lnTo>
                <a:lnTo>
                  <a:pt x="179324" y="961389"/>
                </a:lnTo>
                <a:lnTo>
                  <a:pt x="182489" y="955420"/>
                </a:lnTo>
                <a:lnTo>
                  <a:pt x="121411" y="955420"/>
                </a:lnTo>
                <a:lnTo>
                  <a:pt x="112982" y="954829"/>
                </a:lnTo>
                <a:lnTo>
                  <a:pt x="82524" y="915034"/>
                </a:lnTo>
                <a:lnTo>
                  <a:pt x="86105" y="907414"/>
                </a:lnTo>
                <a:lnTo>
                  <a:pt x="121539" y="892175"/>
                </a:lnTo>
                <a:lnTo>
                  <a:pt x="181999" y="892175"/>
                </a:lnTo>
                <a:lnTo>
                  <a:pt x="178201" y="885063"/>
                </a:lnTo>
                <a:lnTo>
                  <a:pt x="169506" y="874902"/>
                </a:lnTo>
                <a:lnTo>
                  <a:pt x="159074" y="866588"/>
                </a:lnTo>
                <a:lnTo>
                  <a:pt x="147666" y="860678"/>
                </a:lnTo>
                <a:lnTo>
                  <a:pt x="135281" y="857150"/>
                </a:lnTo>
                <a:lnTo>
                  <a:pt x="121919" y="855979"/>
                </a:lnTo>
                <a:close/>
              </a:path>
              <a:path w="236854" h="1591945">
                <a:moveTo>
                  <a:pt x="181999" y="892175"/>
                </a:moveTo>
                <a:lnTo>
                  <a:pt x="121539" y="892175"/>
                </a:lnTo>
                <a:lnTo>
                  <a:pt x="129729" y="892746"/>
                </a:lnTo>
                <a:lnTo>
                  <a:pt x="137157" y="894461"/>
                </a:lnTo>
                <a:lnTo>
                  <a:pt x="160439" y="932941"/>
                </a:lnTo>
                <a:lnTo>
                  <a:pt x="156933" y="940307"/>
                </a:lnTo>
                <a:lnTo>
                  <a:pt x="121411" y="955420"/>
                </a:lnTo>
                <a:lnTo>
                  <a:pt x="182489" y="955420"/>
                </a:lnTo>
                <a:lnTo>
                  <a:pt x="189349" y="923903"/>
                </a:lnTo>
                <a:lnTo>
                  <a:pt x="188152" y="909835"/>
                </a:lnTo>
                <a:lnTo>
                  <a:pt x="184423" y="896715"/>
                </a:lnTo>
                <a:lnTo>
                  <a:pt x="181999" y="892175"/>
                </a:lnTo>
                <a:close/>
              </a:path>
              <a:path w="236854" h="1591945">
                <a:moveTo>
                  <a:pt x="186410" y="662558"/>
                </a:moveTo>
                <a:lnTo>
                  <a:pt x="54432" y="662558"/>
                </a:lnTo>
                <a:lnTo>
                  <a:pt x="54432" y="779526"/>
                </a:lnTo>
                <a:lnTo>
                  <a:pt x="130733" y="779526"/>
                </a:lnTo>
                <a:lnTo>
                  <a:pt x="140325" y="779623"/>
                </a:lnTo>
                <a:lnTo>
                  <a:pt x="161302" y="785113"/>
                </a:lnTo>
                <a:lnTo>
                  <a:pt x="161188" y="794638"/>
                </a:lnTo>
                <a:lnTo>
                  <a:pt x="160934" y="798321"/>
                </a:lnTo>
                <a:lnTo>
                  <a:pt x="160680" y="803401"/>
                </a:lnTo>
                <a:lnTo>
                  <a:pt x="160680" y="804163"/>
                </a:lnTo>
                <a:lnTo>
                  <a:pt x="186410" y="804163"/>
                </a:lnTo>
                <a:lnTo>
                  <a:pt x="187896" y="795019"/>
                </a:lnTo>
                <a:lnTo>
                  <a:pt x="188645" y="787653"/>
                </a:lnTo>
                <a:lnTo>
                  <a:pt x="188645" y="772794"/>
                </a:lnTo>
                <a:lnTo>
                  <a:pt x="152512" y="745313"/>
                </a:lnTo>
                <a:lnTo>
                  <a:pt x="142049" y="744981"/>
                </a:lnTo>
                <a:lnTo>
                  <a:pt x="82765" y="744981"/>
                </a:lnTo>
                <a:lnTo>
                  <a:pt x="82765" y="697356"/>
                </a:lnTo>
                <a:lnTo>
                  <a:pt x="186410" y="697356"/>
                </a:lnTo>
                <a:lnTo>
                  <a:pt x="186410" y="662558"/>
                </a:lnTo>
                <a:close/>
              </a:path>
              <a:path w="236854" h="1591945">
                <a:moveTo>
                  <a:pt x="130492" y="476250"/>
                </a:moveTo>
                <a:lnTo>
                  <a:pt x="81922" y="485126"/>
                </a:lnTo>
                <a:lnTo>
                  <a:pt x="52664" y="525081"/>
                </a:lnTo>
                <a:lnTo>
                  <a:pt x="51447" y="538988"/>
                </a:lnTo>
                <a:lnTo>
                  <a:pt x="52539" y="550799"/>
                </a:lnTo>
                <a:lnTo>
                  <a:pt x="80205" y="589922"/>
                </a:lnTo>
                <a:lnTo>
                  <a:pt x="121411" y="599566"/>
                </a:lnTo>
                <a:lnTo>
                  <a:pt x="134556" y="598755"/>
                </a:lnTo>
                <a:lnTo>
                  <a:pt x="176739" y="577099"/>
                </a:lnTo>
                <a:lnTo>
                  <a:pt x="184301" y="563752"/>
                </a:lnTo>
                <a:lnTo>
                  <a:pt x="130492" y="563752"/>
                </a:lnTo>
                <a:lnTo>
                  <a:pt x="130492" y="563244"/>
                </a:lnTo>
                <a:lnTo>
                  <a:pt x="99580" y="563244"/>
                </a:lnTo>
                <a:lnTo>
                  <a:pt x="92049" y="560831"/>
                </a:lnTo>
                <a:lnTo>
                  <a:pt x="86499" y="555751"/>
                </a:lnTo>
                <a:lnTo>
                  <a:pt x="80949" y="550799"/>
                </a:lnTo>
                <a:lnTo>
                  <a:pt x="78168" y="544576"/>
                </a:lnTo>
                <a:lnTo>
                  <a:pt x="78223" y="529716"/>
                </a:lnTo>
                <a:lnTo>
                  <a:pt x="80797" y="523748"/>
                </a:lnTo>
                <a:lnTo>
                  <a:pt x="91325" y="513841"/>
                </a:lnTo>
                <a:lnTo>
                  <a:pt x="99009" y="511175"/>
                </a:lnTo>
                <a:lnTo>
                  <a:pt x="109118" y="510920"/>
                </a:lnTo>
                <a:lnTo>
                  <a:pt x="130492" y="510920"/>
                </a:lnTo>
                <a:lnTo>
                  <a:pt x="130492" y="476250"/>
                </a:lnTo>
                <a:close/>
              </a:path>
              <a:path w="236854" h="1591945">
                <a:moveTo>
                  <a:pt x="150253" y="478154"/>
                </a:moveTo>
                <a:lnTo>
                  <a:pt x="144411" y="512952"/>
                </a:lnTo>
                <a:lnTo>
                  <a:pt x="151041" y="514857"/>
                </a:lnTo>
                <a:lnTo>
                  <a:pt x="155841" y="517651"/>
                </a:lnTo>
                <a:lnTo>
                  <a:pt x="158826" y="521334"/>
                </a:lnTo>
                <a:lnTo>
                  <a:pt x="161813" y="525152"/>
                </a:lnTo>
                <a:lnTo>
                  <a:pt x="163296" y="529716"/>
                </a:lnTo>
                <a:lnTo>
                  <a:pt x="163296" y="543178"/>
                </a:lnTo>
                <a:lnTo>
                  <a:pt x="130492" y="563752"/>
                </a:lnTo>
                <a:lnTo>
                  <a:pt x="184301" y="563752"/>
                </a:lnTo>
                <a:lnTo>
                  <a:pt x="187988" y="551660"/>
                </a:lnTo>
                <a:lnTo>
                  <a:pt x="189395" y="535558"/>
                </a:lnTo>
                <a:lnTo>
                  <a:pt x="188754" y="525081"/>
                </a:lnTo>
                <a:lnTo>
                  <a:pt x="167101" y="486806"/>
                </a:lnTo>
                <a:lnTo>
                  <a:pt x="159247" y="481986"/>
                </a:lnTo>
                <a:lnTo>
                  <a:pt x="150253" y="478154"/>
                </a:lnTo>
                <a:close/>
              </a:path>
              <a:path w="236854" h="1591945">
                <a:moveTo>
                  <a:pt x="130492" y="510920"/>
                </a:moveTo>
                <a:lnTo>
                  <a:pt x="109118" y="510920"/>
                </a:lnTo>
                <a:lnTo>
                  <a:pt x="109118" y="563117"/>
                </a:lnTo>
                <a:lnTo>
                  <a:pt x="99580" y="563244"/>
                </a:lnTo>
                <a:lnTo>
                  <a:pt x="130492" y="563244"/>
                </a:lnTo>
                <a:lnTo>
                  <a:pt x="130492" y="510920"/>
                </a:lnTo>
                <a:close/>
              </a:path>
              <a:path w="236854" h="1591945">
                <a:moveTo>
                  <a:pt x="186410" y="256286"/>
                </a:moveTo>
                <a:lnTo>
                  <a:pt x="54432" y="256286"/>
                </a:lnTo>
                <a:lnTo>
                  <a:pt x="54432" y="299465"/>
                </a:lnTo>
                <a:lnTo>
                  <a:pt x="146392" y="332486"/>
                </a:lnTo>
                <a:lnTo>
                  <a:pt x="54432" y="365251"/>
                </a:lnTo>
                <a:lnTo>
                  <a:pt x="54432" y="408558"/>
                </a:lnTo>
                <a:lnTo>
                  <a:pt x="186410" y="408558"/>
                </a:lnTo>
                <a:lnTo>
                  <a:pt x="186410" y="378713"/>
                </a:lnTo>
                <a:lnTo>
                  <a:pt x="99542" y="378713"/>
                </a:lnTo>
                <a:lnTo>
                  <a:pt x="186410" y="347979"/>
                </a:lnTo>
                <a:lnTo>
                  <a:pt x="186410" y="318134"/>
                </a:lnTo>
                <a:lnTo>
                  <a:pt x="99542" y="286003"/>
                </a:lnTo>
                <a:lnTo>
                  <a:pt x="186410" y="286003"/>
                </a:lnTo>
                <a:lnTo>
                  <a:pt x="186410" y="256286"/>
                </a:lnTo>
                <a:close/>
              </a:path>
              <a:path w="236854" h="1591945">
                <a:moveTo>
                  <a:pt x="185049" y="90677"/>
                </a:moveTo>
                <a:lnTo>
                  <a:pt x="153352" y="90677"/>
                </a:lnTo>
                <a:lnTo>
                  <a:pt x="157657" y="92582"/>
                </a:lnTo>
                <a:lnTo>
                  <a:pt x="162966" y="100202"/>
                </a:lnTo>
                <a:lnTo>
                  <a:pt x="164287" y="106425"/>
                </a:lnTo>
                <a:lnTo>
                  <a:pt x="164287" y="147319"/>
                </a:lnTo>
                <a:lnTo>
                  <a:pt x="54432" y="147319"/>
                </a:lnTo>
                <a:lnTo>
                  <a:pt x="54432" y="182244"/>
                </a:lnTo>
                <a:lnTo>
                  <a:pt x="186410" y="182244"/>
                </a:lnTo>
                <a:lnTo>
                  <a:pt x="186355" y="106425"/>
                </a:lnTo>
                <a:lnTo>
                  <a:pt x="185808" y="95180"/>
                </a:lnTo>
                <a:lnTo>
                  <a:pt x="185049" y="90677"/>
                </a:lnTo>
                <a:close/>
              </a:path>
              <a:path w="236854" h="1591945">
                <a:moveTo>
                  <a:pt x="148005" y="54863"/>
                </a:moveTo>
                <a:lnTo>
                  <a:pt x="139141" y="54863"/>
                </a:lnTo>
                <a:lnTo>
                  <a:pt x="131444" y="57276"/>
                </a:lnTo>
                <a:lnTo>
                  <a:pt x="124891" y="62356"/>
                </a:lnTo>
                <a:lnTo>
                  <a:pt x="118351" y="67309"/>
                </a:lnTo>
                <a:lnTo>
                  <a:pt x="109342" y="106425"/>
                </a:lnTo>
                <a:lnTo>
                  <a:pt x="109232" y="147319"/>
                </a:lnTo>
                <a:lnTo>
                  <a:pt x="130733" y="147319"/>
                </a:lnTo>
                <a:lnTo>
                  <a:pt x="130733" y="124713"/>
                </a:lnTo>
                <a:lnTo>
                  <a:pt x="130955" y="115833"/>
                </a:lnTo>
                <a:lnTo>
                  <a:pt x="141008" y="90677"/>
                </a:lnTo>
                <a:lnTo>
                  <a:pt x="185049" y="90677"/>
                </a:lnTo>
                <a:lnTo>
                  <a:pt x="184002" y="84470"/>
                </a:lnTo>
                <a:lnTo>
                  <a:pt x="156983" y="55675"/>
                </a:lnTo>
                <a:lnTo>
                  <a:pt x="148005" y="54863"/>
                </a:lnTo>
                <a:close/>
              </a:path>
              <a:path w="236854" h="1591945">
                <a:moveTo>
                  <a:pt x="186410" y="0"/>
                </a:moveTo>
                <a:lnTo>
                  <a:pt x="54432" y="0"/>
                </a:lnTo>
                <a:lnTo>
                  <a:pt x="54432" y="34925"/>
                </a:lnTo>
                <a:lnTo>
                  <a:pt x="186410" y="34925"/>
                </a:lnTo>
                <a:lnTo>
                  <a:pt x="18641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44" name="object 11" descr=""/>
          <p:cNvPicPr/>
          <p:nvPr/>
        </p:nvPicPr>
        <p:blipFill>
          <a:blip r:embed="rId4"/>
          <a:stretch/>
        </p:blipFill>
        <p:spPr>
          <a:xfrm>
            <a:off x="135000" y="2743200"/>
            <a:ext cx="65160" cy="68400"/>
          </a:xfrm>
          <a:prstGeom prst="rect">
            <a:avLst/>
          </a:prstGeom>
          <a:ln w="0">
            <a:noFill/>
          </a:ln>
        </p:spPr>
      </p:pic>
      <p:sp>
        <p:nvSpPr>
          <p:cNvPr id="745" name="object 13"/>
          <p:cNvSpPr/>
          <p:nvPr/>
        </p:nvSpPr>
        <p:spPr>
          <a:xfrm>
            <a:off x="4211640" y="2811600"/>
            <a:ext cx="135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360" bIns="0" anchor="t">
            <a:spAutoFit/>
          </a:bodyPr>
          <a:p>
            <a:pPr marL="936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1f377a"/>
                </a:solidFill>
                <a:latin typeface="Arial"/>
              </a:rPr>
              <a:t>Войти в 10-ку лучших!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746" name="object 14"/>
          <p:cNvGrpSpPr/>
          <p:nvPr/>
        </p:nvGrpSpPr>
        <p:grpSpPr>
          <a:xfrm>
            <a:off x="6296040" y="1216080"/>
            <a:ext cx="2646360" cy="4775040"/>
            <a:chOff x="6296040" y="1216080"/>
            <a:chExt cx="2646360" cy="4775040"/>
          </a:xfrm>
        </p:grpSpPr>
        <p:sp>
          <p:nvSpPr>
            <p:cNvPr id="747" name="object 15"/>
            <p:cNvSpPr/>
            <p:nvPr/>
          </p:nvSpPr>
          <p:spPr>
            <a:xfrm>
              <a:off x="6296040" y="1216080"/>
              <a:ext cx="2646360" cy="4775040"/>
            </a:xfrm>
            <a:custGeom>
              <a:avLst/>
              <a:gdLst>
                <a:gd name="textAreaLeft" fmla="*/ 0 w 2646360"/>
                <a:gd name="textAreaRight" fmla="*/ 2646360 w 2646360"/>
                <a:gd name="textAreaTop" fmla="*/ 0 h 4775040"/>
                <a:gd name="textAreaBottom" fmla="*/ 4775400 h 4775040"/>
              </a:gdLst>
              <a:ahLst/>
              <a:rect l="textAreaLeft" t="textAreaTop" r="textAreaRight" b="textAreaBottom"/>
              <a:pathLst>
                <a:path w="3500754" h="5689600">
                  <a:moveTo>
                    <a:pt x="3243833" y="0"/>
                  </a:moveTo>
                  <a:lnTo>
                    <a:pt x="256794" y="0"/>
                  </a:lnTo>
                  <a:lnTo>
                    <a:pt x="210625" y="4136"/>
                  </a:lnTo>
                  <a:lnTo>
                    <a:pt x="167175" y="16061"/>
                  </a:lnTo>
                  <a:lnTo>
                    <a:pt x="127169" y="35051"/>
                  </a:lnTo>
                  <a:lnTo>
                    <a:pt x="91330" y="60383"/>
                  </a:lnTo>
                  <a:lnTo>
                    <a:pt x="60383" y="91330"/>
                  </a:lnTo>
                  <a:lnTo>
                    <a:pt x="35051" y="127169"/>
                  </a:lnTo>
                  <a:lnTo>
                    <a:pt x="16061" y="167175"/>
                  </a:lnTo>
                  <a:lnTo>
                    <a:pt x="4136" y="210625"/>
                  </a:lnTo>
                  <a:lnTo>
                    <a:pt x="0" y="256794"/>
                  </a:lnTo>
                  <a:lnTo>
                    <a:pt x="0" y="5432285"/>
                  </a:lnTo>
                  <a:lnTo>
                    <a:pt x="4136" y="5478447"/>
                  </a:lnTo>
                  <a:lnTo>
                    <a:pt x="16061" y="5521894"/>
                  </a:lnTo>
                  <a:lnTo>
                    <a:pt x="35051" y="5561901"/>
                  </a:lnTo>
                  <a:lnTo>
                    <a:pt x="60383" y="5597743"/>
                  </a:lnTo>
                  <a:lnTo>
                    <a:pt x="91330" y="5628695"/>
                  </a:lnTo>
                  <a:lnTo>
                    <a:pt x="127169" y="5654031"/>
                  </a:lnTo>
                  <a:lnTo>
                    <a:pt x="167175" y="5673025"/>
                  </a:lnTo>
                  <a:lnTo>
                    <a:pt x="210625" y="5684954"/>
                  </a:lnTo>
                  <a:lnTo>
                    <a:pt x="256794" y="5689092"/>
                  </a:lnTo>
                  <a:lnTo>
                    <a:pt x="3243833" y="5689092"/>
                  </a:lnTo>
                  <a:lnTo>
                    <a:pt x="3290002" y="5684954"/>
                  </a:lnTo>
                  <a:lnTo>
                    <a:pt x="3333452" y="5673025"/>
                  </a:lnTo>
                  <a:lnTo>
                    <a:pt x="3373458" y="5654031"/>
                  </a:lnTo>
                  <a:lnTo>
                    <a:pt x="3409297" y="5628695"/>
                  </a:lnTo>
                  <a:lnTo>
                    <a:pt x="3440244" y="5597743"/>
                  </a:lnTo>
                  <a:lnTo>
                    <a:pt x="3465576" y="5561901"/>
                  </a:lnTo>
                  <a:lnTo>
                    <a:pt x="3484566" y="5521894"/>
                  </a:lnTo>
                  <a:lnTo>
                    <a:pt x="3496491" y="5478447"/>
                  </a:lnTo>
                  <a:lnTo>
                    <a:pt x="3500628" y="5432285"/>
                  </a:lnTo>
                  <a:lnTo>
                    <a:pt x="3500628" y="256794"/>
                  </a:lnTo>
                  <a:lnTo>
                    <a:pt x="3496491" y="210625"/>
                  </a:lnTo>
                  <a:lnTo>
                    <a:pt x="3484566" y="167175"/>
                  </a:lnTo>
                  <a:lnTo>
                    <a:pt x="3465576" y="127169"/>
                  </a:lnTo>
                  <a:lnTo>
                    <a:pt x="3440244" y="91330"/>
                  </a:lnTo>
                  <a:lnTo>
                    <a:pt x="3409297" y="60383"/>
                  </a:lnTo>
                  <a:lnTo>
                    <a:pt x="3373458" y="35052"/>
                  </a:lnTo>
                  <a:lnTo>
                    <a:pt x="3333452" y="16061"/>
                  </a:lnTo>
                  <a:lnTo>
                    <a:pt x="3290002" y="4136"/>
                  </a:lnTo>
                  <a:lnTo>
                    <a:pt x="32438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48" name="object 16"/>
            <p:cNvSpPr/>
            <p:nvPr/>
          </p:nvSpPr>
          <p:spPr>
            <a:xfrm>
              <a:off x="6296040" y="1216080"/>
              <a:ext cx="2646360" cy="4775040"/>
            </a:xfrm>
            <a:custGeom>
              <a:avLst/>
              <a:gdLst>
                <a:gd name="textAreaLeft" fmla="*/ 0 w 2646360"/>
                <a:gd name="textAreaRight" fmla="*/ 2646360 w 2646360"/>
                <a:gd name="textAreaTop" fmla="*/ 0 h 4775040"/>
                <a:gd name="textAreaBottom" fmla="*/ 4775400 h 4775040"/>
              </a:gdLst>
              <a:ahLst/>
              <a:rect l="textAreaLeft" t="textAreaTop" r="textAreaRight" b="textAreaBottom"/>
              <a:pathLst>
                <a:path w="3500754" h="5689600">
                  <a:moveTo>
                    <a:pt x="0" y="256794"/>
                  </a:moveTo>
                  <a:lnTo>
                    <a:pt x="4136" y="210625"/>
                  </a:lnTo>
                  <a:lnTo>
                    <a:pt x="16061" y="167175"/>
                  </a:lnTo>
                  <a:lnTo>
                    <a:pt x="35051" y="127169"/>
                  </a:lnTo>
                  <a:lnTo>
                    <a:pt x="60383" y="91330"/>
                  </a:lnTo>
                  <a:lnTo>
                    <a:pt x="91330" y="60383"/>
                  </a:lnTo>
                  <a:lnTo>
                    <a:pt x="127169" y="35051"/>
                  </a:lnTo>
                  <a:lnTo>
                    <a:pt x="167175" y="16061"/>
                  </a:lnTo>
                  <a:lnTo>
                    <a:pt x="210625" y="4136"/>
                  </a:lnTo>
                  <a:lnTo>
                    <a:pt x="256794" y="0"/>
                  </a:lnTo>
                  <a:lnTo>
                    <a:pt x="3243833" y="0"/>
                  </a:lnTo>
                  <a:lnTo>
                    <a:pt x="3290002" y="4136"/>
                  </a:lnTo>
                  <a:lnTo>
                    <a:pt x="3333452" y="16061"/>
                  </a:lnTo>
                  <a:lnTo>
                    <a:pt x="3373458" y="35052"/>
                  </a:lnTo>
                  <a:lnTo>
                    <a:pt x="3409297" y="60383"/>
                  </a:lnTo>
                  <a:lnTo>
                    <a:pt x="3440244" y="91330"/>
                  </a:lnTo>
                  <a:lnTo>
                    <a:pt x="3465576" y="127169"/>
                  </a:lnTo>
                  <a:lnTo>
                    <a:pt x="3484566" y="167175"/>
                  </a:lnTo>
                  <a:lnTo>
                    <a:pt x="3496491" y="210625"/>
                  </a:lnTo>
                  <a:lnTo>
                    <a:pt x="3500628" y="256794"/>
                  </a:lnTo>
                  <a:lnTo>
                    <a:pt x="3500628" y="5432285"/>
                  </a:lnTo>
                  <a:lnTo>
                    <a:pt x="3496491" y="5478447"/>
                  </a:lnTo>
                  <a:lnTo>
                    <a:pt x="3484566" y="5521894"/>
                  </a:lnTo>
                  <a:lnTo>
                    <a:pt x="3465576" y="5561901"/>
                  </a:lnTo>
                  <a:lnTo>
                    <a:pt x="3440244" y="5597743"/>
                  </a:lnTo>
                  <a:lnTo>
                    <a:pt x="3409297" y="5628695"/>
                  </a:lnTo>
                  <a:lnTo>
                    <a:pt x="3373458" y="5654031"/>
                  </a:lnTo>
                  <a:lnTo>
                    <a:pt x="3333452" y="5673025"/>
                  </a:lnTo>
                  <a:lnTo>
                    <a:pt x="3290002" y="5684954"/>
                  </a:lnTo>
                  <a:lnTo>
                    <a:pt x="3243833" y="5689092"/>
                  </a:lnTo>
                  <a:lnTo>
                    <a:pt x="256794" y="5689092"/>
                  </a:lnTo>
                  <a:lnTo>
                    <a:pt x="210625" y="5684954"/>
                  </a:lnTo>
                  <a:lnTo>
                    <a:pt x="167175" y="5673025"/>
                  </a:lnTo>
                  <a:lnTo>
                    <a:pt x="127169" y="5654031"/>
                  </a:lnTo>
                  <a:lnTo>
                    <a:pt x="91330" y="5628695"/>
                  </a:lnTo>
                  <a:lnTo>
                    <a:pt x="60383" y="5597743"/>
                  </a:lnTo>
                  <a:lnTo>
                    <a:pt x="35051" y="5561901"/>
                  </a:lnTo>
                  <a:lnTo>
                    <a:pt x="16061" y="5521894"/>
                  </a:lnTo>
                  <a:lnTo>
                    <a:pt x="4136" y="5478447"/>
                  </a:lnTo>
                  <a:lnTo>
                    <a:pt x="0" y="5432285"/>
                  </a:lnTo>
                  <a:lnTo>
                    <a:pt x="0" y="256794"/>
                  </a:lnTo>
                  <a:close/>
                </a:path>
              </a:pathLst>
            </a:custGeom>
            <a:noFill/>
            <a:ln w="12240">
              <a:solidFill>
                <a:srgbClr val="447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49" name="object 17"/>
            <p:cNvSpPr/>
            <p:nvPr/>
          </p:nvSpPr>
          <p:spPr>
            <a:xfrm>
              <a:off x="6464160" y="1351440"/>
              <a:ext cx="2389680" cy="170280"/>
            </a:xfrm>
            <a:custGeom>
              <a:avLst/>
              <a:gdLst>
                <a:gd name="textAreaLeft" fmla="*/ 0 w 2389680"/>
                <a:gd name="textAreaRight" fmla="*/ 2390040 w 2389680"/>
                <a:gd name="textAreaTop" fmla="*/ 0 h 170280"/>
                <a:gd name="textAreaBottom" fmla="*/ 170280 h 170280"/>
              </a:gdLst>
              <a:ahLst/>
              <a:rect l="textAreaLeft" t="textAreaTop" r="textAreaRight" b="textAreaBottom"/>
              <a:pathLst>
                <a:path w="3161029" h="203200">
                  <a:moveTo>
                    <a:pt x="3160776" y="0"/>
                  </a:moveTo>
                  <a:lnTo>
                    <a:pt x="0" y="0"/>
                  </a:lnTo>
                  <a:lnTo>
                    <a:pt x="0" y="202691"/>
                  </a:lnTo>
                  <a:lnTo>
                    <a:pt x="3160776" y="202691"/>
                  </a:lnTo>
                  <a:lnTo>
                    <a:pt x="316077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750" name="object 18"/>
          <p:cNvSpPr/>
          <p:nvPr/>
        </p:nvSpPr>
        <p:spPr>
          <a:xfrm>
            <a:off x="6622920" y="1347840"/>
            <a:ext cx="209088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360" bIns="0" anchor="t">
            <a:spAutoFit/>
          </a:bodyPr>
          <a:p>
            <a:pPr marL="936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Ключевые направления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object 19"/>
          <p:cNvSpPr/>
          <p:nvPr/>
        </p:nvSpPr>
        <p:spPr>
          <a:xfrm>
            <a:off x="7277040" y="1932120"/>
            <a:ext cx="6429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936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ЗНАНИЕ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752" name="object 20"/>
          <p:cNvGrpSpPr/>
          <p:nvPr/>
        </p:nvGrpSpPr>
        <p:grpSpPr>
          <a:xfrm>
            <a:off x="5546880" y="1700280"/>
            <a:ext cx="1571400" cy="3854520"/>
            <a:chOff x="5546880" y="1700280"/>
            <a:chExt cx="1571400" cy="3854520"/>
          </a:xfrm>
        </p:grpSpPr>
        <p:pic>
          <p:nvPicPr>
            <p:cNvPr id="753" name="object 21" descr=""/>
            <p:cNvPicPr/>
            <p:nvPr/>
          </p:nvPicPr>
          <p:blipFill>
            <a:blip r:embed="rId5"/>
            <a:stretch/>
          </p:blipFill>
          <p:spPr>
            <a:xfrm>
              <a:off x="6451560" y="1700280"/>
              <a:ext cx="635760" cy="41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4" name="object 22" descr=""/>
            <p:cNvPicPr/>
            <p:nvPr/>
          </p:nvPicPr>
          <p:blipFill>
            <a:blip r:embed="rId6"/>
            <a:stretch/>
          </p:blipFill>
          <p:spPr>
            <a:xfrm>
              <a:off x="6451560" y="2179080"/>
              <a:ext cx="635760" cy="41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5" name="object 23" descr=""/>
            <p:cNvPicPr/>
            <p:nvPr/>
          </p:nvPicPr>
          <p:blipFill>
            <a:blip r:embed="rId7"/>
            <a:stretch/>
          </p:blipFill>
          <p:spPr>
            <a:xfrm>
              <a:off x="6451560" y="2681640"/>
              <a:ext cx="635760" cy="41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6" name="object 24" descr=""/>
            <p:cNvPicPr/>
            <p:nvPr/>
          </p:nvPicPr>
          <p:blipFill>
            <a:blip r:embed="rId8"/>
            <a:stretch/>
          </p:blipFill>
          <p:spPr>
            <a:xfrm>
              <a:off x="6451560" y="3184200"/>
              <a:ext cx="635760" cy="41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7" name="object 25" descr=""/>
            <p:cNvPicPr/>
            <p:nvPr/>
          </p:nvPicPr>
          <p:blipFill>
            <a:blip r:embed="rId9"/>
            <a:stretch/>
          </p:blipFill>
          <p:spPr>
            <a:xfrm>
              <a:off x="6451560" y="3687840"/>
              <a:ext cx="635760" cy="41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object 26" descr=""/>
            <p:cNvPicPr/>
            <p:nvPr/>
          </p:nvPicPr>
          <p:blipFill>
            <a:blip r:embed="rId10"/>
            <a:stretch/>
          </p:blipFill>
          <p:spPr>
            <a:xfrm>
              <a:off x="5546880" y="2610720"/>
              <a:ext cx="664200" cy="16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9" name="object 27" descr=""/>
            <p:cNvPicPr/>
            <p:nvPr/>
          </p:nvPicPr>
          <p:blipFill>
            <a:blip r:embed="rId11"/>
            <a:stretch/>
          </p:blipFill>
          <p:spPr>
            <a:xfrm>
              <a:off x="6471720" y="5135040"/>
              <a:ext cx="634680" cy="41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0" name="object 28" descr=""/>
            <p:cNvPicPr/>
            <p:nvPr/>
          </p:nvPicPr>
          <p:blipFill>
            <a:blip r:embed="rId12"/>
            <a:stretch/>
          </p:blipFill>
          <p:spPr>
            <a:xfrm>
              <a:off x="6435000" y="4160880"/>
              <a:ext cx="634680" cy="41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1" name="object 29" descr=""/>
            <p:cNvPicPr/>
            <p:nvPr/>
          </p:nvPicPr>
          <p:blipFill>
            <a:blip r:embed="rId13"/>
            <a:stretch/>
          </p:blipFill>
          <p:spPr>
            <a:xfrm>
              <a:off x="6482520" y="4638600"/>
              <a:ext cx="635760" cy="419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2" name="object 30"/>
          <p:cNvSpPr/>
          <p:nvPr/>
        </p:nvSpPr>
        <p:spPr>
          <a:xfrm>
            <a:off x="7277040" y="2371680"/>
            <a:ext cx="854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936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ЗДОРОВЬЕ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3" name="object 31"/>
          <p:cNvSpPr/>
          <p:nvPr/>
        </p:nvSpPr>
        <p:spPr>
          <a:xfrm>
            <a:off x="7277040" y="2836800"/>
            <a:ext cx="10587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936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ТВОРЧЕСТВО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object 32"/>
          <p:cNvSpPr/>
          <p:nvPr/>
        </p:nvSpPr>
        <p:spPr>
          <a:xfrm>
            <a:off x="7277040" y="3365640"/>
            <a:ext cx="10828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936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ВОСПИТАНИЕ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object 33"/>
          <p:cNvSpPr/>
          <p:nvPr/>
        </p:nvSpPr>
        <p:spPr>
          <a:xfrm>
            <a:off x="7277040" y="3857760"/>
            <a:ext cx="15303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936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ПРОФОРИЕНТАЦИЯ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object 34"/>
          <p:cNvSpPr/>
          <p:nvPr/>
        </p:nvSpPr>
        <p:spPr>
          <a:xfrm>
            <a:off x="719280" y="6380280"/>
            <a:ext cx="792612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936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f377a"/>
                </a:solidFill>
                <a:latin typeface="Calibri"/>
              </a:rPr>
              <a:t>Единое образовательное пространство (обучение и воспитание)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object 35"/>
          <p:cNvSpPr/>
          <p:nvPr/>
        </p:nvSpPr>
        <p:spPr>
          <a:xfrm>
            <a:off x="-95400" y="3240"/>
            <a:ext cx="4303800" cy="66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360" bIns="0" anchor="t">
            <a:spAutoFit/>
          </a:bodyPr>
          <a:p>
            <a:pPr marL="64440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С о ц и а л ь н ы е :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64440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Проблема личностного и профессионального самоопределения детей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644400"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Замещение традиционного общения сетевым,  интернет-зависимость, кибербуллинг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644400"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Неоднородность условий семейного воспитания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644400"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Низкая мотивация к обучению,самообразованию,  саморазвитию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644400"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Учащение случаев социально-опасного поведения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644400"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Неоднородность организации досуга во внеурочное  время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644400"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Рост числа обучающихся с ОВЗ, с инвалидностью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644400"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Рост числа обучающихся с неродным русским языком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644400"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Проблемы с организацией питания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644400">
              <a:lnSpc>
                <a:spcPts val="1599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П р о ф е с с и о н а л ь н ы е :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644400">
              <a:lnSpc>
                <a:spcPts val="106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Увеличение непедагогической нагрузки учителей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644400"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Привлечение репетиторов для достижения высоких  образовательных результатов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644400"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Неоднородность подходов к организации  образовательной среды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644400"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Неоднородность уровня профессиональной  компетентности учителей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644400"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Неоднородность программного и учебно-  методического обеспечения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644400"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Дефицит отдельных групп педагогических кадров (логопед, дефектолог, психолог и др.)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8" name="object 37"/>
          <p:cNvSpPr/>
          <p:nvPr/>
        </p:nvSpPr>
        <p:spPr>
          <a:xfrm>
            <a:off x="7250040" y="5168880"/>
            <a:ext cx="156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936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ОБРАЗОВАТЕЛЬНАЯ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9360"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СРЕДА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object 39"/>
          <p:cNvSpPr/>
          <p:nvPr/>
        </p:nvSpPr>
        <p:spPr>
          <a:xfrm>
            <a:off x="7277040" y="4237200"/>
            <a:ext cx="720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936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УЧИТЕЛЬ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object 40"/>
          <p:cNvSpPr/>
          <p:nvPr/>
        </p:nvSpPr>
        <p:spPr>
          <a:xfrm>
            <a:off x="7250040" y="4694400"/>
            <a:ext cx="158112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936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ШКОЛЬНЫЙ КЛИМАТ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Номер слайда 2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F068-906A-4D79-A9DB-E122633DA702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2" name="object 2"/>
          <p:cNvGrpSpPr/>
          <p:nvPr/>
        </p:nvGrpSpPr>
        <p:grpSpPr>
          <a:xfrm>
            <a:off x="3265560" y="2281320"/>
            <a:ext cx="5288040" cy="1981080"/>
            <a:chOff x="3265560" y="2281320"/>
            <a:chExt cx="5288040" cy="1981080"/>
          </a:xfrm>
        </p:grpSpPr>
        <p:sp>
          <p:nvSpPr>
            <p:cNvPr id="773" name="object 4"/>
            <p:cNvSpPr/>
            <p:nvPr/>
          </p:nvSpPr>
          <p:spPr>
            <a:xfrm>
              <a:off x="3265560" y="2331720"/>
              <a:ext cx="5288040" cy="1930680"/>
            </a:xfrm>
            <a:custGeom>
              <a:avLst/>
              <a:gdLst>
                <a:gd name="textAreaLeft" fmla="*/ 0 w 5288040"/>
                <a:gd name="textAreaRight" fmla="*/ 5288040 w 5288040"/>
                <a:gd name="textAreaTop" fmla="*/ 0 h 1930680"/>
                <a:gd name="textAreaBottom" fmla="*/ 1931040 h 1930680"/>
              </a:gdLst>
              <a:ahLst/>
              <a:rect l="textAreaLeft" t="textAreaTop" r="textAreaRight" b="textAreaBottom"/>
              <a:pathLst>
                <a:path w="7049134" h="2574290">
                  <a:moveTo>
                    <a:pt x="4097171" y="1092384"/>
                  </a:moveTo>
                  <a:lnTo>
                    <a:pt x="4066358" y="1057517"/>
                  </a:lnTo>
                  <a:lnTo>
                    <a:pt x="4040680" y="1019949"/>
                  </a:lnTo>
                  <a:lnTo>
                    <a:pt x="4020137" y="980170"/>
                  </a:lnTo>
                  <a:lnTo>
                    <a:pt x="4004730" y="938672"/>
                  </a:lnTo>
                  <a:lnTo>
                    <a:pt x="3994459" y="895944"/>
                  </a:lnTo>
                  <a:lnTo>
                    <a:pt x="3989323" y="852477"/>
                  </a:lnTo>
                  <a:lnTo>
                    <a:pt x="3989323" y="808763"/>
                  </a:lnTo>
                  <a:lnTo>
                    <a:pt x="3994459" y="765293"/>
                  </a:lnTo>
                  <a:lnTo>
                    <a:pt x="4004730" y="722556"/>
                  </a:lnTo>
                  <a:lnTo>
                    <a:pt x="4020137" y="681044"/>
                  </a:lnTo>
                  <a:lnTo>
                    <a:pt x="4040680" y="641247"/>
                  </a:lnTo>
                  <a:lnTo>
                    <a:pt x="4066358" y="603656"/>
                  </a:lnTo>
                  <a:lnTo>
                    <a:pt x="4097171" y="568763"/>
                  </a:lnTo>
                  <a:lnTo>
                    <a:pt x="4558054" y="107753"/>
                  </a:lnTo>
                  <a:lnTo>
                    <a:pt x="4592948" y="76966"/>
                  </a:lnTo>
                  <a:lnTo>
                    <a:pt x="4630538" y="51311"/>
                  </a:lnTo>
                  <a:lnTo>
                    <a:pt x="4670335" y="30786"/>
                  </a:lnTo>
                  <a:lnTo>
                    <a:pt x="4711847" y="15393"/>
                  </a:lnTo>
                  <a:lnTo>
                    <a:pt x="4754584" y="5131"/>
                  </a:lnTo>
                  <a:lnTo>
                    <a:pt x="4798055" y="0"/>
                  </a:lnTo>
                  <a:lnTo>
                    <a:pt x="4841769" y="0"/>
                  </a:lnTo>
                  <a:lnTo>
                    <a:pt x="4885235" y="5131"/>
                  </a:lnTo>
                  <a:lnTo>
                    <a:pt x="4927963" y="15393"/>
                  </a:lnTo>
                  <a:lnTo>
                    <a:pt x="4969462" y="30786"/>
                  </a:lnTo>
                  <a:lnTo>
                    <a:pt x="5009241" y="51311"/>
                  </a:lnTo>
                  <a:lnTo>
                    <a:pt x="5046809" y="76966"/>
                  </a:lnTo>
                  <a:lnTo>
                    <a:pt x="5081675" y="107753"/>
                  </a:lnTo>
                  <a:lnTo>
                    <a:pt x="5542685" y="568763"/>
                  </a:lnTo>
                  <a:lnTo>
                    <a:pt x="5573499" y="603656"/>
                  </a:lnTo>
                  <a:lnTo>
                    <a:pt x="5599177" y="641247"/>
                  </a:lnTo>
                  <a:lnTo>
                    <a:pt x="5619719" y="681044"/>
                  </a:lnTo>
                  <a:lnTo>
                    <a:pt x="5635126" y="722556"/>
                  </a:lnTo>
                  <a:lnTo>
                    <a:pt x="5645397" y="765293"/>
                  </a:lnTo>
                  <a:lnTo>
                    <a:pt x="5650533" y="808763"/>
                  </a:lnTo>
                  <a:lnTo>
                    <a:pt x="5650533" y="852477"/>
                  </a:lnTo>
                  <a:lnTo>
                    <a:pt x="5645397" y="895944"/>
                  </a:lnTo>
                  <a:lnTo>
                    <a:pt x="5635126" y="938672"/>
                  </a:lnTo>
                  <a:lnTo>
                    <a:pt x="5619719" y="980170"/>
                  </a:lnTo>
                  <a:lnTo>
                    <a:pt x="5599177" y="1019949"/>
                  </a:lnTo>
                  <a:lnTo>
                    <a:pt x="5573499" y="1057517"/>
                  </a:lnTo>
                  <a:lnTo>
                    <a:pt x="5542685" y="1092384"/>
                  </a:lnTo>
                  <a:lnTo>
                    <a:pt x="5081675" y="1553394"/>
                  </a:lnTo>
                  <a:lnTo>
                    <a:pt x="5046809" y="1584207"/>
                  </a:lnTo>
                  <a:lnTo>
                    <a:pt x="5009241" y="1609885"/>
                  </a:lnTo>
                  <a:lnTo>
                    <a:pt x="4969462" y="1630428"/>
                  </a:lnTo>
                  <a:lnTo>
                    <a:pt x="4927963" y="1645835"/>
                  </a:lnTo>
                  <a:lnTo>
                    <a:pt x="4885235" y="1656106"/>
                  </a:lnTo>
                  <a:lnTo>
                    <a:pt x="4841769" y="1661241"/>
                  </a:lnTo>
                  <a:lnTo>
                    <a:pt x="4798055" y="1661241"/>
                  </a:lnTo>
                  <a:lnTo>
                    <a:pt x="4754584" y="1656106"/>
                  </a:lnTo>
                  <a:lnTo>
                    <a:pt x="4711847" y="1645835"/>
                  </a:lnTo>
                  <a:lnTo>
                    <a:pt x="4670335" y="1630428"/>
                  </a:lnTo>
                  <a:lnTo>
                    <a:pt x="4630538" y="1609885"/>
                  </a:lnTo>
                  <a:lnTo>
                    <a:pt x="4592948" y="1584207"/>
                  </a:lnTo>
                  <a:lnTo>
                    <a:pt x="4558054" y="1553394"/>
                  </a:lnTo>
                  <a:lnTo>
                    <a:pt x="4097171" y="1092384"/>
                  </a:lnTo>
                  <a:close/>
                </a:path>
                <a:path w="7049134" h="2574290">
                  <a:moveTo>
                    <a:pt x="2764433" y="1987099"/>
                  </a:moveTo>
                  <a:lnTo>
                    <a:pt x="2733620" y="1952232"/>
                  </a:lnTo>
                  <a:lnTo>
                    <a:pt x="2707942" y="1914664"/>
                  </a:lnTo>
                  <a:lnTo>
                    <a:pt x="2687399" y="1874885"/>
                  </a:lnTo>
                  <a:lnTo>
                    <a:pt x="2671992" y="1833387"/>
                  </a:lnTo>
                  <a:lnTo>
                    <a:pt x="2661721" y="1790659"/>
                  </a:lnTo>
                  <a:lnTo>
                    <a:pt x="2656585" y="1747192"/>
                  </a:lnTo>
                  <a:lnTo>
                    <a:pt x="2656585" y="1703478"/>
                  </a:lnTo>
                  <a:lnTo>
                    <a:pt x="2661721" y="1660008"/>
                  </a:lnTo>
                  <a:lnTo>
                    <a:pt x="2671992" y="1617271"/>
                  </a:lnTo>
                  <a:lnTo>
                    <a:pt x="2687399" y="1575759"/>
                  </a:lnTo>
                  <a:lnTo>
                    <a:pt x="2707942" y="1535962"/>
                  </a:lnTo>
                  <a:lnTo>
                    <a:pt x="2733620" y="1498371"/>
                  </a:lnTo>
                  <a:lnTo>
                    <a:pt x="2764433" y="1463478"/>
                  </a:lnTo>
                  <a:lnTo>
                    <a:pt x="3225316" y="1002468"/>
                  </a:lnTo>
                  <a:lnTo>
                    <a:pt x="3260210" y="971681"/>
                  </a:lnTo>
                  <a:lnTo>
                    <a:pt x="3297800" y="946026"/>
                  </a:lnTo>
                  <a:lnTo>
                    <a:pt x="3337597" y="925501"/>
                  </a:lnTo>
                  <a:lnTo>
                    <a:pt x="3379109" y="910108"/>
                  </a:lnTo>
                  <a:lnTo>
                    <a:pt x="3421846" y="899846"/>
                  </a:lnTo>
                  <a:lnTo>
                    <a:pt x="3465317" y="894714"/>
                  </a:lnTo>
                  <a:lnTo>
                    <a:pt x="3509031" y="894714"/>
                  </a:lnTo>
                  <a:lnTo>
                    <a:pt x="3552497" y="899846"/>
                  </a:lnTo>
                  <a:lnTo>
                    <a:pt x="3595225" y="910108"/>
                  </a:lnTo>
                  <a:lnTo>
                    <a:pt x="3636724" y="925501"/>
                  </a:lnTo>
                  <a:lnTo>
                    <a:pt x="3676503" y="946026"/>
                  </a:lnTo>
                  <a:lnTo>
                    <a:pt x="3714071" y="971681"/>
                  </a:lnTo>
                  <a:lnTo>
                    <a:pt x="3748937" y="1002468"/>
                  </a:lnTo>
                  <a:lnTo>
                    <a:pt x="4209947" y="1463478"/>
                  </a:lnTo>
                  <a:lnTo>
                    <a:pt x="4240761" y="1498371"/>
                  </a:lnTo>
                  <a:lnTo>
                    <a:pt x="4266439" y="1535962"/>
                  </a:lnTo>
                  <a:lnTo>
                    <a:pt x="4286981" y="1575759"/>
                  </a:lnTo>
                  <a:lnTo>
                    <a:pt x="4302388" y="1617271"/>
                  </a:lnTo>
                  <a:lnTo>
                    <a:pt x="4312659" y="1660008"/>
                  </a:lnTo>
                  <a:lnTo>
                    <a:pt x="4317795" y="1703478"/>
                  </a:lnTo>
                  <a:lnTo>
                    <a:pt x="4317795" y="1747192"/>
                  </a:lnTo>
                  <a:lnTo>
                    <a:pt x="4312659" y="1790659"/>
                  </a:lnTo>
                  <a:lnTo>
                    <a:pt x="4302388" y="1833387"/>
                  </a:lnTo>
                  <a:lnTo>
                    <a:pt x="4286981" y="1874885"/>
                  </a:lnTo>
                  <a:lnTo>
                    <a:pt x="4266439" y="1914664"/>
                  </a:lnTo>
                  <a:lnTo>
                    <a:pt x="4240761" y="1952232"/>
                  </a:lnTo>
                  <a:lnTo>
                    <a:pt x="4209947" y="1987099"/>
                  </a:lnTo>
                  <a:lnTo>
                    <a:pt x="3748937" y="2448109"/>
                  </a:lnTo>
                  <a:lnTo>
                    <a:pt x="3714071" y="2478922"/>
                  </a:lnTo>
                  <a:lnTo>
                    <a:pt x="3676503" y="2504600"/>
                  </a:lnTo>
                  <a:lnTo>
                    <a:pt x="3636724" y="2525143"/>
                  </a:lnTo>
                  <a:lnTo>
                    <a:pt x="3595225" y="2540550"/>
                  </a:lnTo>
                  <a:lnTo>
                    <a:pt x="3552497" y="2550821"/>
                  </a:lnTo>
                  <a:lnTo>
                    <a:pt x="3509031" y="2555956"/>
                  </a:lnTo>
                  <a:lnTo>
                    <a:pt x="3465317" y="2555956"/>
                  </a:lnTo>
                  <a:lnTo>
                    <a:pt x="3421846" y="2550821"/>
                  </a:lnTo>
                  <a:lnTo>
                    <a:pt x="3379109" y="2540550"/>
                  </a:lnTo>
                  <a:lnTo>
                    <a:pt x="3337597" y="2525143"/>
                  </a:lnTo>
                  <a:lnTo>
                    <a:pt x="3297800" y="2504600"/>
                  </a:lnTo>
                  <a:lnTo>
                    <a:pt x="3260210" y="2478922"/>
                  </a:lnTo>
                  <a:lnTo>
                    <a:pt x="3225316" y="2448109"/>
                  </a:lnTo>
                  <a:lnTo>
                    <a:pt x="2764433" y="1987099"/>
                  </a:lnTo>
                  <a:close/>
                </a:path>
                <a:path w="7049134" h="2574290">
                  <a:moveTo>
                    <a:pt x="107847" y="2005006"/>
                  </a:moveTo>
                  <a:lnTo>
                    <a:pt x="77034" y="1970112"/>
                  </a:lnTo>
                  <a:lnTo>
                    <a:pt x="51356" y="1932522"/>
                  </a:lnTo>
                  <a:lnTo>
                    <a:pt x="30813" y="1892725"/>
                  </a:lnTo>
                  <a:lnTo>
                    <a:pt x="15406" y="1851212"/>
                  </a:lnTo>
                  <a:lnTo>
                    <a:pt x="5135" y="1808476"/>
                  </a:lnTo>
                  <a:lnTo>
                    <a:pt x="0" y="1765005"/>
                  </a:lnTo>
                  <a:lnTo>
                    <a:pt x="0" y="1721291"/>
                  </a:lnTo>
                  <a:lnTo>
                    <a:pt x="5135" y="1677824"/>
                  </a:lnTo>
                  <a:lnTo>
                    <a:pt x="15406" y="1635097"/>
                  </a:lnTo>
                  <a:lnTo>
                    <a:pt x="30813" y="1593598"/>
                  </a:lnTo>
                  <a:lnTo>
                    <a:pt x="51356" y="1553819"/>
                  </a:lnTo>
                  <a:lnTo>
                    <a:pt x="77034" y="1516251"/>
                  </a:lnTo>
                  <a:lnTo>
                    <a:pt x="107847" y="1481385"/>
                  </a:lnTo>
                  <a:lnTo>
                    <a:pt x="568857" y="1020375"/>
                  </a:lnTo>
                  <a:lnTo>
                    <a:pt x="603724" y="989561"/>
                  </a:lnTo>
                  <a:lnTo>
                    <a:pt x="641292" y="963883"/>
                  </a:lnTo>
                  <a:lnTo>
                    <a:pt x="681071" y="943340"/>
                  </a:lnTo>
                  <a:lnTo>
                    <a:pt x="722569" y="927934"/>
                  </a:lnTo>
                  <a:lnTo>
                    <a:pt x="765297" y="917662"/>
                  </a:lnTo>
                  <a:lnTo>
                    <a:pt x="808763" y="912527"/>
                  </a:lnTo>
                  <a:lnTo>
                    <a:pt x="852477" y="912527"/>
                  </a:lnTo>
                  <a:lnTo>
                    <a:pt x="895948" y="917662"/>
                  </a:lnTo>
                  <a:lnTo>
                    <a:pt x="938685" y="927934"/>
                  </a:lnTo>
                  <a:lnTo>
                    <a:pt x="980197" y="943340"/>
                  </a:lnTo>
                  <a:lnTo>
                    <a:pt x="1019994" y="963883"/>
                  </a:lnTo>
                  <a:lnTo>
                    <a:pt x="1057585" y="989561"/>
                  </a:lnTo>
                  <a:lnTo>
                    <a:pt x="1092478" y="1020375"/>
                  </a:lnTo>
                  <a:lnTo>
                    <a:pt x="1553488" y="1481385"/>
                  </a:lnTo>
                  <a:lnTo>
                    <a:pt x="1584275" y="1516251"/>
                  </a:lnTo>
                  <a:lnTo>
                    <a:pt x="1609930" y="1553819"/>
                  </a:lnTo>
                  <a:lnTo>
                    <a:pt x="1630455" y="1593598"/>
                  </a:lnTo>
                  <a:lnTo>
                    <a:pt x="1645848" y="1635097"/>
                  </a:lnTo>
                  <a:lnTo>
                    <a:pt x="1656110" y="1677824"/>
                  </a:lnTo>
                  <a:lnTo>
                    <a:pt x="1661241" y="1721291"/>
                  </a:lnTo>
                  <a:lnTo>
                    <a:pt x="1661241" y="1765005"/>
                  </a:lnTo>
                  <a:lnTo>
                    <a:pt x="1656110" y="1808476"/>
                  </a:lnTo>
                  <a:lnTo>
                    <a:pt x="1645848" y="1851212"/>
                  </a:lnTo>
                  <a:lnTo>
                    <a:pt x="1630455" y="1892725"/>
                  </a:lnTo>
                  <a:lnTo>
                    <a:pt x="1609930" y="1932522"/>
                  </a:lnTo>
                  <a:lnTo>
                    <a:pt x="1584275" y="1970112"/>
                  </a:lnTo>
                  <a:lnTo>
                    <a:pt x="1553488" y="2005006"/>
                  </a:lnTo>
                  <a:lnTo>
                    <a:pt x="1092478" y="2465889"/>
                  </a:lnTo>
                  <a:lnTo>
                    <a:pt x="1057585" y="2496702"/>
                  </a:lnTo>
                  <a:lnTo>
                    <a:pt x="1019994" y="2522380"/>
                  </a:lnTo>
                  <a:lnTo>
                    <a:pt x="980197" y="2542923"/>
                  </a:lnTo>
                  <a:lnTo>
                    <a:pt x="938685" y="2558330"/>
                  </a:lnTo>
                  <a:lnTo>
                    <a:pt x="895948" y="2568601"/>
                  </a:lnTo>
                  <a:lnTo>
                    <a:pt x="852477" y="2573736"/>
                  </a:lnTo>
                  <a:lnTo>
                    <a:pt x="808763" y="2573736"/>
                  </a:lnTo>
                  <a:lnTo>
                    <a:pt x="765297" y="2568601"/>
                  </a:lnTo>
                  <a:lnTo>
                    <a:pt x="722569" y="2558330"/>
                  </a:lnTo>
                  <a:lnTo>
                    <a:pt x="681071" y="2542923"/>
                  </a:lnTo>
                  <a:lnTo>
                    <a:pt x="641292" y="2522380"/>
                  </a:lnTo>
                  <a:lnTo>
                    <a:pt x="603724" y="2496702"/>
                  </a:lnTo>
                  <a:lnTo>
                    <a:pt x="568857" y="2465889"/>
                  </a:lnTo>
                  <a:lnTo>
                    <a:pt x="107847" y="2005006"/>
                  </a:lnTo>
                  <a:close/>
                </a:path>
                <a:path w="7049134" h="2574290">
                  <a:moveTo>
                    <a:pt x="1431568" y="1092384"/>
                  </a:moveTo>
                  <a:lnTo>
                    <a:pt x="1400782" y="1057517"/>
                  </a:lnTo>
                  <a:lnTo>
                    <a:pt x="1375126" y="1019949"/>
                  </a:lnTo>
                  <a:lnTo>
                    <a:pt x="1354602" y="980170"/>
                  </a:lnTo>
                  <a:lnTo>
                    <a:pt x="1339208" y="938672"/>
                  </a:lnTo>
                  <a:lnTo>
                    <a:pt x="1328946" y="895944"/>
                  </a:lnTo>
                  <a:lnTo>
                    <a:pt x="1323815" y="852477"/>
                  </a:lnTo>
                  <a:lnTo>
                    <a:pt x="1323815" y="808763"/>
                  </a:lnTo>
                  <a:lnTo>
                    <a:pt x="1328946" y="765293"/>
                  </a:lnTo>
                  <a:lnTo>
                    <a:pt x="1339208" y="722556"/>
                  </a:lnTo>
                  <a:lnTo>
                    <a:pt x="1354602" y="681044"/>
                  </a:lnTo>
                  <a:lnTo>
                    <a:pt x="1375126" y="641247"/>
                  </a:lnTo>
                  <a:lnTo>
                    <a:pt x="1400782" y="603656"/>
                  </a:lnTo>
                  <a:lnTo>
                    <a:pt x="1431568" y="568763"/>
                  </a:lnTo>
                  <a:lnTo>
                    <a:pt x="1892578" y="107753"/>
                  </a:lnTo>
                  <a:lnTo>
                    <a:pt x="1927472" y="76966"/>
                  </a:lnTo>
                  <a:lnTo>
                    <a:pt x="1965062" y="51311"/>
                  </a:lnTo>
                  <a:lnTo>
                    <a:pt x="2004859" y="30786"/>
                  </a:lnTo>
                  <a:lnTo>
                    <a:pt x="2046371" y="15393"/>
                  </a:lnTo>
                  <a:lnTo>
                    <a:pt x="2089108" y="5131"/>
                  </a:lnTo>
                  <a:lnTo>
                    <a:pt x="2132579" y="0"/>
                  </a:lnTo>
                  <a:lnTo>
                    <a:pt x="2176293" y="0"/>
                  </a:lnTo>
                  <a:lnTo>
                    <a:pt x="2219759" y="5131"/>
                  </a:lnTo>
                  <a:lnTo>
                    <a:pt x="2262487" y="15393"/>
                  </a:lnTo>
                  <a:lnTo>
                    <a:pt x="2303986" y="30786"/>
                  </a:lnTo>
                  <a:lnTo>
                    <a:pt x="2343765" y="51311"/>
                  </a:lnTo>
                  <a:lnTo>
                    <a:pt x="2381333" y="76966"/>
                  </a:lnTo>
                  <a:lnTo>
                    <a:pt x="2416199" y="107753"/>
                  </a:lnTo>
                  <a:lnTo>
                    <a:pt x="2877209" y="568763"/>
                  </a:lnTo>
                  <a:lnTo>
                    <a:pt x="2908023" y="603656"/>
                  </a:lnTo>
                  <a:lnTo>
                    <a:pt x="2933701" y="641247"/>
                  </a:lnTo>
                  <a:lnTo>
                    <a:pt x="2954243" y="681044"/>
                  </a:lnTo>
                  <a:lnTo>
                    <a:pt x="2969650" y="722556"/>
                  </a:lnTo>
                  <a:lnTo>
                    <a:pt x="2979921" y="765293"/>
                  </a:lnTo>
                  <a:lnTo>
                    <a:pt x="2985057" y="808763"/>
                  </a:lnTo>
                  <a:lnTo>
                    <a:pt x="2985057" y="852477"/>
                  </a:lnTo>
                  <a:lnTo>
                    <a:pt x="2979921" y="895944"/>
                  </a:lnTo>
                  <a:lnTo>
                    <a:pt x="2969650" y="938672"/>
                  </a:lnTo>
                  <a:lnTo>
                    <a:pt x="2954243" y="980170"/>
                  </a:lnTo>
                  <a:lnTo>
                    <a:pt x="2933701" y="1019949"/>
                  </a:lnTo>
                  <a:lnTo>
                    <a:pt x="2908023" y="1057517"/>
                  </a:lnTo>
                  <a:lnTo>
                    <a:pt x="2877209" y="1092384"/>
                  </a:lnTo>
                  <a:lnTo>
                    <a:pt x="2416199" y="1553394"/>
                  </a:lnTo>
                  <a:lnTo>
                    <a:pt x="2381333" y="1584207"/>
                  </a:lnTo>
                  <a:lnTo>
                    <a:pt x="2343765" y="1609885"/>
                  </a:lnTo>
                  <a:lnTo>
                    <a:pt x="2303986" y="1630428"/>
                  </a:lnTo>
                  <a:lnTo>
                    <a:pt x="2262487" y="1645835"/>
                  </a:lnTo>
                  <a:lnTo>
                    <a:pt x="2219759" y="1656106"/>
                  </a:lnTo>
                  <a:lnTo>
                    <a:pt x="2176293" y="1661241"/>
                  </a:lnTo>
                  <a:lnTo>
                    <a:pt x="2132579" y="1661241"/>
                  </a:lnTo>
                  <a:lnTo>
                    <a:pt x="2089108" y="1656106"/>
                  </a:lnTo>
                  <a:lnTo>
                    <a:pt x="2046371" y="1645835"/>
                  </a:lnTo>
                  <a:lnTo>
                    <a:pt x="2004859" y="1630428"/>
                  </a:lnTo>
                  <a:lnTo>
                    <a:pt x="1965062" y="1609885"/>
                  </a:lnTo>
                  <a:lnTo>
                    <a:pt x="1927472" y="1584207"/>
                  </a:lnTo>
                  <a:lnTo>
                    <a:pt x="1892578" y="1553394"/>
                  </a:lnTo>
                  <a:lnTo>
                    <a:pt x="1431568" y="1092384"/>
                  </a:lnTo>
                  <a:close/>
                </a:path>
                <a:path w="7049134" h="2574290">
                  <a:moveTo>
                    <a:pt x="5495314" y="1987099"/>
                  </a:moveTo>
                  <a:lnTo>
                    <a:pt x="5464528" y="1952232"/>
                  </a:lnTo>
                  <a:lnTo>
                    <a:pt x="5438872" y="1914664"/>
                  </a:lnTo>
                  <a:lnTo>
                    <a:pt x="5418348" y="1874885"/>
                  </a:lnTo>
                  <a:lnTo>
                    <a:pt x="5402954" y="1833387"/>
                  </a:lnTo>
                  <a:lnTo>
                    <a:pt x="5392692" y="1790659"/>
                  </a:lnTo>
                  <a:lnTo>
                    <a:pt x="5387561" y="1747192"/>
                  </a:lnTo>
                  <a:lnTo>
                    <a:pt x="5387561" y="1703478"/>
                  </a:lnTo>
                  <a:lnTo>
                    <a:pt x="5392692" y="1660008"/>
                  </a:lnTo>
                  <a:lnTo>
                    <a:pt x="5402954" y="1617271"/>
                  </a:lnTo>
                  <a:lnTo>
                    <a:pt x="5418348" y="1575759"/>
                  </a:lnTo>
                  <a:lnTo>
                    <a:pt x="5438872" y="1535962"/>
                  </a:lnTo>
                  <a:lnTo>
                    <a:pt x="5464528" y="1498371"/>
                  </a:lnTo>
                  <a:lnTo>
                    <a:pt x="5495314" y="1463478"/>
                  </a:lnTo>
                  <a:lnTo>
                    <a:pt x="5956324" y="1002468"/>
                  </a:lnTo>
                  <a:lnTo>
                    <a:pt x="5991191" y="971681"/>
                  </a:lnTo>
                  <a:lnTo>
                    <a:pt x="6028759" y="946026"/>
                  </a:lnTo>
                  <a:lnTo>
                    <a:pt x="6068538" y="925501"/>
                  </a:lnTo>
                  <a:lnTo>
                    <a:pt x="6110036" y="910108"/>
                  </a:lnTo>
                  <a:lnTo>
                    <a:pt x="6152764" y="899846"/>
                  </a:lnTo>
                  <a:lnTo>
                    <a:pt x="6196230" y="894714"/>
                  </a:lnTo>
                  <a:lnTo>
                    <a:pt x="6239944" y="894714"/>
                  </a:lnTo>
                  <a:lnTo>
                    <a:pt x="6283415" y="899846"/>
                  </a:lnTo>
                  <a:lnTo>
                    <a:pt x="6326152" y="910108"/>
                  </a:lnTo>
                  <a:lnTo>
                    <a:pt x="6367664" y="925501"/>
                  </a:lnTo>
                  <a:lnTo>
                    <a:pt x="6407461" y="946026"/>
                  </a:lnTo>
                  <a:lnTo>
                    <a:pt x="6445052" y="971681"/>
                  </a:lnTo>
                  <a:lnTo>
                    <a:pt x="6479945" y="1002468"/>
                  </a:lnTo>
                  <a:lnTo>
                    <a:pt x="6940955" y="1463478"/>
                  </a:lnTo>
                  <a:lnTo>
                    <a:pt x="6971742" y="1498371"/>
                  </a:lnTo>
                  <a:lnTo>
                    <a:pt x="6997397" y="1535962"/>
                  </a:lnTo>
                  <a:lnTo>
                    <a:pt x="7017922" y="1575759"/>
                  </a:lnTo>
                  <a:lnTo>
                    <a:pt x="7033315" y="1617271"/>
                  </a:lnTo>
                  <a:lnTo>
                    <a:pt x="7043577" y="1660008"/>
                  </a:lnTo>
                  <a:lnTo>
                    <a:pt x="7048708" y="1703478"/>
                  </a:lnTo>
                  <a:lnTo>
                    <a:pt x="7048708" y="1747192"/>
                  </a:lnTo>
                  <a:lnTo>
                    <a:pt x="7043577" y="1790659"/>
                  </a:lnTo>
                  <a:lnTo>
                    <a:pt x="7033315" y="1833387"/>
                  </a:lnTo>
                  <a:lnTo>
                    <a:pt x="7017922" y="1874885"/>
                  </a:lnTo>
                  <a:lnTo>
                    <a:pt x="6997397" y="1914664"/>
                  </a:lnTo>
                  <a:lnTo>
                    <a:pt x="6971742" y="1952232"/>
                  </a:lnTo>
                  <a:lnTo>
                    <a:pt x="6940955" y="1987099"/>
                  </a:lnTo>
                  <a:lnTo>
                    <a:pt x="6479945" y="2448109"/>
                  </a:lnTo>
                  <a:lnTo>
                    <a:pt x="6445052" y="2478922"/>
                  </a:lnTo>
                  <a:lnTo>
                    <a:pt x="6407461" y="2504600"/>
                  </a:lnTo>
                  <a:lnTo>
                    <a:pt x="6367664" y="2525143"/>
                  </a:lnTo>
                  <a:lnTo>
                    <a:pt x="6326152" y="2540550"/>
                  </a:lnTo>
                  <a:lnTo>
                    <a:pt x="6283415" y="2550821"/>
                  </a:lnTo>
                  <a:lnTo>
                    <a:pt x="6239944" y="2555956"/>
                  </a:lnTo>
                  <a:lnTo>
                    <a:pt x="6196230" y="2555956"/>
                  </a:lnTo>
                  <a:lnTo>
                    <a:pt x="6152764" y="2550821"/>
                  </a:lnTo>
                  <a:lnTo>
                    <a:pt x="6110036" y="2540550"/>
                  </a:lnTo>
                  <a:lnTo>
                    <a:pt x="6068538" y="2525143"/>
                  </a:lnTo>
                  <a:lnTo>
                    <a:pt x="6028759" y="2504600"/>
                  </a:lnTo>
                  <a:lnTo>
                    <a:pt x="5991191" y="2478922"/>
                  </a:lnTo>
                  <a:lnTo>
                    <a:pt x="5956324" y="2448109"/>
                  </a:lnTo>
                  <a:lnTo>
                    <a:pt x="5495314" y="1987099"/>
                  </a:lnTo>
                  <a:close/>
                </a:path>
              </a:pathLst>
            </a:custGeom>
            <a:noFill/>
            <a:ln w="127080">
              <a:solidFill>
                <a:srgbClr val="39ab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74" name="object 5"/>
            <p:cNvSpPr/>
            <p:nvPr/>
          </p:nvSpPr>
          <p:spPr>
            <a:xfrm>
              <a:off x="3833280" y="2281320"/>
              <a:ext cx="4145760" cy="1917000"/>
            </a:xfrm>
            <a:custGeom>
              <a:avLst/>
              <a:gdLst>
                <a:gd name="textAreaLeft" fmla="*/ 0 w 4145760"/>
                <a:gd name="textAreaRight" fmla="*/ 4146120 w 4145760"/>
                <a:gd name="textAreaTop" fmla="*/ 0 h 1917000"/>
                <a:gd name="textAreaBottom" fmla="*/ 1917360 h 1917000"/>
              </a:gdLst>
              <a:ahLst/>
              <a:rect l="textAreaLeft" t="textAreaTop" r="textAreaRight" b="textAreaBottom"/>
              <a:pathLst>
                <a:path w="5526405" h="2555875">
                  <a:moveTo>
                    <a:pt x="77724" y="872109"/>
                  </a:moveTo>
                  <a:lnTo>
                    <a:pt x="51816" y="872109"/>
                  </a:lnTo>
                  <a:lnTo>
                    <a:pt x="51816" y="898017"/>
                  </a:lnTo>
                  <a:lnTo>
                    <a:pt x="77724" y="898017"/>
                  </a:lnTo>
                  <a:lnTo>
                    <a:pt x="77724" y="872109"/>
                  </a:lnTo>
                  <a:close/>
                </a:path>
                <a:path w="5526405" h="2555875">
                  <a:moveTo>
                    <a:pt x="77724" y="820293"/>
                  </a:moveTo>
                  <a:lnTo>
                    <a:pt x="51816" y="820293"/>
                  </a:lnTo>
                  <a:lnTo>
                    <a:pt x="51816" y="846201"/>
                  </a:lnTo>
                  <a:lnTo>
                    <a:pt x="77724" y="846201"/>
                  </a:lnTo>
                  <a:lnTo>
                    <a:pt x="77724" y="820293"/>
                  </a:lnTo>
                  <a:close/>
                </a:path>
                <a:path w="5526405" h="2555875">
                  <a:moveTo>
                    <a:pt x="77724" y="768477"/>
                  </a:moveTo>
                  <a:lnTo>
                    <a:pt x="51816" y="768477"/>
                  </a:lnTo>
                  <a:lnTo>
                    <a:pt x="51816" y="794385"/>
                  </a:lnTo>
                  <a:lnTo>
                    <a:pt x="77724" y="794385"/>
                  </a:lnTo>
                  <a:lnTo>
                    <a:pt x="77724" y="768477"/>
                  </a:lnTo>
                  <a:close/>
                </a:path>
                <a:path w="5526405" h="2555875">
                  <a:moveTo>
                    <a:pt x="77724" y="716661"/>
                  </a:moveTo>
                  <a:lnTo>
                    <a:pt x="51816" y="716661"/>
                  </a:lnTo>
                  <a:lnTo>
                    <a:pt x="51816" y="742569"/>
                  </a:lnTo>
                  <a:lnTo>
                    <a:pt x="77724" y="742569"/>
                  </a:lnTo>
                  <a:lnTo>
                    <a:pt x="77724" y="716661"/>
                  </a:lnTo>
                  <a:close/>
                </a:path>
                <a:path w="5526405" h="2555875">
                  <a:moveTo>
                    <a:pt x="77724" y="664845"/>
                  </a:moveTo>
                  <a:lnTo>
                    <a:pt x="51816" y="664845"/>
                  </a:lnTo>
                  <a:lnTo>
                    <a:pt x="51816" y="690753"/>
                  </a:lnTo>
                  <a:lnTo>
                    <a:pt x="77724" y="690753"/>
                  </a:lnTo>
                  <a:lnTo>
                    <a:pt x="77724" y="664845"/>
                  </a:lnTo>
                  <a:close/>
                </a:path>
                <a:path w="5526405" h="2555875">
                  <a:moveTo>
                    <a:pt x="77724" y="613029"/>
                  </a:moveTo>
                  <a:lnTo>
                    <a:pt x="51816" y="613029"/>
                  </a:lnTo>
                  <a:lnTo>
                    <a:pt x="51816" y="638937"/>
                  </a:lnTo>
                  <a:lnTo>
                    <a:pt x="77724" y="638937"/>
                  </a:lnTo>
                  <a:lnTo>
                    <a:pt x="77724" y="613029"/>
                  </a:lnTo>
                  <a:close/>
                </a:path>
                <a:path w="5526405" h="2555875">
                  <a:moveTo>
                    <a:pt x="77724" y="561213"/>
                  </a:moveTo>
                  <a:lnTo>
                    <a:pt x="51816" y="561213"/>
                  </a:lnTo>
                  <a:lnTo>
                    <a:pt x="51816" y="587121"/>
                  </a:lnTo>
                  <a:lnTo>
                    <a:pt x="77724" y="587121"/>
                  </a:lnTo>
                  <a:lnTo>
                    <a:pt x="77724" y="561213"/>
                  </a:lnTo>
                  <a:close/>
                </a:path>
                <a:path w="5526405" h="2555875">
                  <a:moveTo>
                    <a:pt x="77724" y="509397"/>
                  </a:moveTo>
                  <a:lnTo>
                    <a:pt x="51816" y="509397"/>
                  </a:lnTo>
                  <a:lnTo>
                    <a:pt x="51816" y="535305"/>
                  </a:lnTo>
                  <a:lnTo>
                    <a:pt x="77724" y="535305"/>
                  </a:lnTo>
                  <a:lnTo>
                    <a:pt x="77724" y="509397"/>
                  </a:lnTo>
                  <a:close/>
                </a:path>
                <a:path w="5526405" h="2555875">
                  <a:moveTo>
                    <a:pt x="77724" y="457581"/>
                  </a:moveTo>
                  <a:lnTo>
                    <a:pt x="51816" y="457581"/>
                  </a:lnTo>
                  <a:lnTo>
                    <a:pt x="51816" y="483489"/>
                  </a:lnTo>
                  <a:lnTo>
                    <a:pt x="77724" y="483489"/>
                  </a:lnTo>
                  <a:lnTo>
                    <a:pt x="77724" y="457581"/>
                  </a:lnTo>
                  <a:close/>
                </a:path>
                <a:path w="5526405" h="2555875">
                  <a:moveTo>
                    <a:pt x="77724" y="405765"/>
                  </a:moveTo>
                  <a:lnTo>
                    <a:pt x="51816" y="405765"/>
                  </a:lnTo>
                  <a:lnTo>
                    <a:pt x="51816" y="431673"/>
                  </a:lnTo>
                  <a:lnTo>
                    <a:pt x="77724" y="431673"/>
                  </a:lnTo>
                  <a:lnTo>
                    <a:pt x="77724" y="405765"/>
                  </a:lnTo>
                  <a:close/>
                </a:path>
                <a:path w="5526405" h="2555875">
                  <a:moveTo>
                    <a:pt x="77724" y="353949"/>
                  </a:moveTo>
                  <a:lnTo>
                    <a:pt x="51816" y="353949"/>
                  </a:lnTo>
                  <a:lnTo>
                    <a:pt x="51816" y="379857"/>
                  </a:lnTo>
                  <a:lnTo>
                    <a:pt x="77724" y="379857"/>
                  </a:lnTo>
                  <a:lnTo>
                    <a:pt x="77724" y="353949"/>
                  </a:lnTo>
                  <a:close/>
                </a:path>
                <a:path w="5526405" h="2555875">
                  <a:moveTo>
                    <a:pt x="77724" y="302133"/>
                  </a:moveTo>
                  <a:lnTo>
                    <a:pt x="51816" y="302133"/>
                  </a:lnTo>
                  <a:lnTo>
                    <a:pt x="51816" y="328041"/>
                  </a:lnTo>
                  <a:lnTo>
                    <a:pt x="77724" y="328041"/>
                  </a:lnTo>
                  <a:lnTo>
                    <a:pt x="77724" y="302133"/>
                  </a:lnTo>
                  <a:close/>
                </a:path>
                <a:path w="5526405" h="2555875">
                  <a:moveTo>
                    <a:pt x="77724" y="250317"/>
                  </a:moveTo>
                  <a:lnTo>
                    <a:pt x="51816" y="250317"/>
                  </a:lnTo>
                  <a:lnTo>
                    <a:pt x="51816" y="276225"/>
                  </a:lnTo>
                  <a:lnTo>
                    <a:pt x="77724" y="276225"/>
                  </a:lnTo>
                  <a:lnTo>
                    <a:pt x="77724" y="250317"/>
                  </a:lnTo>
                  <a:close/>
                </a:path>
                <a:path w="5526405" h="2555875">
                  <a:moveTo>
                    <a:pt x="77724" y="198501"/>
                  </a:moveTo>
                  <a:lnTo>
                    <a:pt x="51816" y="198501"/>
                  </a:lnTo>
                  <a:lnTo>
                    <a:pt x="51816" y="224409"/>
                  </a:lnTo>
                  <a:lnTo>
                    <a:pt x="77724" y="224409"/>
                  </a:lnTo>
                  <a:lnTo>
                    <a:pt x="77724" y="198501"/>
                  </a:lnTo>
                  <a:close/>
                </a:path>
                <a:path w="5526405" h="2555875">
                  <a:moveTo>
                    <a:pt x="77724" y="146685"/>
                  </a:moveTo>
                  <a:lnTo>
                    <a:pt x="51816" y="146685"/>
                  </a:lnTo>
                  <a:lnTo>
                    <a:pt x="51816" y="172593"/>
                  </a:lnTo>
                  <a:lnTo>
                    <a:pt x="77724" y="172593"/>
                  </a:lnTo>
                  <a:lnTo>
                    <a:pt x="77724" y="146685"/>
                  </a:lnTo>
                  <a:close/>
                </a:path>
                <a:path w="5526405" h="2555875">
                  <a:moveTo>
                    <a:pt x="129540" y="64770"/>
                  </a:moveTo>
                  <a:lnTo>
                    <a:pt x="124447" y="39547"/>
                  </a:lnTo>
                  <a:lnTo>
                    <a:pt x="110578" y="18961"/>
                  </a:lnTo>
                  <a:lnTo>
                    <a:pt x="89992" y="5092"/>
                  </a:lnTo>
                  <a:lnTo>
                    <a:pt x="64770" y="0"/>
                  </a:lnTo>
                  <a:lnTo>
                    <a:pt x="39535" y="5092"/>
                  </a:lnTo>
                  <a:lnTo>
                    <a:pt x="18948" y="18961"/>
                  </a:lnTo>
                  <a:lnTo>
                    <a:pt x="5080" y="39547"/>
                  </a:lnTo>
                  <a:lnTo>
                    <a:pt x="0" y="64770"/>
                  </a:lnTo>
                  <a:lnTo>
                    <a:pt x="5080" y="90004"/>
                  </a:lnTo>
                  <a:lnTo>
                    <a:pt x="18948" y="110591"/>
                  </a:lnTo>
                  <a:lnTo>
                    <a:pt x="39535" y="124460"/>
                  </a:lnTo>
                  <a:lnTo>
                    <a:pt x="64770" y="129540"/>
                  </a:lnTo>
                  <a:lnTo>
                    <a:pt x="89992" y="124460"/>
                  </a:lnTo>
                  <a:lnTo>
                    <a:pt x="95453" y="120777"/>
                  </a:lnTo>
                  <a:lnTo>
                    <a:pt x="110578" y="110591"/>
                  </a:lnTo>
                  <a:lnTo>
                    <a:pt x="121170" y="94869"/>
                  </a:lnTo>
                  <a:lnTo>
                    <a:pt x="124447" y="90004"/>
                  </a:lnTo>
                  <a:lnTo>
                    <a:pt x="128689" y="68961"/>
                  </a:lnTo>
                  <a:lnTo>
                    <a:pt x="129540" y="64770"/>
                  </a:lnTo>
                  <a:close/>
                </a:path>
                <a:path w="5526405" h="2555875">
                  <a:moveTo>
                    <a:pt x="1409827" y="1773174"/>
                  </a:moveTo>
                  <a:lnTo>
                    <a:pt x="1409700" y="1747266"/>
                  </a:lnTo>
                  <a:lnTo>
                    <a:pt x="1383792" y="1747266"/>
                  </a:lnTo>
                  <a:lnTo>
                    <a:pt x="1383919" y="1773174"/>
                  </a:lnTo>
                  <a:lnTo>
                    <a:pt x="1409827" y="1773174"/>
                  </a:lnTo>
                  <a:close/>
                </a:path>
                <a:path w="5526405" h="2555875">
                  <a:moveTo>
                    <a:pt x="1409954" y="1824990"/>
                  </a:moveTo>
                  <a:lnTo>
                    <a:pt x="1409827" y="1799082"/>
                  </a:lnTo>
                  <a:lnTo>
                    <a:pt x="1383919" y="1799082"/>
                  </a:lnTo>
                  <a:lnTo>
                    <a:pt x="1384046" y="1824990"/>
                  </a:lnTo>
                  <a:lnTo>
                    <a:pt x="1409954" y="1824990"/>
                  </a:lnTo>
                  <a:close/>
                </a:path>
                <a:path w="5526405" h="2555875">
                  <a:moveTo>
                    <a:pt x="1410081" y="1876806"/>
                  </a:moveTo>
                  <a:lnTo>
                    <a:pt x="1409954" y="1850898"/>
                  </a:lnTo>
                  <a:lnTo>
                    <a:pt x="1384046" y="1850898"/>
                  </a:lnTo>
                  <a:lnTo>
                    <a:pt x="1384173" y="1876806"/>
                  </a:lnTo>
                  <a:lnTo>
                    <a:pt x="1410081" y="1876806"/>
                  </a:lnTo>
                  <a:close/>
                </a:path>
                <a:path w="5526405" h="2555875">
                  <a:moveTo>
                    <a:pt x="1410208" y="1928622"/>
                  </a:moveTo>
                  <a:lnTo>
                    <a:pt x="1410081" y="1902714"/>
                  </a:lnTo>
                  <a:lnTo>
                    <a:pt x="1384173" y="1902714"/>
                  </a:lnTo>
                  <a:lnTo>
                    <a:pt x="1384300" y="1928622"/>
                  </a:lnTo>
                  <a:lnTo>
                    <a:pt x="1410208" y="1928622"/>
                  </a:lnTo>
                  <a:close/>
                </a:path>
                <a:path w="5526405" h="2555875">
                  <a:moveTo>
                    <a:pt x="1410335" y="1980438"/>
                  </a:moveTo>
                  <a:lnTo>
                    <a:pt x="1410208" y="1954530"/>
                  </a:lnTo>
                  <a:lnTo>
                    <a:pt x="1384300" y="1954530"/>
                  </a:lnTo>
                  <a:lnTo>
                    <a:pt x="1384427" y="1980438"/>
                  </a:lnTo>
                  <a:lnTo>
                    <a:pt x="1410335" y="1980438"/>
                  </a:lnTo>
                  <a:close/>
                </a:path>
                <a:path w="5526405" h="2555875">
                  <a:moveTo>
                    <a:pt x="1410449" y="2006346"/>
                  </a:moveTo>
                  <a:lnTo>
                    <a:pt x="1384554" y="2006346"/>
                  </a:lnTo>
                  <a:lnTo>
                    <a:pt x="1384554" y="2032254"/>
                  </a:lnTo>
                  <a:lnTo>
                    <a:pt x="1410449" y="2032254"/>
                  </a:lnTo>
                  <a:lnTo>
                    <a:pt x="1410449" y="2006346"/>
                  </a:lnTo>
                  <a:close/>
                </a:path>
                <a:path w="5526405" h="2555875">
                  <a:moveTo>
                    <a:pt x="1410576" y="2058162"/>
                  </a:moveTo>
                  <a:lnTo>
                    <a:pt x="1384681" y="2058162"/>
                  </a:lnTo>
                  <a:lnTo>
                    <a:pt x="1384681" y="2084070"/>
                  </a:lnTo>
                  <a:lnTo>
                    <a:pt x="1410576" y="2084070"/>
                  </a:lnTo>
                  <a:lnTo>
                    <a:pt x="1410576" y="2058162"/>
                  </a:lnTo>
                  <a:close/>
                </a:path>
                <a:path w="5526405" h="2555875">
                  <a:moveTo>
                    <a:pt x="1410703" y="2109978"/>
                  </a:moveTo>
                  <a:lnTo>
                    <a:pt x="1384808" y="2109978"/>
                  </a:lnTo>
                  <a:lnTo>
                    <a:pt x="1384808" y="2135886"/>
                  </a:lnTo>
                  <a:lnTo>
                    <a:pt x="1410703" y="2135886"/>
                  </a:lnTo>
                  <a:lnTo>
                    <a:pt x="1410703" y="2109978"/>
                  </a:lnTo>
                  <a:close/>
                </a:path>
                <a:path w="5526405" h="2555875">
                  <a:moveTo>
                    <a:pt x="1410843" y="2161794"/>
                  </a:moveTo>
                  <a:lnTo>
                    <a:pt x="1384935" y="2161794"/>
                  </a:lnTo>
                  <a:lnTo>
                    <a:pt x="1384935" y="2187702"/>
                  </a:lnTo>
                  <a:lnTo>
                    <a:pt x="1410843" y="2187702"/>
                  </a:lnTo>
                  <a:lnTo>
                    <a:pt x="1410843" y="2161794"/>
                  </a:lnTo>
                  <a:close/>
                </a:path>
                <a:path w="5526405" h="2555875">
                  <a:moveTo>
                    <a:pt x="1411097" y="2239518"/>
                  </a:moveTo>
                  <a:lnTo>
                    <a:pt x="1410970" y="2213610"/>
                  </a:lnTo>
                  <a:lnTo>
                    <a:pt x="1385062" y="2213610"/>
                  </a:lnTo>
                  <a:lnTo>
                    <a:pt x="1385189" y="2239518"/>
                  </a:lnTo>
                  <a:lnTo>
                    <a:pt x="1411097" y="2239518"/>
                  </a:lnTo>
                  <a:close/>
                </a:path>
                <a:path w="5526405" h="2555875">
                  <a:moveTo>
                    <a:pt x="1411224" y="2291334"/>
                  </a:moveTo>
                  <a:lnTo>
                    <a:pt x="1411097" y="2265426"/>
                  </a:lnTo>
                  <a:lnTo>
                    <a:pt x="1385189" y="2265426"/>
                  </a:lnTo>
                  <a:lnTo>
                    <a:pt x="1385316" y="2291334"/>
                  </a:lnTo>
                  <a:lnTo>
                    <a:pt x="1411224" y="2291334"/>
                  </a:lnTo>
                  <a:close/>
                </a:path>
                <a:path w="5526405" h="2555875">
                  <a:moveTo>
                    <a:pt x="1411351" y="2343150"/>
                  </a:moveTo>
                  <a:lnTo>
                    <a:pt x="1411224" y="2317242"/>
                  </a:lnTo>
                  <a:lnTo>
                    <a:pt x="1385316" y="2317242"/>
                  </a:lnTo>
                  <a:lnTo>
                    <a:pt x="1385443" y="2343150"/>
                  </a:lnTo>
                  <a:lnTo>
                    <a:pt x="1411351" y="2343150"/>
                  </a:lnTo>
                  <a:close/>
                </a:path>
                <a:path w="5526405" h="2555875">
                  <a:moveTo>
                    <a:pt x="1411478" y="2394966"/>
                  </a:moveTo>
                  <a:lnTo>
                    <a:pt x="1411351" y="2369058"/>
                  </a:lnTo>
                  <a:lnTo>
                    <a:pt x="1385443" y="2369058"/>
                  </a:lnTo>
                  <a:lnTo>
                    <a:pt x="1385570" y="2394966"/>
                  </a:lnTo>
                  <a:lnTo>
                    <a:pt x="1411478" y="2394966"/>
                  </a:lnTo>
                  <a:close/>
                </a:path>
                <a:path w="5526405" h="2555875">
                  <a:moveTo>
                    <a:pt x="1463548" y="2490470"/>
                  </a:moveTo>
                  <a:lnTo>
                    <a:pt x="1459877" y="2472690"/>
                  </a:lnTo>
                  <a:lnTo>
                    <a:pt x="1458366" y="2465324"/>
                  </a:lnTo>
                  <a:lnTo>
                    <a:pt x="1445780" y="2446782"/>
                  </a:lnTo>
                  <a:lnTo>
                    <a:pt x="1444434" y="2444788"/>
                  </a:lnTo>
                  <a:lnTo>
                    <a:pt x="1423822" y="2430970"/>
                  </a:lnTo>
                  <a:lnTo>
                    <a:pt x="1411605" y="2428532"/>
                  </a:lnTo>
                  <a:lnTo>
                    <a:pt x="1411605" y="2425954"/>
                  </a:lnTo>
                  <a:lnTo>
                    <a:pt x="1411605" y="2420874"/>
                  </a:lnTo>
                  <a:lnTo>
                    <a:pt x="1385697" y="2420874"/>
                  </a:lnTo>
                  <a:lnTo>
                    <a:pt x="1385697" y="2428583"/>
                  </a:lnTo>
                  <a:lnTo>
                    <a:pt x="1373416" y="2431059"/>
                  </a:lnTo>
                  <a:lnTo>
                    <a:pt x="1352842" y="2444978"/>
                  </a:lnTo>
                  <a:lnTo>
                    <a:pt x="1339011" y="2465603"/>
                  </a:lnTo>
                  <a:lnTo>
                    <a:pt x="1334008" y="2490851"/>
                  </a:lnTo>
                  <a:lnTo>
                    <a:pt x="1339176" y="2516060"/>
                  </a:lnTo>
                  <a:lnTo>
                    <a:pt x="1353121" y="2536609"/>
                  </a:lnTo>
                  <a:lnTo>
                    <a:pt x="1373720" y="2550439"/>
                  </a:lnTo>
                  <a:lnTo>
                    <a:pt x="1398905" y="2555494"/>
                  </a:lnTo>
                  <a:lnTo>
                    <a:pt x="1424127" y="2550325"/>
                  </a:lnTo>
                  <a:lnTo>
                    <a:pt x="1444701" y="2536367"/>
                  </a:lnTo>
                  <a:lnTo>
                    <a:pt x="1458531" y="2515730"/>
                  </a:lnTo>
                  <a:lnTo>
                    <a:pt x="1463497" y="2490724"/>
                  </a:lnTo>
                  <a:lnTo>
                    <a:pt x="1463548" y="2490470"/>
                  </a:lnTo>
                  <a:close/>
                </a:path>
                <a:path w="5526405" h="2555875">
                  <a:moveTo>
                    <a:pt x="2743200" y="872109"/>
                  </a:moveTo>
                  <a:lnTo>
                    <a:pt x="2717292" y="872109"/>
                  </a:lnTo>
                  <a:lnTo>
                    <a:pt x="2717292" y="898017"/>
                  </a:lnTo>
                  <a:lnTo>
                    <a:pt x="2743200" y="898017"/>
                  </a:lnTo>
                  <a:lnTo>
                    <a:pt x="2743200" y="872109"/>
                  </a:lnTo>
                  <a:close/>
                </a:path>
                <a:path w="5526405" h="2555875">
                  <a:moveTo>
                    <a:pt x="2743200" y="820293"/>
                  </a:moveTo>
                  <a:lnTo>
                    <a:pt x="2717292" y="820293"/>
                  </a:lnTo>
                  <a:lnTo>
                    <a:pt x="2717292" y="846201"/>
                  </a:lnTo>
                  <a:lnTo>
                    <a:pt x="2743200" y="846201"/>
                  </a:lnTo>
                  <a:lnTo>
                    <a:pt x="2743200" y="820293"/>
                  </a:lnTo>
                  <a:close/>
                </a:path>
                <a:path w="5526405" h="2555875">
                  <a:moveTo>
                    <a:pt x="2743200" y="768477"/>
                  </a:moveTo>
                  <a:lnTo>
                    <a:pt x="2717292" y="768477"/>
                  </a:lnTo>
                  <a:lnTo>
                    <a:pt x="2717292" y="794385"/>
                  </a:lnTo>
                  <a:lnTo>
                    <a:pt x="2743200" y="794385"/>
                  </a:lnTo>
                  <a:lnTo>
                    <a:pt x="2743200" y="768477"/>
                  </a:lnTo>
                  <a:close/>
                </a:path>
                <a:path w="5526405" h="2555875">
                  <a:moveTo>
                    <a:pt x="2743200" y="716661"/>
                  </a:moveTo>
                  <a:lnTo>
                    <a:pt x="2717292" y="716661"/>
                  </a:lnTo>
                  <a:lnTo>
                    <a:pt x="2717292" y="742569"/>
                  </a:lnTo>
                  <a:lnTo>
                    <a:pt x="2743200" y="742569"/>
                  </a:lnTo>
                  <a:lnTo>
                    <a:pt x="2743200" y="716661"/>
                  </a:lnTo>
                  <a:close/>
                </a:path>
                <a:path w="5526405" h="2555875">
                  <a:moveTo>
                    <a:pt x="2743200" y="664845"/>
                  </a:moveTo>
                  <a:lnTo>
                    <a:pt x="2717292" y="664845"/>
                  </a:lnTo>
                  <a:lnTo>
                    <a:pt x="2717292" y="690753"/>
                  </a:lnTo>
                  <a:lnTo>
                    <a:pt x="2743200" y="690753"/>
                  </a:lnTo>
                  <a:lnTo>
                    <a:pt x="2743200" y="664845"/>
                  </a:lnTo>
                  <a:close/>
                </a:path>
                <a:path w="5526405" h="2555875">
                  <a:moveTo>
                    <a:pt x="2743200" y="613029"/>
                  </a:moveTo>
                  <a:lnTo>
                    <a:pt x="2717292" y="613029"/>
                  </a:lnTo>
                  <a:lnTo>
                    <a:pt x="2717292" y="638937"/>
                  </a:lnTo>
                  <a:lnTo>
                    <a:pt x="2743200" y="638937"/>
                  </a:lnTo>
                  <a:lnTo>
                    <a:pt x="2743200" y="613029"/>
                  </a:lnTo>
                  <a:close/>
                </a:path>
                <a:path w="5526405" h="2555875">
                  <a:moveTo>
                    <a:pt x="2743200" y="561213"/>
                  </a:moveTo>
                  <a:lnTo>
                    <a:pt x="2717292" y="561213"/>
                  </a:lnTo>
                  <a:lnTo>
                    <a:pt x="2717292" y="587121"/>
                  </a:lnTo>
                  <a:lnTo>
                    <a:pt x="2743200" y="587121"/>
                  </a:lnTo>
                  <a:lnTo>
                    <a:pt x="2743200" y="561213"/>
                  </a:lnTo>
                  <a:close/>
                </a:path>
                <a:path w="5526405" h="2555875">
                  <a:moveTo>
                    <a:pt x="2743200" y="509397"/>
                  </a:moveTo>
                  <a:lnTo>
                    <a:pt x="2717292" y="509397"/>
                  </a:lnTo>
                  <a:lnTo>
                    <a:pt x="2717292" y="535305"/>
                  </a:lnTo>
                  <a:lnTo>
                    <a:pt x="2743200" y="535305"/>
                  </a:lnTo>
                  <a:lnTo>
                    <a:pt x="2743200" y="509397"/>
                  </a:lnTo>
                  <a:close/>
                </a:path>
                <a:path w="5526405" h="2555875">
                  <a:moveTo>
                    <a:pt x="2743200" y="457581"/>
                  </a:moveTo>
                  <a:lnTo>
                    <a:pt x="2717292" y="457581"/>
                  </a:lnTo>
                  <a:lnTo>
                    <a:pt x="2717292" y="483489"/>
                  </a:lnTo>
                  <a:lnTo>
                    <a:pt x="2743200" y="483489"/>
                  </a:lnTo>
                  <a:lnTo>
                    <a:pt x="2743200" y="457581"/>
                  </a:lnTo>
                  <a:close/>
                </a:path>
                <a:path w="5526405" h="2555875">
                  <a:moveTo>
                    <a:pt x="2743200" y="405765"/>
                  </a:moveTo>
                  <a:lnTo>
                    <a:pt x="2717292" y="405765"/>
                  </a:lnTo>
                  <a:lnTo>
                    <a:pt x="2717292" y="431673"/>
                  </a:lnTo>
                  <a:lnTo>
                    <a:pt x="2743200" y="431673"/>
                  </a:lnTo>
                  <a:lnTo>
                    <a:pt x="2743200" y="405765"/>
                  </a:lnTo>
                  <a:close/>
                </a:path>
                <a:path w="5526405" h="2555875">
                  <a:moveTo>
                    <a:pt x="2743200" y="353949"/>
                  </a:moveTo>
                  <a:lnTo>
                    <a:pt x="2717292" y="353949"/>
                  </a:lnTo>
                  <a:lnTo>
                    <a:pt x="2717292" y="379857"/>
                  </a:lnTo>
                  <a:lnTo>
                    <a:pt x="2743200" y="379857"/>
                  </a:lnTo>
                  <a:lnTo>
                    <a:pt x="2743200" y="353949"/>
                  </a:lnTo>
                  <a:close/>
                </a:path>
                <a:path w="5526405" h="2555875">
                  <a:moveTo>
                    <a:pt x="2743200" y="302133"/>
                  </a:moveTo>
                  <a:lnTo>
                    <a:pt x="2717292" y="302133"/>
                  </a:lnTo>
                  <a:lnTo>
                    <a:pt x="2717292" y="328041"/>
                  </a:lnTo>
                  <a:lnTo>
                    <a:pt x="2743200" y="328041"/>
                  </a:lnTo>
                  <a:lnTo>
                    <a:pt x="2743200" y="302133"/>
                  </a:lnTo>
                  <a:close/>
                </a:path>
                <a:path w="5526405" h="2555875">
                  <a:moveTo>
                    <a:pt x="2743200" y="250317"/>
                  </a:moveTo>
                  <a:lnTo>
                    <a:pt x="2717292" y="250317"/>
                  </a:lnTo>
                  <a:lnTo>
                    <a:pt x="2717292" y="276225"/>
                  </a:lnTo>
                  <a:lnTo>
                    <a:pt x="2743200" y="276225"/>
                  </a:lnTo>
                  <a:lnTo>
                    <a:pt x="2743200" y="250317"/>
                  </a:lnTo>
                  <a:close/>
                </a:path>
                <a:path w="5526405" h="2555875">
                  <a:moveTo>
                    <a:pt x="2743200" y="198501"/>
                  </a:moveTo>
                  <a:lnTo>
                    <a:pt x="2717292" y="198501"/>
                  </a:lnTo>
                  <a:lnTo>
                    <a:pt x="2717292" y="224409"/>
                  </a:lnTo>
                  <a:lnTo>
                    <a:pt x="2743200" y="224409"/>
                  </a:lnTo>
                  <a:lnTo>
                    <a:pt x="2743200" y="198501"/>
                  </a:lnTo>
                  <a:close/>
                </a:path>
                <a:path w="5526405" h="2555875">
                  <a:moveTo>
                    <a:pt x="2743200" y="146685"/>
                  </a:moveTo>
                  <a:lnTo>
                    <a:pt x="2717292" y="146685"/>
                  </a:lnTo>
                  <a:lnTo>
                    <a:pt x="2717292" y="172593"/>
                  </a:lnTo>
                  <a:lnTo>
                    <a:pt x="2743200" y="172593"/>
                  </a:lnTo>
                  <a:lnTo>
                    <a:pt x="2743200" y="146685"/>
                  </a:lnTo>
                  <a:close/>
                </a:path>
                <a:path w="5526405" h="2555875">
                  <a:moveTo>
                    <a:pt x="2795016" y="64770"/>
                  </a:moveTo>
                  <a:lnTo>
                    <a:pt x="2789923" y="39547"/>
                  </a:lnTo>
                  <a:lnTo>
                    <a:pt x="2776055" y="18961"/>
                  </a:lnTo>
                  <a:lnTo>
                    <a:pt x="2755468" y="5092"/>
                  </a:lnTo>
                  <a:lnTo>
                    <a:pt x="2730246" y="0"/>
                  </a:lnTo>
                  <a:lnTo>
                    <a:pt x="2705011" y="5092"/>
                  </a:lnTo>
                  <a:lnTo>
                    <a:pt x="2684424" y="18961"/>
                  </a:lnTo>
                  <a:lnTo>
                    <a:pt x="2670556" y="39547"/>
                  </a:lnTo>
                  <a:lnTo>
                    <a:pt x="2665476" y="64770"/>
                  </a:lnTo>
                  <a:lnTo>
                    <a:pt x="2670556" y="90004"/>
                  </a:lnTo>
                  <a:lnTo>
                    <a:pt x="2684424" y="110591"/>
                  </a:lnTo>
                  <a:lnTo>
                    <a:pt x="2705011" y="124460"/>
                  </a:lnTo>
                  <a:lnTo>
                    <a:pt x="2730246" y="129540"/>
                  </a:lnTo>
                  <a:lnTo>
                    <a:pt x="2755468" y="124460"/>
                  </a:lnTo>
                  <a:lnTo>
                    <a:pt x="2760929" y="120777"/>
                  </a:lnTo>
                  <a:lnTo>
                    <a:pt x="2776055" y="110591"/>
                  </a:lnTo>
                  <a:lnTo>
                    <a:pt x="2786646" y="94869"/>
                  </a:lnTo>
                  <a:lnTo>
                    <a:pt x="2789923" y="90004"/>
                  </a:lnTo>
                  <a:lnTo>
                    <a:pt x="2794165" y="68961"/>
                  </a:lnTo>
                  <a:lnTo>
                    <a:pt x="2795016" y="64770"/>
                  </a:lnTo>
                  <a:close/>
                </a:path>
                <a:path w="5526405" h="2555875">
                  <a:moveTo>
                    <a:pt x="4094988" y="2344674"/>
                  </a:moveTo>
                  <a:lnTo>
                    <a:pt x="4069080" y="2344674"/>
                  </a:lnTo>
                  <a:lnTo>
                    <a:pt x="4069080" y="2370582"/>
                  </a:lnTo>
                  <a:lnTo>
                    <a:pt x="4094988" y="2370582"/>
                  </a:lnTo>
                  <a:lnTo>
                    <a:pt x="4094988" y="2344674"/>
                  </a:lnTo>
                  <a:close/>
                </a:path>
                <a:path w="5526405" h="2555875">
                  <a:moveTo>
                    <a:pt x="4094988" y="2292858"/>
                  </a:moveTo>
                  <a:lnTo>
                    <a:pt x="4069080" y="2292858"/>
                  </a:lnTo>
                  <a:lnTo>
                    <a:pt x="4069080" y="2318766"/>
                  </a:lnTo>
                  <a:lnTo>
                    <a:pt x="4094988" y="2318766"/>
                  </a:lnTo>
                  <a:lnTo>
                    <a:pt x="4094988" y="2292858"/>
                  </a:lnTo>
                  <a:close/>
                </a:path>
                <a:path w="5526405" h="2555875">
                  <a:moveTo>
                    <a:pt x="4094988" y="2241042"/>
                  </a:moveTo>
                  <a:lnTo>
                    <a:pt x="4069080" y="2241042"/>
                  </a:lnTo>
                  <a:lnTo>
                    <a:pt x="4069080" y="2266950"/>
                  </a:lnTo>
                  <a:lnTo>
                    <a:pt x="4094988" y="2266950"/>
                  </a:lnTo>
                  <a:lnTo>
                    <a:pt x="4094988" y="2241042"/>
                  </a:lnTo>
                  <a:close/>
                </a:path>
                <a:path w="5526405" h="2555875">
                  <a:moveTo>
                    <a:pt x="4094988" y="2189226"/>
                  </a:moveTo>
                  <a:lnTo>
                    <a:pt x="4069080" y="2189226"/>
                  </a:lnTo>
                  <a:lnTo>
                    <a:pt x="4069080" y="2215134"/>
                  </a:lnTo>
                  <a:lnTo>
                    <a:pt x="4094988" y="2215134"/>
                  </a:lnTo>
                  <a:lnTo>
                    <a:pt x="4094988" y="2189226"/>
                  </a:lnTo>
                  <a:close/>
                </a:path>
                <a:path w="5526405" h="2555875">
                  <a:moveTo>
                    <a:pt x="4094988" y="2137410"/>
                  </a:moveTo>
                  <a:lnTo>
                    <a:pt x="4069080" y="2137410"/>
                  </a:lnTo>
                  <a:lnTo>
                    <a:pt x="4069080" y="2163318"/>
                  </a:lnTo>
                  <a:lnTo>
                    <a:pt x="4094988" y="2163318"/>
                  </a:lnTo>
                  <a:lnTo>
                    <a:pt x="4094988" y="2137410"/>
                  </a:lnTo>
                  <a:close/>
                </a:path>
                <a:path w="5526405" h="2555875">
                  <a:moveTo>
                    <a:pt x="4094988" y="2085594"/>
                  </a:moveTo>
                  <a:lnTo>
                    <a:pt x="4069080" y="2085594"/>
                  </a:lnTo>
                  <a:lnTo>
                    <a:pt x="4069080" y="2111502"/>
                  </a:lnTo>
                  <a:lnTo>
                    <a:pt x="4094988" y="2111502"/>
                  </a:lnTo>
                  <a:lnTo>
                    <a:pt x="4094988" y="2085594"/>
                  </a:lnTo>
                  <a:close/>
                </a:path>
                <a:path w="5526405" h="2555875">
                  <a:moveTo>
                    <a:pt x="4094988" y="2033778"/>
                  </a:moveTo>
                  <a:lnTo>
                    <a:pt x="4069080" y="2033778"/>
                  </a:lnTo>
                  <a:lnTo>
                    <a:pt x="4069080" y="2059686"/>
                  </a:lnTo>
                  <a:lnTo>
                    <a:pt x="4094988" y="2059686"/>
                  </a:lnTo>
                  <a:lnTo>
                    <a:pt x="4094988" y="2033778"/>
                  </a:lnTo>
                  <a:close/>
                </a:path>
                <a:path w="5526405" h="2555875">
                  <a:moveTo>
                    <a:pt x="4094988" y="1981962"/>
                  </a:moveTo>
                  <a:lnTo>
                    <a:pt x="4069080" y="1981962"/>
                  </a:lnTo>
                  <a:lnTo>
                    <a:pt x="4069080" y="2007870"/>
                  </a:lnTo>
                  <a:lnTo>
                    <a:pt x="4094988" y="2007870"/>
                  </a:lnTo>
                  <a:lnTo>
                    <a:pt x="4094988" y="1981962"/>
                  </a:lnTo>
                  <a:close/>
                </a:path>
                <a:path w="5526405" h="2555875">
                  <a:moveTo>
                    <a:pt x="4094988" y="1930146"/>
                  </a:moveTo>
                  <a:lnTo>
                    <a:pt x="4069080" y="1930146"/>
                  </a:lnTo>
                  <a:lnTo>
                    <a:pt x="4069080" y="1956054"/>
                  </a:lnTo>
                  <a:lnTo>
                    <a:pt x="4094988" y="1956054"/>
                  </a:lnTo>
                  <a:lnTo>
                    <a:pt x="4094988" y="1930146"/>
                  </a:lnTo>
                  <a:close/>
                </a:path>
                <a:path w="5526405" h="2555875">
                  <a:moveTo>
                    <a:pt x="4094988" y="1878330"/>
                  </a:moveTo>
                  <a:lnTo>
                    <a:pt x="4069080" y="1878330"/>
                  </a:lnTo>
                  <a:lnTo>
                    <a:pt x="4069080" y="1904238"/>
                  </a:lnTo>
                  <a:lnTo>
                    <a:pt x="4094988" y="1904238"/>
                  </a:lnTo>
                  <a:lnTo>
                    <a:pt x="4094988" y="1878330"/>
                  </a:lnTo>
                  <a:close/>
                </a:path>
                <a:path w="5526405" h="2555875">
                  <a:moveTo>
                    <a:pt x="4094988" y="1826514"/>
                  </a:moveTo>
                  <a:lnTo>
                    <a:pt x="4069080" y="1826514"/>
                  </a:lnTo>
                  <a:lnTo>
                    <a:pt x="4069080" y="1852422"/>
                  </a:lnTo>
                  <a:lnTo>
                    <a:pt x="4094988" y="1852422"/>
                  </a:lnTo>
                  <a:lnTo>
                    <a:pt x="4094988" y="1826514"/>
                  </a:lnTo>
                  <a:close/>
                </a:path>
                <a:path w="5526405" h="2555875">
                  <a:moveTo>
                    <a:pt x="4094988" y="1774698"/>
                  </a:moveTo>
                  <a:lnTo>
                    <a:pt x="4069080" y="1774698"/>
                  </a:lnTo>
                  <a:lnTo>
                    <a:pt x="4069080" y="1800606"/>
                  </a:lnTo>
                  <a:lnTo>
                    <a:pt x="4094988" y="1800606"/>
                  </a:lnTo>
                  <a:lnTo>
                    <a:pt x="4094988" y="1774698"/>
                  </a:lnTo>
                  <a:close/>
                </a:path>
                <a:path w="5526405" h="2555875">
                  <a:moveTo>
                    <a:pt x="4094988" y="1722882"/>
                  </a:moveTo>
                  <a:lnTo>
                    <a:pt x="4069080" y="1722882"/>
                  </a:lnTo>
                  <a:lnTo>
                    <a:pt x="4069080" y="1748790"/>
                  </a:lnTo>
                  <a:lnTo>
                    <a:pt x="4094988" y="1748790"/>
                  </a:lnTo>
                  <a:lnTo>
                    <a:pt x="4094988" y="1722882"/>
                  </a:lnTo>
                  <a:close/>
                </a:path>
                <a:path w="5526405" h="2555875">
                  <a:moveTo>
                    <a:pt x="4146804" y="2466340"/>
                  </a:moveTo>
                  <a:lnTo>
                    <a:pt x="4143159" y="2448306"/>
                  </a:lnTo>
                  <a:lnTo>
                    <a:pt x="4141711" y="2441117"/>
                  </a:lnTo>
                  <a:lnTo>
                    <a:pt x="4129100" y="2422398"/>
                  </a:lnTo>
                  <a:lnTo>
                    <a:pt x="4127843" y="2420531"/>
                  </a:lnTo>
                  <a:lnTo>
                    <a:pt x="4107256" y="2406662"/>
                  </a:lnTo>
                  <a:lnTo>
                    <a:pt x="4094988" y="2404186"/>
                  </a:lnTo>
                  <a:lnTo>
                    <a:pt x="4094988" y="2401570"/>
                  </a:lnTo>
                  <a:lnTo>
                    <a:pt x="4094988" y="2396490"/>
                  </a:lnTo>
                  <a:lnTo>
                    <a:pt x="4069080" y="2396490"/>
                  </a:lnTo>
                  <a:lnTo>
                    <a:pt x="4069080" y="2404186"/>
                  </a:lnTo>
                  <a:lnTo>
                    <a:pt x="4056799" y="2406662"/>
                  </a:lnTo>
                  <a:lnTo>
                    <a:pt x="4036212" y="2420531"/>
                  </a:lnTo>
                  <a:lnTo>
                    <a:pt x="4022344" y="2441117"/>
                  </a:lnTo>
                  <a:lnTo>
                    <a:pt x="4017264" y="2466340"/>
                  </a:lnTo>
                  <a:lnTo>
                    <a:pt x="4022344" y="2491524"/>
                  </a:lnTo>
                  <a:lnTo>
                    <a:pt x="4036212" y="2512110"/>
                  </a:lnTo>
                  <a:lnTo>
                    <a:pt x="4056799" y="2526017"/>
                  </a:lnTo>
                  <a:lnTo>
                    <a:pt x="4082034" y="2531110"/>
                  </a:lnTo>
                  <a:lnTo>
                    <a:pt x="4107256" y="2526017"/>
                  </a:lnTo>
                  <a:lnTo>
                    <a:pt x="4127843" y="2512110"/>
                  </a:lnTo>
                  <a:lnTo>
                    <a:pt x="4141711" y="2491524"/>
                  </a:lnTo>
                  <a:lnTo>
                    <a:pt x="4146804" y="2466340"/>
                  </a:lnTo>
                  <a:close/>
                </a:path>
                <a:path w="5526405" h="2555875">
                  <a:moveTo>
                    <a:pt x="5474208" y="872109"/>
                  </a:moveTo>
                  <a:lnTo>
                    <a:pt x="5448300" y="872109"/>
                  </a:lnTo>
                  <a:lnTo>
                    <a:pt x="5448300" y="898017"/>
                  </a:lnTo>
                  <a:lnTo>
                    <a:pt x="5474208" y="898017"/>
                  </a:lnTo>
                  <a:lnTo>
                    <a:pt x="5474208" y="872109"/>
                  </a:lnTo>
                  <a:close/>
                </a:path>
                <a:path w="5526405" h="2555875">
                  <a:moveTo>
                    <a:pt x="5474208" y="820293"/>
                  </a:moveTo>
                  <a:lnTo>
                    <a:pt x="5448300" y="820293"/>
                  </a:lnTo>
                  <a:lnTo>
                    <a:pt x="5448300" y="846201"/>
                  </a:lnTo>
                  <a:lnTo>
                    <a:pt x="5474208" y="846201"/>
                  </a:lnTo>
                  <a:lnTo>
                    <a:pt x="5474208" y="820293"/>
                  </a:lnTo>
                  <a:close/>
                </a:path>
                <a:path w="5526405" h="2555875">
                  <a:moveTo>
                    <a:pt x="5474208" y="768477"/>
                  </a:moveTo>
                  <a:lnTo>
                    <a:pt x="5448300" y="768477"/>
                  </a:lnTo>
                  <a:lnTo>
                    <a:pt x="5448300" y="794385"/>
                  </a:lnTo>
                  <a:lnTo>
                    <a:pt x="5474208" y="794385"/>
                  </a:lnTo>
                  <a:lnTo>
                    <a:pt x="5474208" y="768477"/>
                  </a:lnTo>
                  <a:close/>
                </a:path>
                <a:path w="5526405" h="2555875">
                  <a:moveTo>
                    <a:pt x="5474208" y="716661"/>
                  </a:moveTo>
                  <a:lnTo>
                    <a:pt x="5448300" y="716661"/>
                  </a:lnTo>
                  <a:lnTo>
                    <a:pt x="5448300" y="742569"/>
                  </a:lnTo>
                  <a:lnTo>
                    <a:pt x="5474208" y="742569"/>
                  </a:lnTo>
                  <a:lnTo>
                    <a:pt x="5474208" y="716661"/>
                  </a:lnTo>
                  <a:close/>
                </a:path>
                <a:path w="5526405" h="2555875">
                  <a:moveTo>
                    <a:pt x="5474208" y="664845"/>
                  </a:moveTo>
                  <a:lnTo>
                    <a:pt x="5448300" y="664845"/>
                  </a:lnTo>
                  <a:lnTo>
                    <a:pt x="5448300" y="690753"/>
                  </a:lnTo>
                  <a:lnTo>
                    <a:pt x="5474208" y="690753"/>
                  </a:lnTo>
                  <a:lnTo>
                    <a:pt x="5474208" y="664845"/>
                  </a:lnTo>
                  <a:close/>
                </a:path>
                <a:path w="5526405" h="2555875">
                  <a:moveTo>
                    <a:pt x="5474208" y="613029"/>
                  </a:moveTo>
                  <a:lnTo>
                    <a:pt x="5448300" y="613029"/>
                  </a:lnTo>
                  <a:lnTo>
                    <a:pt x="5448300" y="638937"/>
                  </a:lnTo>
                  <a:lnTo>
                    <a:pt x="5474208" y="638937"/>
                  </a:lnTo>
                  <a:lnTo>
                    <a:pt x="5474208" y="613029"/>
                  </a:lnTo>
                  <a:close/>
                </a:path>
                <a:path w="5526405" h="2555875">
                  <a:moveTo>
                    <a:pt x="5474208" y="561213"/>
                  </a:moveTo>
                  <a:lnTo>
                    <a:pt x="5448300" y="561213"/>
                  </a:lnTo>
                  <a:lnTo>
                    <a:pt x="5448300" y="587121"/>
                  </a:lnTo>
                  <a:lnTo>
                    <a:pt x="5474208" y="587121"/>
                  </a:lnTo>
                  <a:lnTo>
                    <a:pt x="5474208" y="561213"/>
                  </a:lnTo>
                  <a:close/>
                </a:path>
                <a:path w="5526405" h="2555875">
                  <a:moveTo>
                    <a:pt x="5474208" y="509397"/>
                  </a:moveTo>
                  <a:lnTo>
                    <a:pt x="5448300" y="509397"/>
                  </a:lnTo>
                  <a:lnTo>
                    <a:pt x="5448300" y="535305"/>
                  </a:lnTo>
                  <a:lnTo>
                    <a:pt x="5474208" y="535305"/>
                  </a:lnTo>
                  <a:lnTo>
                    <a:pt x="5474208" y="509397"/>
                  </a:lnTo>
                  <a:close/>
                </a:path>
                <a:path w="5526405" h="2555875">
                  <a:moveTo>
                    <a:pt x="5474208" y="457581"/>
                  </a:moveTo>
                  <a:lnTo>
                    <a:pt x="5448300" y="457581"/>
                  </a:lnTo>
                  <a:lnTo>
                    <a:pt x="5448300" y="483489"/>
                  </a:lnTo>
                  <a:lnTo>
                    <a:pt x="5474208" y="483489"/>
                  </a:lnTo>
                  <a:lnTo>
                    <a:pt x="5474208" y="457581"/>
                  </a:lnTo>
                  <a:close/>
                </a:path>
                <a:path w="5526405" h="2555875">
                  <a:moveTo>
                    <a:pt x="5474208" y="405765"/>
                  </a:moveTo>
                  <a:lnTo>
                    <a:pt x="5448300" y="405765"/>
                  </a:lnTo>
                  <a:lnTo>
                    <a:pt x="5448300" y="431673"/>
                  </a:lnTo>
                  <a:lnTo>
                    <a:pt x="5474208" y="431673"/>
                  </a:lnTo>
                  <a:lnTo>
                    <a:pt x="5474208" y="405765"/>
                  </a:lnTo>
                  <a:close/>
                </a:path>
                <a:path w="5526405" h="2555875">
                  <a:moveTo>
                    <a:pt x="5474208" y="353949"/>
                  </a:moveTo>
                  <a:lnTo>
                    <a:pt x="5448300" y="353949"/>
                  </a:lnTo>
                  <a:lnTo>
                    <a:pt x="5448300" y="379857"/>
                  </a:lnTo>
                  <a:lnTo>
                    <a:pt x="5474208" y="379857"/>
                  </a:lnTo>
                  <a:lnTo>
                    <a:pt x="5474208" y="353949"/>
                  </a:lnTo>
                  <a:close/>
                </a:path>
                <a:path w="5526405" h="2555875">
                  <a:moveTo>
                    <a:pt x="5474208" y="302133"/>
                  </a:moveTo>
                  <a:lnTo>
                    <a:pt x="5448300" y="302133"/>
                  </a:lnTo>
                  <a:lnTo>
                    <a:pt x="5448300" y="328041"/>
                  </a:lnTo>
                  <a:lnTo>
                    <a:pt x="5474208" y="328041"/>
                  </a:lnTo>
                  <a:lnTo>
                    <a:pt x="5474208" y="302133"/>
                  </a:lnTo>
                  <a:close/>
                </a:path>
                <a:path w="5526405" h="2555875">
                  <a:moveTo>
                    <a:pt x="5474208" y="250317"/>
                  </a:moveTo>
                  <a:lnTo>
                    <a:pt x="5448300" y="250317"/>
                  </a:lnTo>
                  <a:lnTo>
                    <a:pt x="5448300" y="276225"/>
                  </a:lnTo>
                  <a:lnTo>
                    <a:pt x="5474208" y="276225"/>
                  </a:lnTo>
                  <a:lnTo>
                    <a:pt x="5474208" y="250317"/>
                  </a:lnTo>
                  <a:close/>
                </a:path>
                <a:path w="5526405" h="2555875">
                  <a:moveTo>
                    <a:pt x="5474208" y="198501"/>
                  </a:moveTo>
                  <a:lnTo>
                    <a:pt x="5448300" y="198501"/>
                  </a:lnTo>
                  <a:lnTo>
                    <a:pt x="5448300" y="224409"/>
                  </a:lnTo>
                  <a:lnTo>
                    <a:pt x="5474208" y="224409"/>
                  </a:lnTo>
                  <a:lnTo>
                    <a:pt x="5474208" y="198501"/>
                  </a:lnTo>
                  <a:close/>
                </a:path>
                <a:path w="5526405" h="2555875">
                  <a:moveTo>
                    <a:pt x="5474208" y="146685"/>
                  </a:moveTo>
                  <a:lnTo>
                    <a:pt x="5448300" y="146685"/>
                  </a:lnTo>
                  <a:lnTo>
                    <a:pt x="5448300" y="172593"/>
                  </a:lnTo>
                  <a:lnTo>
                    <a:pt x="5474208" y="172593"/>
                  </a:lnTo>
                  <a:lnTo>
                    <a:pt x="5474208" y="146685"/>
                  </a:lnTo>
                  <a:close/>
                </a:path>
                <a:path w="5526405" h="2555875">
                  <a:moveTo>
                    <a:pt x="5526024" y="64770"/>
                  </a:moveTo>
                  <a:lnTo>
                    <a:pt x="5520931" y="39547"/>
                  </a:lnTo>
                  <a:lnTo>
                    <a:pt x="5507063" y="18961"/>
                  </a:lnTo>
                  <a:lnTo>
                    <a:pt x="5486476" y="5092"/>
                  </a:lnTo>
                  <a:lnTo>
                    <a:pt x="5461254" y="0"/>
                  </a:lnTo>
                  <a:lnTo>
                    <a:pt x="5436019" y="5092"/>
                  </a:lnTo>
                  <a:lnTo>
                    <a:pt x="5415432" y="18961"/>
                  </a:lnTo>
                  <a:lnTo>
                    <a:pt x="5401564" y="39547"/>
                  </a:lnTo>
                  <a:lnTo>
                    <a:pt x="5396484" y="64770"/>
                  </a:lnTo>
                  <a:lnTo>
                    <a:pt x="5401564" y="90004"/>
                  </a:lnTo>
                  <a:lnTo>
                    <a:pt x="5415432" y="110591"/>
                  </a:lnTo>
                  <a:lnTo>
                    <a:pt x="5436019" y="124460"/>
                  </a:lnTo>
                  <a:lnTo>
                    <a:pt x="5461254" y="129540"/>
                  </a:lnTo>
                  <a:lnTo>
                    <a:pt x="5486476" y="124460"/>
                  </a:lnTo>
                  <a:lnTo>
                    <a:pt x="5491937" y="120777"/>
                  </a:lnTo>
                  <a:lnTo>
                    <a:pt x="5507063" y="110591"/>
                  </a:lnTo>
                  <a:lnTo>
                    <a:pt x="5517654" y="94869"/>
                  </a:lnTo>
                  <a:lnTo>
                    <a:pt x="5520931" y="90004"/>
                  </a:lnTo>
                  <a:lnTo>
                    <a:pt x="5525173" y="68961"/>
                  </a:lnTo>
                  <a:lnTo>
                    <a:pt x="5526024" y="64770"/>
                  </a:lnTo>
                  <a:close/>
                </a:path>
              </a:pathLst>
            </a:custGeom>
            <a:solidFill>
              <a:srgbClr val="39a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775" name="object 6"/>
          <p:cNvSpPr/>
          <p:nvPr/>
        </p:nvSpPr>
        <p:spPr>
          <a:xfrm>
            <a:off x="4286160" y="4245120"/>
            <a:ext cx="12049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600" bIns="0" anchor="t">
            <a:spAutoFit/>
          </a:bodyPr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1f4e79"/>
                </a:solidFill>
                <a:latin typeface="Arial Black"/>
              </a:rPr>
              <a:t>ЗДОРОВЬЕ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здоровье сохраняй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6" name="object 7"/>
          <p:cNvSpPr/>
          <p:nvPr/>
        </p:nvSpPr>
        <p:spPr>
          <a:xfrm>
            <a:off x="2805120" y="1717560"/>
            <a:ext cx="2244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algn="ctr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1f4e79"/>
                </a:solidFill>
                <a:latin typeface="Arial Black"/>
              </a:rPr>
              <a:t>ЗНАНИЕ: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1f4e79"/>
                </a:solidFill>
                <a:latin typeface="Arial Black"/>
              </a:rPr>
              <a:t>КАЧЕСТВО И ОБЪЕКТИВНОСТЬ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знание добывай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7" name="object 8"/>
          <p:cNvSpPr/>
          <p:nvPr/>
        </p:nvSpPr>
        <p:spPr>
          <a:xfrm>
            <a:off x="5370480" y="1747800"/>
            <a:ext cx="106848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936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1f4e79"/>
                </a:solidFill>
                <a:latin typeface="Arial Black"/>
              </a:rPr>
              <a:t>ТВОРЧЕСТВО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marL="936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талант развивай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8" name="object 9"/>
          <p:cNvSpPr/>
          <p:nvPr/>
        </p:nvSpPr>
        <p:spPr>
          <a:xfrm>
            <a:off x="6068880" y="4245120"/>
            <a:ext cx="17305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600" bIns="0" anchor="t">
            <a:spAutoFit/>
          </a:bodyPr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1f4e79"/>
                </a:solidFill>
                <a:latin typeface="Arial Black"/>
              </a:rPr>
              <a:t>ВОСПИТАНИЕ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традиции храни и создавай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9" name="object 10"/>
          <p:cNvSpPr/>
          <p:nvPr/>
        </p:nvSpPr>
        <p:spPr>
          <a:xfrm>
            <a:off x="7211880" y="1741320"/>
            <a:ext cx="1408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936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1f4e79"/>
                </a:solidFill>
                <a:latin typeface="Arial Black"/>
              </a:rPr>
              <a:t>ПРОФОРИЕНТАЦИЯ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marL="9360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профессию выбирай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780" name="object 15"/>
          <p:cNvGrpSpPr/>
          <p:nvPr/>
        </p:nvGrpSpPr>
        <p:grpSpPr>
          <a:xfrm>
            <a:off x="3246480" y="2763720"/>
            <a:ext cx="4979880" cy="2552760"/>
            <a:chOff x="3246480" y="2763720"/>
            <a:chExt cx="4979880" cy="2552760"/>
          </a:xfrm>
        </p:grpSpPr>
        <p:pic>
          <p:nvPicPr>
            <p:cNvPr id="781" name="object 16" descr=""/>
            <p:cNvPicPr/>
            <p:nvPr/>
          </p:nvPicPr>
          <p:blipFill>
            <a:blip r:embed="rId1"/>
            <a:stretch/>
          </p:blipFill>
          <p:spPr>
            <a:xfrm>
              <a:off x="7663320" y="3283200"/>
              <a:ext cx="563040" cy="46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object 17" descr=""/>
            <p:cNvPicPr/>
            <p:nvPr/>
          </p:nvPicPr>
          <p:blipFill>
            <a:blip r:embed="rId2"/>
            <a:stretch/>
          </p:blipFill>
          <p:spPr>
            <a:xfrm>
              <a:off x="4715280" y="2819880"/>
              <a:ext cx="378720" cy="3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3" name="object 18" descr=""/>
            <p:cNvPicPr/>
            <p:nvPr/>
          </p:nvPicPr>
          <p:blipFill>
            <a:blip r:embed="rId3"/>
            <a:stretch/>
          </p:blipFill>
          <p:spPr>
            <a:xfrm>
              <a:off x="5532840" y="3251160"/>
              <a:ext cx="668520" cy="5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4" name="object 19" descr=""/>
            <p:cNvPicPr/>
            <p:nvPr/>
          </p:nvPicPr>
          <p:blipFill>
            <a:blip r:embed="rId4"/>
            <a:stretch/>
          </p:blipFill>
          <p:spPr>
            <a:xfrm>
              <a:off x="3636360" y="3398760"/>
              <a:ext cx="559080" cy="24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5" name="object 20" descr=""/>
            <p:cNvPicPr/>
            <p:nvPr/>
          </p:nvPicPr>
          <p:blipFill>
            <a:blip r:embed="rId5"/>
            <a:stretch/>
          </p:blipFill>
          <p:spPr>
            <a:xfrm>
              <a:off x="6651360" y="2763720"/>
              <a:ext cx="506520" cy="41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6" name="object 21" descr=""/>
            <p:cNvPicPr/>
            <p:nvPr/>
          </p:nvPicPr>
          <p:blipFill>
            <a:blip r:embed="rId6"/>
            <a:stretch/>
          </p:blipFill>
          <p:spPr>
            <a:xfrm>
              <a:off x="3246480" y="4850640"/>
              <a:ext cx="1106280" cy="46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23920" y="1620360"/>
            <a:ext cx="25970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marL="142920" indent="0">
              <a:lnSpc>
                <a:spcPct val="80000"/>
              </a:lnSpc>
              <a:spcBef>
                <a:spcPts val="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1f5f"/>
                </a:solidFill>
                <a:latin typeface="Arial"/>
                <a:ea typeface="Arial"/>
              </a:rPr>
              <a:t>   </a:t>
            </a:r>
            <a:r>
              <a:rPr b="0" lang="ru-RU" sz="1600" spc="-1" strike="noStrike">
                <a:solidFill>
                  <a:srgbClr val="0f6fc6"/>
                </a:solidFill>
                <a:latin typeface="Arial"/>
                <a:ea typeface="Arial"/>
              </a:rPr>
              <a:t>Школа Минпросвещения России – центр образования, воспитания и просвещения, объединяющий территориально  и духовно детей и взрослых, разные поколения, разные профессии, разные социальные группы для обретения </a:t>
            </a:r>
            <a:r>
              <a:rPr b="1" lang="ru-RU" sz="1600" spc="-1" strike="noStrike">
                <a:solidFill>
                  <a:srgbClr val="0f6fc6"/>
                </a:solidFill>
                <a:latin typeface="Arial"/>
              </a:rPr>
              <a:t>смысла жизни через познание, созидание, нравственные ценности для творческого построения будущего  каждого и всех в России</a:t>
            </a:r>
            <a:br>
              <a:rPr sz="1200"/>
            </a:b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8" name="object 26"/>
          <p:cNvSpPr/>
          <p:nvPr/>
        </p:nvSpPr>
        <p:spPr>
          <a:xfrm>
            <a:off x="3524400" y="4708440"/>
            <a:ext cx="68868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936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8000"/>
                </a:solidFill>
                <a:latin typeface="Arial Black"/>
              </a:rPr>
              <a:t>УЧИТЕЛЬ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789" name="object 27"/>
          <p:cNvGrpSpPr/>
          <p:nvPr/>
        </p:nvGrpSpPr>
        <p:grpSpPr>
          <a:xfrm>
            <a:off x="5165640" y="4778280"/>
            <a:ext cx="3186360" cy="709560"/>
            <a:chOff x="5165640" y="4778280"/>
            <a:chExt cx="3186360" cy="709560"/>
          </a:xfrm>
        </p:grpSpPr>
        <p:pic>
          <p:nvPicPr>
            <p:cNvPr id="790" name="object 28" descr=""/>
            <p:cNvPicPr/>
            <p:nvPr/>
          </p:nvPicPr>
          <p:blipFill>
            <a:blip r:embed="rId7"/>
            <a:stretch/>
          </p:blipFill>
          <p:spPr>
            <a:xfrm>
              <a:off x="5165640" y="4778280"/>
              <a:ext cx="1080360" cy="64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object 29" descr=""/>
            <p:cNvPicPr/>
            <p:nvPr/>
          </p:nvPicPr>
          <p:blipFill>
            <a:blip r:embed="rId8"/>
            <a:stretch/>
          </p:blipFill>
          <p:spPr>
            <a:xfrm>
              <a:off x="7271640" y="4838760"/>
              <a:ext cx="1080360" cy="64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2" name="object 30"/>
          <p:cNvSpPr/>
          <p:nvPr/>
        </p:nvSpPr>
        <p:spPr>
          <a:xfrm>
            <a:off x="5076720" y="4689360"/>
            <a:ext cx="395316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936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1989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8000"/>
                </a:solidFill>
                <a:latin typeface="Arial Black"/>
              </a:rPr>
              <a:t>ШКОЛЬНЫЙ КЛИМАТ</a:t>
            </a:r>
            <a:r>
              <a:rPr b="0" lang="ru-RU" sz="9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ru-RU" sz="900" spc="-1" strike="noStrike">
                <a:solidFill>
                  <a:srgbClr val="008000"/>
                </a:solidFill>
                <a:latin typeface="Arial Black"/>
              </a:rPr>
              <a:t>ОБРАЗОВАТЕЛЬНАЯ СРЕДА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3" name="object 31"/>
          <p:cNvSpPr/>
          <p:nvPr/>
        </p:nvSpPr>
        <p:spPr>
          <a:xfrm>
            <a:off x="3006720" y="5394240"/>
            <a:ext cx="1817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360" bIns="0" anchor="t">
            <a:spAutoFit/>
          </a:bodyPr>
          <a:p>
            <a:pPr marL="936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Учителями славится Россия!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4" name="object 32"/>
          <p:cNvSpPr/>
          <p:nvPr/>
        </p:nvSpPr>
        <p:spPr>
          <a:xfrm>
            <a:off x="4946760" y="5394240"/>
            <a:ext cx="18986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360" bIns="0" anchor="t">
            <a:spAutoFit/>
          </a:bodyPr>
          <a:p>
            <a:pPr marL="936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Важней всего погода в школе!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5" name="object 33"/>
          <p:cNvSpPr/>
          <p:nvPr/>
        </p:nvSpPr>
        <p:spPr>
          <a:xfrm>
            <a:off x="7067520" y="5394240"/>
            <a:ext cx="18972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360" bIns="0" anchor="t">
            <a:spAutoFit/>
          </a:bodyPr>
          <a:p>
            <a:pPr marL="936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«Среда» семь дней в неделю!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6" name="object 34"/>
          <p:cNvSpPr/>
          <p:nvPr/>
        </p:nvSpPr>
        <p:spPr>
          <a:xfrm>
            <a:off x="3043080" y="4594320"/>
            <a:ext cx="5997600" cy="68040"/>
          </a:xfrm>
          <a:custGeom>
            <a:avLst/>
            <a:gdLst>
              <a:gd name="textAreaLeft" fmla="*/ 0 w 5997600"/>
              <a:gd name="textAreaRight" fmla="*/ 5997960 w 599760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7996555" h="91439">
                <a:moveTo>
                  <a:pt x="7957438" y="13589"/>
                </a:moveTo>
                <a:lnTo>
                  <a:pt x="7942310" y="16623"/>
                </a:lnTo>
                <a:lnTo>
                  <a:pt x="7929943" y="24907"/>
                </a:lnTo>
                <a:lnTo>
                  <a:pt x="7921577" y="37216"/>
                </a:lnTo>
                <a:lnTo>
                  <a:pt x="7918450" y="52324"/>
                </a:lnTo>
                <a:lnTo>
                  <a:pt x="7921503" y="67470"/>
                </a:lnTo>
                <a:lnTo>
                  <a:pt x="7929832" y="79867"/>
                </a:lnTo>
                <a:lnTo>
                  <a:pt x="7942185" y="88239"/>
                </a:lnTo>
                <a:lnTo>
                  <a:pt x="7957311" y="91313"/>
                </a:lnTo>
                <a:lnTo>
                  <a:pt x="7972438" y="88259"/>
                </a:lnTo>
                <a:lnTo>
                  <a:pt x="7984791" y="79930"/>
                </a:lnTo>
                <a:lnTo>
                  <a:pt x="7993120" y="67577"/>
                </a:lnTo>
                <a:lnTo>
                  <a:pt x="7993558" y="65405"/>
                </a:lnTo>
                <a:lnTo>
                  <a:pt x="7931404" y="65405"/>
                </a:lnTo>
                <a:lnTo>
                  <a:pt x="7931404" y="39497"/>
                </a:lnTo>
                <a:lnTo>
                  <a:pt x="7993621" y="39497"/>
                </a:lnTo>
                <a:lnTo>
                  <a:pt x="7993193" y="37324"/>
                </a:lnTo>
                <a:lnTo>
                  <a:pt x="7984902" y="24971"/>
                </a:lnTo>
                <a:lnTo>
                  <a:pt x="7972563" y="16642"/>
                </a:lnTo>
                <a:lnTo>
                  <a:pt x="7957438" y="13589"/>
                </a:lnTo>
                <a:close/>
              </a:path>
              <a:path w="7996555" h="91439">
                <a:moveTo>
                  <a:pt x="7957311" y="39497"/>
                </a:moveTo>
                <a:lnTo>
                  <a:pt x="7931404" y="39497"/>
                </a:lnTo>
                <a:lnTo>
                  <a:pt x="7931404" y="65405"/>
                </a:lnTo>
                <a:lnTo>
                  <a:pt x="7957311" y="65405"/>
                </a:lnTo>
                <a:lnTo>
                  <a:pt x="7957311" y="39497"/>
                </a:lnTo>
                <a:close/>
              </a:path>
              <a:path w="7996555" h="91439">
                <a:moveTo>
                  <a:pt x="7993621" y="39497"/>
                </a:moveTo>
                <a:lnTo>
                  <a:pt x="7957311" y="39497"/>
                </a:lnTo>
                <a:lnTo>
                  <a:pt x="7957311" y="65405"/>
                </a:lnTo>
                <a:lnTo>
                  <a:pt x="7993558" y="65405"/>
                </a:lnTo>
                <a:lnTo>
                  <a:pt x="7996173" y="52451"/>
                </a:lnTo>
                <a:lnTo>
                  <a:pt x="7993621" y="39497"/>
                </a:lnTo>
                <a:close/>
              </a:path>
              <a:path w="7996555" h="91439">
                <a:moveTo>
                  <a:pt x="7905496" y="39370"/>
                </a:moveTo>
                <a:lnTo>
                  <a:pt x="7879588" y="39370"/>
                </a:lnTo>
                <a:lnTo>
                  <a:pt x="7879588" y="65278"/>
                </a:lnTo>
                <a:lnTo>
                  <a:pt x="7905496" y="65278"/>
                </a:lnTo>
                <a:lnTo>
                  <a:pt x="7905496" y="39370"/>
                </a:lnTo>
                <a:close/>
              </a:path>
              <a:path w="7996555" h="91439">
                <a:moveTo>
                  <a:pt x="7827771" y="39243"/>
                </a:moveTo>
                <a:lnTo>
                  <a:pt x="7827771" y="65151"/>
                </a:lnTo>
                <a:lnTo>
                  <a:pt x="7853680" y="65278"/>
                </a:lnTo>
                <a:lnTo>
                  <a:pt x="7853680" y="39370"/>
                </a:lnTo>
                <a:lnTo>
                  <a:pt x="7827771" y="39243"/>
                </a:lnTo>
                <a:close/>
              </a:path>
              <a:path w="7996555" h="91439">
                <a:moveTo>
                  <a:pt x="7775956" y="39116"/>
                </a:moveTo>
                <a:lnTo>
                  <a:pt x="7775956" y="65024"/>
                </a:lnTo>
                <a:lnTo>
                  <a:pt x="7801863" y="65151"/>
                </a:lnTo>
                <a:lnTo>
                  <a:pt x="7801863" y="39243"/>
                </a:lnTo>
                <a:lnTo>
                  <a:pt x="7775956" y="39116"/>
                </a:lnTo>
                <a:close/>
              </a:path>
              <a:path w="7996555" h="91439">
                <a:moveTo>
                  <a:pt x="7750048" y="39116"/>
                </a:moveTo>
                <a:lnTo>
                  <a:pt x="7724140" y="39116"/>
                </a:lnTo>
                <a:lnTo>
                  <a:pt x="7724140" y="65024"/>
                </a:lnTo>
                <a:lnTo>
                  <a:pt x="7750048" y="65024"/>
                </a:lnTo>
                <a:lnTo>
                  <a:pt x="7750048" y="39116"/>
                </a:lnTo>
                <a:close/>
              </a:path>
              <a:path w="7996555" h="91439">
                <a:moveTo>
                  <a:pt x="7698232" y="38989"/>
                </a:moveTo>
                <a:lnTo>
                  <a:pt x="7672323" y="38989"/>
                </a:lnTo>
                <a:lnTo>
                  <a:pt x="7672323" y="64897"/>
                </a:lnTo>
                <a:lnTo>
                  <a:pt x="7698232" y="64897"/>
                </a:lnTo>
                <a:lnTo>
                  <a:pt x="7698232" y="38989"/>
                </a:lnTo>
                <a:close/>
              </a:path>
              <a:path w="7996555" h="91439">
                <a:moveTo>
                  <a:pt x="7620508" y="38862"/>
                </a:moveTo>
                <a:lnTo>
                  <a:pt x="7620508" y="64770"/>
                </a:lnTo>
                <a:lnTo>
                  <a:pt x="7646415" y="64897"/>
                </a:lnTo>
                <a:lnTo>
                  <a:pt x="7646415" y="38989"/>
                </a:lnTo>
                <a:lnTo>
                  <a:pt x="7620508" y="38862"/>
                </a:lnTo>
                <a:close/>
              </a:path>
              <a:path w="7996555" h="91439">
                <a:moveTo>
                  <a:pt x="7594600" y="38862"/>
                </a:moveTo>
                <a:lnTo>
                  <a:pt x="7568692" y="38862"/>
                </a:lnTo>
                <a:lnTo>
                  <a:pt x="7568692" y="64770"/>
                </a:lnTo>
                <a:lnTo>
                  <a:pt x="7594600" y="64770"/>
                </a:lnTo>
                <a:lnTo>
                  <a:pt x="7594600" y="38862"/>
                </a:lnTo>
                <a:close/>
              </a:path>
              <a:path w="7996555" h="91439">
                <a:moveTo>
                  <a:pt x="7542784" y="38735"/>
                </a:moveTo>
                <a:lnTo>
                  <a:pt x="7516876" y="38735"/>
                </a:lnTo>
                <a:lnTo>
                  <a:pt x="7516876" y="64643"/>
                </a:lnTo>
                <a:lnTo>
                  <a:pt x="7542784" y="64643"/>
                </a:lnTo>
                <a:lnTo>
                  <a:pt x="7542784" y="38735"/>
                </a:lnTo>
                <a:close/>
              </a:path>
              <a:path w="7996555" h="91439">
                <a:moveTo>
                  <a:pt x="7465059" y="38608"/>
                </a:moveTo>
                <a:lnTo>
                  <a:pt x="7465059" y="64516"/>
                </a:lnTo>
                <a:lnTo>
                  <a:pt x="7490967" y="64643"/>
                </a:lnTo>
                <a:lnTo>
                  <a:pt x="7490967" y="38735"/>
                </a:lnTo>
                <a:lnTo>
                  <a:pt x="7465059" y="38608"/>
                </a:lnTo>
                <a:close/>
              </a:path>
              <a:path w="7996555" h="91439">
                <a:moveTo>
                  <a:pt x="7439152" y="38608"/>
                </a:moveTo>
                <a:lnTo>
                  <a:pt x="7413244" y="38608"/>
                </a:lnTo>
                <a:lnTo>
                  <a:pt x="7413244" y="64516"/>
                </a:lnTo>
                <a:lnTo>
                  <a:pt x="7439152" y="64516"/>
                </a:lnTo>
                <a:lnTo>
                  <a:pt x="7439152" y="38608"/>
                </a:lnTo>
                <a:close/>
              </a:path>
              <a:path w="7996555" h="91439">
                <a:moveTo>
                  <a:pt x="7387336" y="38481"/>
                </a:moveTo>
                <a:lnTo>
                  <a:pt x="7361428" y="38481"/>
                </a:lnTo>
                <a:lnTo>
                  <a:pt x="7361428" y="64389"/>
                </a:lnTo>
                <a:lnTo>
                  <a:pt x="7387336" y="64389"/>
                </a:lnTo>
                <a:lnTo>
                  <a:pt x="7387336" y="38481"/>
                </a:lnTo>
                <a:close/>
              </a:path>
              <a:path w="7996555" h="91439">
                <a:moveTo>
                  <a:pt x="7309611" y="38354"/>
                </a:moveTo>
                <a:lnTo>
                  <a:pt x="7309611" y="64262"/>
                </a:lnTo>
                <a:lnTo>
                  <a:pt x="7335519" y="64389"/>
                </a:lnTo>
                <a:lnTo>
                  <a:pt x="7335519" y="38481"/>
                </a:lnTo>
                <a:lnTo>
                  <a:pt x="7309611" y="38354"/>
                </a:lnTo>
                <a:close/>
              </a:path>
              <a:path w="7996555" h="91439">
                <a:moveTo>
                  <a:pt x="7283704" y="38354"/>
                </a:moveTo>
                <a:lnTo>
                  <a:pt x="7257796" y="38354"/>
                </a:lnTo>
                <a:lnTo>
                  <a:pt x="7257796" y="64135"/>
                </a:lnTo>
                <a:lnTo>
                  <a:pt x="7283704" y="64262"/>
                </a:lnTo>
                <a:lnTo>
                  <a:pt x="7283704" y="38354"/>
                </a:lnTo>
                <a:close/>
              </a:path>
              <a:path w="7996555" h="91439">
                <a:moveTo>
                  <a:pt x="7231888" y="38227"/>
                </a:moveTo>
                <a:lnTo>
                  <a:pt x="7205980" y="38227"/>
                </a:lnTo>
                <a:lnTo>
                  <a:pt x="7205980" y="64135"/>
                </a:lnTo>
                <a:lnTo>
                  <a:pt x="7231888" y="64135"/>
                </a:lnTo>
                <a:lnTo>
                  <a:pt x="7231888" y="38227"/>
                </a:lnTo>
                <a:close/>
              </a:path>
              <a:path w="7996555" h="91439">
                <a:moveTo>
                  <a:pt x="7180071" y="38100"/>
                </a:moveTo>
                <a:lnTo>
                  <a:pt x="7154163" y="38100"/>
                </a:lnTo>
                <a:lnTo>
                  <a:pt x="7154163" y="64008"/>
                </a:lnTo>
                <a:lnTo>
                  <a:pt x="7180071" y="64008"/>
                </a:lnTo>
                <a:lnTo>
                  <a:pt x="7180071" y="38100"/>
                </a:lnTo>
                <a:close/>
              </a:path>
              <a:path w="7996555" h="91439">
                <a:moveTo>
                  <a:pt x="7102348" y="37973"/>
                </a:moveTo>
                <a:lnTo>
                  <a:pt x="7102348" y="63881"/>
                </a:lnTo>
                <a:lnTo>
                  <a:pt x="7128256" y="64008"/>
                </a:lnTo>
                <a:lnTo>
                  <a:pt x="7128256" y="38100"/>
                </a:lnTo>
                <a:lnTo>
                  <a:pt x="7102348" y="37973"/>
                </a:lnTo>
                <a:close/>
              </a:path>
              <a:path w="7996555" h="91439">
                <a:moveTo>
                  <a:pt x="7076440" y="37973"/>
                </a:moveTo>
                <a:lnTo>
                  <a:pt x="7050532" y="37973"/>
                </a:lnTo>
                <a:lnTo>
                  <a:pt x="7050532" y="63881"/>
                </a:lnTo>
                <a:lnTo>
                  <a:pt x="7076440" y="63881"/>
                </a:lnTo>
                <a:lnTo>
                  <a:pt x="7076440" y="37973"/>
                </a:lnTo>
                <a:close/>
              </a:path>
              <a:path w="7996555" h="91439">
                <a:moveTo>
                  <a:pt x="7024623" y="37846"/>
                </a:moveTo>
                <a:lnTo>
                  <a:pt x="6998715" y="37846"/>
                </a:lnTo>
                <a:lnTo>
                  <a:pt x="6998715" y="63754"/>
                </a:lnTo>
                <a:lnTo>
                  <a:pt x="7024623" y="63754"/>
                </a:lnTo>
                <a:lnTo>
                  <a:pt x="7024623" y="37846"/>
                </a:lnTo>
                <a:close/>
              </a:path>
              <a:path w="7996555" h="91439">
                <a:moveTo>
                  <a:pt x="6946900" y="37719"/>
                </a:moveTo>
                <a:lnTo>
                  <a:pt x="6946900" y="63627"/>
                </a:lnTo>
                <a:lnTo>
                  <a:pt x="6972808" y="63754"/>
                </a:lnTo>
                <a:lnTo>
                  <a:pt x="6972808" y="37846"/>
                </a:lnTo>
                <a:lnTo>
                  <a:pt x="6946900" y="37719"/>
                </a:lnTo>
                <a:close/>
              </a:path>
              <a:path w="7996555" h="91439">
                <a:moveTo>
                  <a:pt x="6920992" y="37719"/>
                </a:moveTo>
                <a:lnTo>
                  <a:pt x="6895084" y="37719"/>
                </a:lnTo>
                <a:lnTo>
                  <a:pt x="6895084" y="63627"/>
                </a:lnTo>
                <a:lnTo>
                  <a:pt x="6920992" y="63627"/>
                </a:lnTo>
                <a:lnTo>
                  <a:pt x="6920992" y="37719"/>
                </a:lnTo>
                <a:close/>
              </a:path>
              <a:path w="7996555" h="91439">
                <a:moveTo>
                  <a:pt x="6869176" y="37592"/>
                </a:moveTo>
                <a:lnTo>
                  <a:pt x="6843267" y="37592"/>
                </a:lnTo>
                <a:lnTo>
                  <a:pt x="6843267" y="63500"/>
                </a:lnTo>
                <a:lnTo>
                  <a:pt x="6869176" y="63500"/>
                </a:lnTo>
                <a:lnTo>
                  <a:pt x="6869176" y="37592"/>
                </a:lnTo>
                <a:close/>
              </a:path>
              <a:path w="7996555" h="91439">
                <a:moveTo>
                  <a:pt x="6791452" y="37465"/>
                </a:moveTo>
                <a:lnTo>
                  <a:pt x="6791452" y="63373"/>
                </a:lnTo>
                <a:lnTo>
                  <a:pt x="6817359" y="63500"/>
                </a:lnTo>
                <a:lnTo>
                  <a:pt x="6817359" y="37592"/>
                </a:lnTo>
                <a:lnTo>
                  <a:pt x="6791452" y="37465"/>
                </a:lnTo>
                <a:close/>
              </a:path>
              <a:path w="7996555" h="91439">
                <a:moveTo>
                  <a:pt x="6765544" y="37465"/>
                </a:moveTo>
                <a:lnTo>
                  <a:pt x="6739636" y="37465"/>
                </a:lnTo>
                <a:lnTo>
                  <a:pt x="6739636" y="63373"/>
                </a:lnTo>
                <a:lnTo>
                  <a:pt x="6765544" y="63373"/>
                </a:lnTo>
                <a:lnTo>
                  <a:pt x="6765544" y="37465"/>
                </a:lnTo>
                <a:close/>
              </a:path>
              <a:path w="7996555" h="91439">
                <a:moveTo>
                  <a:pt x="6713728" y="37338"/>
                </a:moveTo>
                <a:lnTo>
                  <a:pt x="6687819" y="37338"/>
                </a:lnTo>
                <a:lnTo>
                  <a:pt x="6687819" y="63246"/>
                </a:lnTo>
                <a:lnTo>
                  <a:pt x="6713728" y="63246"/>
                </a:lnTo>
                <a:lnTo>
                  <a:pt x="6713728" y="37338"/>
                </a:lnTo>
                <a:close/>
              </a:path>
              <a:path w="7996555" h="91439">
                <a:moveTo>
                  <a:pt x="6661911" y="37211"/>
                </a:moveTo>
                <a:lnTo>
                  <a:pt x="6636004" y="37211"/>
                </a:lnTo>
                <a:lnTo>
                  <a:pt x="6636004" y="63119"/>
                </a:lnTo>
                <a:lnTo>
                  <a:pt x="6661911" y="63119"/>
                </a:lnTo>
                <a:lnTo>
                  <a:pt x="6661911" y="37211"/>
                </a:lnTo>
                <a:close/>
              </a:path>
              <a:path w="7996555" h="91439">
                <a:moveTo>
                  <a:pt x="6584188" y="37084"/>
                </a:moveTo>
                <a:lnTo>
                  <a:pt x="6584188" y="62992"/>
                </a:lnTo>
                <a:lnTo>
                  <a:pt x="6610096" y="63119"/>
                </a:lnTo>
                <a:lnTo>
                  <a:pt x="6610096" y="37211"/>
                </a:lnTo>
                <a:lnTo>
                  <a:pt x="6584188" y="37084"/>
                </a:lnTo>
                <a:close/>
              </a:path>
              <a:path w="7996555" h="91439">
                <a:moveTo>
                  <a:pt x="6558280" y="37084"/>
                </a:moveTo>
                <a:lnTo>
                  <a:pt x="6532371" y="37084"/>
                </a:lnTo>
                <a:lnTo>
                  <a:pt x="6532371" y="62992"/>
                </a:lnTo>
                <a:lnTo>
                  <a:pt x="6558280" y="62992"/>
                </a:lnTo>
                <a:lnTo>
                  <a:pt x="6558280" y="37084"/>
                </a:lnTo>
                <a:close/>
              </a:path>
              <a:path w="7996555" h="91439">
                <a:moveTo>
                  <a:pt x="6506463" y="36957"/>
                </a:moveTo>
                <a:lnTo>
                  <a:pt x="6480556" y="36957"/>
                </a:lnTo>
                <a:lnTo>
                  <a:pt x="6480556" y="62865"/>
                </a:lnTo>
                <a:lnTo>
                  <a:pt x="6506463" y="62865"/>
                </a:lnTo>
                <a:lnTo>
                  <a:pt x="6506463" y="36957"/>
                </a:lnTo>
                <a:close/>
              </a:path>
              <a:path w="7996555" h="91439">
                <a:moveTo>
                  <a:pt x="6428740" y="36830"/>
                </a:moveTo>
                <a:lnTo>
                  <a:pt x="6428740" y="62738"/>
                </a:lnTo>
                <a:lnTo>
                  <a:pt x="6454647" y="62865"/>
                </a:lnTo>
                <a:lnTo>
                  <a:pt x="6454647" y="36957"/>
                </a:lnTo>
                <a:lnTo>
                  <a:pt x="6428740" y="36830"/>
                </a:lnTo>
                <a:close/>
              </a:path>
              <a:path w="7996555" h="91439">
                <a:moveTo>
                  <a:pt x="6402832" y="36830"/>
                </a:moveTo>
                <a:lnTo>
                  <a:pt x="6376923" y="36830"/>
                </a:lnTo>
                <a:lnTo>
                  <a:pt x="6376923" y="62738"/>
                </a:lnTo>
                <a:lnTo>
                  <a:pt x="6402832" y="62738"/>
                </a:lnTo>
                <a:lnTo>
                  <a:pt x="6402832" y="36830"/>
                </a:lnTo>
                <a:close/>
              </a:path>
              <a:path w="7996555" h="91439">
                <a:moveTo>
                  <a:pt x="6351016" y="36703"/>
                </a:moveTo>
                <a:lnTo>
                  <a:pt x="6325108" y="36703"/>
                </a:lnTo>
                <a:lnTo>
                  <a:pt x="6325108" y="62611"/>
                </a:lnTo>
                <a:lnTo>
                  <a:pt x="6351016" y="62611"/>
                </a:lnTo>
                <a:lnTo>
                  <a:pt x="6351016" y="36703"/>
                </a:lnTo>
                <a:close/>
              </a:path>
              <a:path w="7996555" h="91439">
                <a:moveTo>
                  <a:pt x="6273292" y="36576"/>
                </a:moveTo>
                <a:lnTo>
                  <a:pt x="6273292" y="62484"/>
                </a:lnTo>
                <a:lnTo>
                  <a:pt x="6299200" y="62611"/>
                </a:lnTo>
                <a:lnTo>
                  <a:pt x="6299200" y="36703"/>
                </a:lnTo>
                <a:lnTo>
                  <a:pt x="6273292" y="36576"/>
                </a:lnTo>
                <a:close/>
              </a:path>
              <a:path w="7996555" h="91439">
                <a:moveTo>
                  <a:pt x="6247384" y="36576"/>
                </a:moveTo>
                <a:lnTo>
                  <a:pt x="6221476" y="36576"/>
                </a:lnTo>
                <a:lnTo>
                  <a:pt x="6221476" y="62484"/>
                </a:lnTo>
                <a:lnTo>
                  <a:pt x="6247384" y="62484"/>
                </a:lnTo>
                <a:lnTo>
                  <a:pt x="6247384" y="36576"/>
                </a:lnTo>
                <a:close/>
              </a:path>
              <a:path w="7996555" h="91439">
                <a:moveTo>
                  <a:pt x="6195568" y="36449"/>
                </a:moveTo>
                <a:lnTo>
                  <a:pt x="6169660" y="36449"/>
                </a:lnTo>
                <a:lnTo>
                  <a:pt x="6169660" y="62357"/>
                </a:lnTo>
                <a:lnTo>
                  <a:pt x="6195568" y="62357"/>
                </a:lnTo>
                <a:lnTo>
                  <a:pt x="6195568" y="36449"/>
                </a:lnTo>
                <a:close/>
              </a:path>
              <a:path w="7996555" h="91439">
                <a:moveTo>
                  <a:pt x="6143752" y="36322"/>
                </a:moveTo>
                <a:lnTo>
                  <a:pt x="6117844" y="36322"/>
                </a:lnTo>
                <a:lnTo>
                  <a:pt x="6117844" y="62230"/>
                </a:lnTo>
                <a:lnTo>
                  <a:pt x="6143752" y="62230"/>
                </a:lnTo>
                <a:lnTo>
                  <a:pt x="6143752" y="36322"/>
                </a:lnTo>
                <a:close/>
              </a:path>
              <a:path w="7996555" h="91439">
                <a:moveTo>
                  <a:pt x="6066028" y="36195"/>
                </a:moveTo>
                <a:lnTo>
                  <a:pt x="6066028" y="62103"/>
                </a:lnTo>
                <a:lnTo>
                  <a:pt x="6091936" y="62230"/>
                </a:lnTo>
                <a:lnTo>
                  <a:pt x="6091936" y="36322"/>
                </a:lnTo>
                <a:lnTo>
                  <a:pt x="6066028" y="36195"/>
                </a:lnTo>
                <a:close/>
              </a:path>
              <a:path w="7996555" h="91439">
                <a:moveTo>
                  <a:pt x="6040120" y="36195"/>
                </a:moveTo>
                <a:lnTo>
                  <a:pt x="6014212" y="36195"/>
                </a:lnTo>
                <a:lnTo>
                  <a:pt x="6014212" y="62103"/>
                </a:lnTo>
                <a:lnTo>
                  <a:pt x="6040120" y="62103"/>
                </a:lnTo>
                <a:lnTo>
                  <a:pt x="6040120" y="36195"/>
                </a:lnTo>
                <a:close/>
              </a:path>
              <a:path w="7996555" h="91439">
                <a:moveTo>
                  <a:pt x="5988304" y="36068"/>
                </a:moveTo>
                <a:lnTo>
                  <a:pt x="5962395" y="36068"/>
                </a:lnTo>
                <a:lnTo>
                  <a:pt x="5962395" y="61976"/>
                </a:lnTo>
                <a:lnTo>
                  <a:pt x="5988304" y="61976"/>
                </a:lnTo>
                <a:lnTo>
                  <a:pt x="5988304" y="36068"/>
                </a:lnTo>
                <a:close/>
              </a:path>
              <a:path w="7996555" h="91439">
                <a:moveTo>
                  <a:pt x="5910580" y="35941"/>
                </a:moveTo>
                <a:lnTo>
                  <a:pt x="5910580" y="61849"/>
                </a:lnTo>
                <a:lnTo>
                  <a:pt x="5936488" y="61976"/>
                </a:lnTo>
                <a:lnTo>
                  <a:pt x="5936488" y="36068"/>
                </a:lnTo>
                <a:lnTo>
                  <a:pt x="5910580" y="35941"/>
                </a:lnTo>
                <a:close/>
              </a:path>
              <a:path w="7996555" h="91439">
                <a:moveTo>
                  <a:pt x="5884671" y="35941"/>
                </a:moveTo>
                <a:lnTo>
                  <a:pt x="5858764" y="35941"/>
                </a:lnTo>
                <a:lnTo>
                  <a:pt x="5858764" y="61849"/>
                </a:lnTo>
                <a:lnTo>
                  <a:pt x="5884671" y="61849"/>
                </a:lnTo>
                <a:lnTo>
                  <a:pt x="5884671" y="35941"/>
                </a:lnTo>
                <a:close/>
              </a:path>
              <a:path w="7996555" h="91439">
                <a:moveTo>
                  <a:pt x="5832856" y="35814"/>
                </a:moveTo>
                <a:lnTo>
                  <a:pt x="5806947" y="35814"/>
                </a:lnTo>
                <a:lnTo>
                  <a:pt x="5806947" y="61722"/>
                </a:lnTo>
                <a:lnTo>
                  <a:pt x="5832856" y="61722"/>
                </a:lnTo>
                <a:lnTo>
                  <a:pt x="5832856" y="35814"/>
                </a:lnTo>
                <a:close/>
              </a:path>
              <a:path w="7996555" h="91439">
                <a:moveTo>
                  <a:pt x="5755132" y="35687"/>
                </a:moveTo>
                <a:lnTo>
                  <a:pt x="5755132" y="61595"/>
                </a:lnTo>
                <a:lnTo>
                  <a:pt x="5781040" y="61722"/>
                </a:lnTo>
                <a:lnTo>
                  <a:pt x="5781040" y="35814"/>
                </a:lnTo>
                <a:lnTo>
                  <a:pt x="5755132" y="35687"/>
                </a:lnTo>
                <a:close/>
              </a:path>
              <a:path w="7996555" h="91439">
                <a:moveTo>
                  <a:pt x="5729223" y="35687"/>
                </a:moveTo>
                <a:lnTo>
                  <a:pt x="5703316" y="35687"/>
                </a:lnTo>
                <a:lnTo>
                  <a:pt x="5703316" y="61595"/>
                </a:lnTo>
                <a:lnTo>
                  <a:pt x="5729223" y="61595"/>
                </a:lnTo>
                <a:lnTo>
                  <a:pt x="5729223" y="35687"/>
                </a:lnTo>
                <a:close/>
              </a:path>
              <a:path w="7996555" h="91439">
                <a:moveTo>
                  <a:pt x="5677408" y="35560"/>
                </a:moveTo>
                <a:lnTo>
                  <a:pt x="5651500" y="35560"/>
                </a:lnTo>
                <a:lnTo>
                  <a:pt x="5651500" y="61468"/>
                </a:lnTo>
                <a:lnTo>
                  <a:pt x="5677408" y="61468"/>
                </a:lnTo>
                <a:lnTo>
                  <a:pt x="5677408" y="35560"/>
                </a:lnTo>
                <a:close/>
              </a:path>
              <a:path w="7996555" h="91439">
                <a:moveTo>
                  <a:pt x="5625592" y="35433"/>
                </a:moveTo>
                <a:lnTo>
                  <a:pt x="5599684" y="35433"/>
                </a:lnTo>
                <a:lnTo>
                  <a:pt x="5599684" y="61341"/>
                </a:lnTo>
                <a:lnTo>
                  <a:pt x="5625592" y="61341"/>
                </a:lnTo>
                <a:lnTo>
                  <a:pt x="5625592" y="35433"/>
                </a:lnTo>
                <a:close/>
              </a:path>
              <a:path w="7996555" h="91439">
                <a:moveTo>
                  <a:pt x="5547868" y="35306"/>
                </a:moveTo>
                <a:lnTo>
                  <a:pt x="5547868" y="61214"/>
                </a:lnTo>
                <a:lnTo>
                  <a:pt x="5573776" y="61341"/>
                </a:lnTo>
                <a:lnTo>
                  <a:pt x="5573776" y="35433"/>
                </a:lnTo>
                <a:lnTo>
                  <a:pt x="5547868" y="35306"/>
                </a:lnTo>
                <a:close/>
              </a:path>
              <a:path w="7996555" h="91439">
                <a:moveTo>
                  <a:pt x="5521960" y="35306"/>
                </a:moveTo>
                <a:lnTo>
                  <a:pt x="5496052" y="35306"/>
                </a:lnTo>
                <a:lnTo>
                  <a:pt x="5496052" y="61214"/>
                </a:lnTo>
                <a:lnTo>
                  <a:pt x="5521960" y="61214"/>
                </a:lnTo>
                <a:lnTo>
                  <a:pt x="5521960" y="35306"/>
                </a:lnTo>
                <a:close/>
              </a:path>
              <a:path w="7996555" h="91439">
                <a:moveTo>
                  <a:pt x="5470144" y="35179"/>
                </a:moveTo>
                <a:lnTo>
                  <a:pt x="5444363" y="35179"/>
                </a:lnTo>
                <a:lnTo>
                  <a:pt x="5444236" y="61087"/>
                </a:lnTo>
                <a:lnTo>
                  <a:pt x="5470144" y="61087"/>
                </a:lnTo>
                <a:lnTo>
                  <a:pt x="5470144" y="35179"/>
                </a:lnTo>
                <a:close/>
              </a:path>
              <a:path w="7996555" h="91439">
                <a:moveTo>
                  <a:pt x="5392420" y="35052"/>
                </a:moveTo>
                <a:lnTo>
                  <a:pt x="5392420" y="60960"/>
                </a:lnTo>
                <a:lnTo>
                  <a:pt x="5418328" y="61087"/>
                </a:lnTo>
                <a:lnTo>
                  <a:pt x="5418328" y="35179"/>
                </a:lnTo>
                <a:lnTo>
                  <a:pt x="5392420" y="35052"/>
                </a:lnTo>
                <a:close/>
              </a:path>
              <a:path w="7996555" h="91439">
                <a:moveTo>
                  <a:pt x="5366512" y="35052"/>
                </a:moveTo>
                <a:lnTo>
                  <a:pt x="5340604" y="35052"/>
                </a:lnTo>
                <a:lnTo>
                  <a:pt x="5340604" y="60960"/>
                </a:lnTo>
                <a:lnTo>
                  <a:pt x="5366512" y="60960"/>
                </a:lnTo>
                <a:lnTo>
                  <a:pt x="5366512" y="35052"/>
                </a:lnTo>
                <a:close/>
              </a:path>
              <a:path w="7996555" h="91439">
                <a:moveTo>
                  <a:pt x="5314695" y="34925"/>
                </a:moveTo>
                <a:lnTo>
                  <a:pt x="5288788" y="34925"/>
                </a:lnTo>
                <a:lnTo>
                  <a:pt x="5288788" y="60833"/>
                </a:lnTo>
                <a:lnTo>
                  <a:pt x="5314695" y="60833"/>
                </a:lnTo>
                <a:lnTo>
                  <a:pt x="5314695" y="34925"/>
                </a:lnTo>
                <a:close/>
              </a:path>
              <a:path w="7996555" h="91439">
                <a:moveTo>
                  <a:pt x="5236971" y="34798"/>
                </a:moveTo>
                <a:lnTo>
                  <a:pt x="5236971" y="60706"/>
                </a:lnTo>
                <a:lnTo>
                  <a:pt x="5262880" y="60833"/>
                </a:lnTo>
                <a:lnTo>
                  <a:pt x="5262880" y="34925"/>
                </a:lnTo>
                <a:lnTo>
                  <a:pt x="5236971" y="34798"/>
                </a:lnTo>
                <a:close/>
              </a:path>
              <a:path w="7996555" h="91439">
                <a:moveTo>
                  <a:pt x="5211064" y="34798"/>
                </a:moveTo>
                <a:lnTo>
                  <a:pt x="5185156" y="34798"/>
                </a:lnTo>
                <a:lnTo>
                  <a:pt x="5185156" y="60706"/>
                </a:lnTo>
                <a:lnTo>
                  <a:pt x="5211064" y="60706"/>
                </a:lnTo>
                <a:lnTo>
                  <a:pt x="5211064" y="34798"/>
                </a:lnTo>
                <a:close/>
              </a:path>
              <a:path w="7996555" h="91439">
                <a:moveTo>
                  <a:pt x="5159375" y="34671"/>
                </a:moveTo>
                <a:lnTo>
                  <a:pt x="5133340" y="34671"/>
                </a:lnTo>
                <a:lnTo>
                  <a:pt x="5133340" y="60579"/>
                </a:lnTo>
                <a:lnTo>
                  <a:pt x="5159247" y="60579"/>
                </a:lnTo>
                <a:lnTo>
                  <a:pt x="5159375" y="34671"/>
                </a:lnTo>
                <a:close/>
              </a:path>
              <a:path w="7996555" h="91439">
                <a:moveTo>
                  <a:pt x="5107432" y="34544"/>
                </a:moveTo>
                <a:lnTo>
                  <a:pt x="5081523" y="34544"/>
                </a:lnTo>
                <a:lnTo>
                  <a:pt x="5081523" y="60452"/>
                </a:lnTo>
                <a:lnTo>
                  <a:pt x="5107432" y="60452"/>
                </a:lnTo>
                <a:lnTo>
                  <a:pt x="5107432" y="34544"/>
                </a:lnTo>
                <a:close/>
              </a:path>
              <a:path w="7996555" h="91439">
                <a:moveTo>
                  <a:pt x="5029708" y="34417"/>
                </a:moveTo>
                <a:lnTo>
                  <a:pt x="5029708" y="60325"/>
                </a:lnTo>
                <a:lnTo>
                  <a:pt x="5055616" y="60452"/>
                </a:lnTo>
                <a:lnTo>
                  <a:pt x="5055616" y="34544"/>
                </a:lnTo>
                <a:lnTo>
                  <a:pt x="5029708" y="34417"/>
                </a:lnTo>
                <a:close/>
              </a:path>
              <a:path w="7996555" h="91439">
                <a:moveTo>
                  <a:pt x="5003800" y="34417"/>
                </a:moveTo>
                <a:lnTo>
                  <a:pt x="4977892" y="34417"/>
                </a:lnTo>
                <a:lnTo>
                  <a:pt x="4977892" y="60325"/>
                </a:lnTo>
                <a:lnTo>
                  <a:pt x="5003800" y="60325"/>
                </a:lnTo>
                <a:lnTo>
                  <a:pt x="5003800" y="34417"/>
                </a:lnTo>
                <a:close/>
              </a:path>
              <a:path w="7996555" h="91439">
                <a:moveTo>
                  <a:pt x="4951984" y="34290"/>
                </a:moveTo>
                <a:lnTo>
                  <a:pt x="4926076" y="34290"/>
                </a:lnTo>
                <a:lnTo>
                  <a:pt x="4926076" y="60198"/>
                </a:lnTo>
                <a:lnTo>
                  <a:pt x="4951984" y="60198"/>
                </a:lnTo>
                <a:lnTo>
                  <a:pt x="4951984" y="34290"/>
                </a:lnTo>
                <a:close/>
              </a:path>
              <a:path w="7996555" h="91439">
                <a:moveTo>
                  <a:pt x="4874387" y="34163"/>
                </a:moveTo>
                <a:lnTo>
                  <a:pt x="4874260" y="60071"/>
                </a:lnTo>
                <a:lnTo>
                  <a:pt x="4900168" y="60198"/>
                </a:lnTo>
                <a:lnTo>
                  <a:pt x="4900168" y="34290"/>
                </a:lnTo>
                <a:lnTo>
                  <a:pt x="4874387" y="34163"/>
                </a:lnTo>
                <a:close/>
              </a:path>
              <a:path w="7996555" h="91439">
                <a:moveTo>
                  <a:pt x="4848352" y="34163"/>
                </a:moveTo>
                <a:lnTo>
                  <a:pt x="4822444" y="34163"/>
                </a:lnTo>
                <a:lnTo>
                  <a:pt x="4822444" y="60071"/>
                </a:lnTo>
                <a:lnTo>
                  <a:pt x="4848352" y="60071"/>
                </a:lnTo>
                <a:lnTo>
                  <a:pt x="4848352" y="34163"/>
                </a:lnTo>
                <a:close/>
              </a:path>
              <a:path w="7996555" h="91439">
                <a:moveTo>
                  <a:pt x="4796536" y="34036"/>
                </a:moveTo>
                <a:lnTo>
                  <a:pt x="4770628" y="34036"/>
                </a:lnTo>
                <a:lnTo>
                  <a:pt x="4770628" y="59944"/>
                </a:lnTo>
                <a:lnTo>
                  <a:pt x="4796536" y="59944"/>
                </a:lnTo>
                <a:lnTo>
                  <a:pt x="4796536" y="34036"/>
                </a:lnTo>
                <a:close/>
              </a:path>
              <a:path w="7996555" h="91439">
                <a:moveTo>
                  <a:pt x="4718812" y="33909"/>
                </a:moveTo>
                <a:lnTo>
                  <a:pt x="4718812" y="59817"/>
                </a:lnTo>
                <a:lnTo>
                  <a:pt x="4744720" y="59944"/>
                </a:lnTo>
                <a:lnTo>
                  <a:pt x="4744720" y="34036"/>
                </a:lnTo>
                <a:lnTo>
                  <a:pt x="4718812" y="33909"/>
                </a:lnTo>
                <a:close/>
              </a:path>
              <a:path w="7996555" h="91439">
                <a:moveTo>
                  <a:pt x="4692904" y="33909"/>
                </a:moveTo>
                <a:lnTo>
                  <a:pt x="4666995" y="33909"/>
                </a:lnTo>
                <a:lnTo>
                  <a:pt x="4666995" y="59817"/>
                </a:lnTo>
                <a:lnTo>
                  <a:pt x="4692904" y="59817"/>
                </a:lnTo>
                <a:lnTo>
                  <a:pt x="4692904" y="33909"/>
                </a:lnTo>
                <a:close/>
              </a:path>
              <a:path w="7996555" h="91439">
                <a:moveTo>
                  <a:pt x="4641088" y="33782"/>
                </a:moveTo>
                <a:lnTo>
                  <a:pt x="4615180" y="33782"/>
                </a:lnTo>
                <a:lnTo>
                  <a:pt x="4615180" y="59690"/>
                </a:lnTo>
                <a:lnTo>
                  <a:pt x="4641088" y="59690"/>
                </a:lnTo>
                <a:lnTo>
                  <a:pt x="4641088" y="33782"/>
                </a:lnTo>
                <a:close/>
              </a:path>
              <a:path w="7996555" h="91439">
                <a:moveTo>
                  <a:pt x="4589271" y="33655"/>
                </a:moveTo>
                <a:lnTo>
                  <a:pt x="4563364" y="33655"/>
                </a:lnTo>
                <a:lnTo>
                  <a:pt x="4563364" y="59563"/>
                </a:lnTo>
                <a:lnTo>
                  <a:pt x="4589271" y="59563"/>
                </a:lnTo>
                <a:lnTo>
                  <a:pt x="4589271" y="33655"/>
                </a:lnTo>
                <a:close/>
              </a:path>
              <a:path w="7996555" h="91439">
                <a:moveTo>
                  <a:pt x="4511675" y="33528"/>
                </a:moveTo>
                <a:lnTo>
                  <a:pt x="4511547" y="59436"/>
                </a:lnTo>
                <a:lnTo>
                  <a:pt x="4537456" y="59563"/>
                </a:lnTo>
                <a:lnTo>
                  <a:pt x="4537456" y="33655"/>
                </a:lnTo>
                <a:lnTo>
                  <a:pt x="4511675" y="33528"/>
                </a:lnTo>
                <a:close/>
              </a:path>
              <a:path w="7996555" h="91439">
                <a:moveTo>
                  <a:pt x="4485640" y="33528"/>
                </a:moveTo>
                <a:lnTo>
                  <a:pt x="4459732" y="33528"/>
                </a:lnTo>
                <a:lnTo>
                  <a:pt x="4459732" y="59436"/>
                </a:lnTo>
                <a:lnTo>
                  <a:pt x="4485640" y="59436"/>
                </a:lnTo>
                <a:lnTo>
                  <a:pt x="4485640" y="33528"/>
                </a:lnTo>
                <a:close/>
              </a:path>
              <a:path w="7996555" h="91439">
                <a:moveTo>
                  <a:pt x="4433823" y="33401"/>
                </a:moveTo>
                <a:lnTo>
                  <a:pt x="4407916" y="33401"/>
                </a:lnTo>
                <a:lnTo>
                  <a:pt x="4407916" y="59309"/>
                </a:lnTo>
                <a:lnTo>
                  <a:pt x="4433823" y="59309"/>
                </a:lnTo>
                <a:lnTo>
                  <a:pt x="4433823" y="33401"/>
                </a:lnTo>
                <a:close/>
              </a:path>
              <a:path w="7996555" h="91439">
                <a:moveTo>
                  <a:pt x="4356100" y="33274"/>
                </a:moveTo>
                <a:lnTo>
                  <a:pt x="4356100" y="59182"/>
                </a:lnTo>
                <a:lnTo>
                  <a:pt x="4382008" y="59309"/>
                </a:lnTo>
                <a:lnTo>
                  <a:pt x="4382008" y="33401"/>
                </a:lnTo>
                <a:lnTo>
                  <a:pt x="4356100" y="33274"/>
                </a:lnTo>
                <a:close/>
              </a:path>
              <a:path w="7996555" h="91439">
                <a:moveTo>
                  <a:pt x="4330192" y="33274"/>
                </a:moveTo>
                <a:lnTo>
                  <a:pt x="4304284" y="33274"/>
                </a:lnTo>
                <a:lnTo>
                  <a:pt x="4304284" y="59182"/>
                </a:lnTo>
                <a:lnTo>
                  <a:pt x="4330192" y="59182"/>
                </a:lnTo>
                <a:lnTo>
                  <a:pt x="4330192" y="33274"/>
                </a:lnTo>
                <a:close/>
              </a:path>
              <a:path w="7996555" h="91439">
                <a:moveTo>
                  <a:pt x="4278376" y="33147"/>
                </a:moveTo>
                <a:lnTo>
                  <a:pt x="4252468" y="33147"/>
                </a:lnTo>
                <a:lnTo>
                  <a:pt x="4252468" y="59055"/>
                </a:lnTo>
                <a:lnTo>
                  <a:pt x="4278376" y="59055"/>
                </a:lnTo>
                <a:lnTo>
                  <a:pt x="4278376" y="33147"/>
                </a:lnTo>
                <a:close/>
              </a:path>
              <a:path w="7996555" h="91439">
                <a:moveTo>
                  <a:pt x="4200652" y="33020"/>
                </a:moveTo>
                <a:lnTo>
                  <a:pt x="4200652" y="58928"/>
                </a:lnTo>
                <a:lnTo>
                  <a:pt x="4226560" y="59055"/>
                </a:lnTo>
                <a:lnTo>
                  <a:pt x="4226687" y="33147"/>
                </a:lnTo>
                <a:lnTo>
                  <a:pt x="4200652" y="33020"/>
                </a:lnTo>
                <a:close/>
              </a:path>
              <a:path w="7996555" h="91439">
                <a:moveTo>
                  <a:pt x="4174743" y="33020"/>
                </a:moveTo>
                <a:lnTo>
                  <a:pt x="4148836" y="33020"/>
                </a:lnTo>
                <a:lnTo>
                  <a:pt x="4148836" y="58928"/>
                </a:lnTo>
                <a:lnTo>
                  <a:pt x="4174743" y="58928"/>
                </a:lnTo>
                <a:lnTo>
                  <a:pt x="4174743" y="33020"/>
                </a:lnTo>
                <a:close/>
              </a:path>
              <a:path w="7996555" h="91439">
                <a:moveTo>
                  <a:pt x="4122928" y="32893"/>
                </a:moveTo>
                <a:lnTo>
                  <a:pt x="4097019" y="32893"/>
                </a:lnTo>
                <a:lnTo>
                  <a:pt x="4097019" y="58801"/>
                </a:lnTo>
                <a:lnTo>
                  <a:pt x="4122928" y="58801"/>
                </a:lnTo>
                <a:lnTo>
                  <a:pt x="4122928" y="32893"/>
                </a:lnTo>
                <a:close/>
              </a:path>
              <a:path w="7996555" h="91439">
                <a:moveTo>
                  <a:pt x="4071112" y="32766"/>
                </a:moveTo>
                <a:lnTo>
                  <a:pt x="4045204" y="32766"/>
                </a:lnTo>
                <a:lnTo>
                  <a:pt x="4045204" y="58674"/>
                </a:lnTo>
                <a:lnTo>
                  <a:pt x="4071112" y="58674"/>
                </a:lnTo>
                <a:lnTo>
                  <a:pt x="4071112" y="32766"/>
                </a:lnTo>
                <a:close/>
              </a:path>
              <a:path w="7996555" h="91439">
                <a:moveTo>
                  <a:pt x="3993388" y="32639"/>
                </a:moveTo>
                <a:lnTo>
                  <a:pt x="3993388" y="58547"/>
                </a:lnTo>
                <a:lnTo>
                  <a:pt x="4019295" y="58674"/>
                </a:lnTo>
                <a:lnTo>
                  <a:pt x="4019295" y="32766"/>
                </a:lnTo>
                <a:lnTo>
                  <a:pt x="3993388" y="32639"/>
                </a:lnTo>
                <a:close/>
              </a:path>
              <a:path w="7996555" h="91439">
                <a:moveTo>
                  <a:pt x="3967480" y="32639"/>
                </a:moveTo>
                <a:lnTo>
                  <a:pt x="3941571" y="32639"/>
                </a:lnTo>
                <a:lnTo>
                  <a:pt x="3941571" y="58547"/>
                </a:lnTo>
                <a:lnTo>
                  <a:pt x="3967480" y="58547"/>
                </a:lnTo>
                <a:lnTo>
                  <a:pt x="3967480" y="32639"/>
                </a:lnTo>
                <a:close/>
              </a:path>
              <a:path w="7996555" h="91439">
                <a:moveTo>
                  <a:pt x="3915664" y="32512"/>
                </a:moveTo>
                <a:lnTo>
                  <a:pt x="3889756" y="32512"/>
                </a:lnTo>
                <a:lnTo>
                  <a:pt x="3889756" y="58420"/>
                </a:lnTo>
                <a:lnTo>
                  <a:pt x="3915664" y="58420"/>
                </a:lnTo>
                <a:lnTo>
                  <a:pt x="3915664" y="32512"/>
                </a:lnTo>
                <a:close/>
              </a:path>
              <a:path w="7996555" h="91439">
                <a:moveTo>
                  <a:pt x="3837940" y="32385"/>
                </a:moveTo>
                <a:lnTo>
                  <a:pt x="3837940" y="58293"/>
                </a:lnTo>
                <a:lnTo>
                  <a:pt x="3863847" y="58420"/>
                </a:lnTo>
                <a:lnTo>
                  <a:pt x="3863847" y="32512"/>
                </a:lnTo>
                <a:lnTo>
                  <a:pt x="3837940" y="32385"/>
                </a:lnTo>
                <a:close/>
              </a:path>
              <a:path w="7996555" h="91439">
                <a:moveTo>
                  <a:pt x="3812032" y="32385"/>
                </a:moveTo>
                <a:lnTo>
                  <a:pt x="3786123" y="32385"/>
                </a:lnTo>
                <a:lnTo>
                  <a:pt x="3786123" y="58293"/>
                </a:lnTo>
                <a:lnTo>
                  <a:pt x="3812032" y="58293"/>
                </a:lnTo>
                <a:lnTo>
                  <a:pt x="3812032" y="32385"/>
                </a:lnTo>
                <a:close/>
              </a:path>
              <a:path w="7996555" h="91439">
                <a:moveTo>
                  <a:pt x="3760216" y="32258"/>
                </a:moveTo>
                <a:lnTo>
                  <a:pt x="3734308" y="32258"/>
                </a:lnTo>
                <a:lnTo>
                  <a:pt x="3734308" y="58166"/>
                </a:lnTo>
                <a:lnTo>
                  <a:pt x="3760216" y="58166"/>
                </a:lnTo>
                <a:lnTo>
                  <a:pt x="3760216" y="32258"/>
                </a:lnTo>
                <a:close/>
              </a:path>
              <a:path w="7996555" h="91439">
                <a:moveTo>
                  <a:pt x="3682491" y="32131"/>
                </a:moveTo>
                <a:lnTo>
                  <a:pt x="3682491" y="58039"/>
                </a:lnTo>
                <a:lnTo>
                  <a:pt x="3708400" y="58166"/>
                </a:lnTo>
                <a:lnTo>
                  <a:pt x="3708400" y="32258"/>
                </a:lnTo>
                <a:lnTo>
                  <a:pt x="3682491" y="32131"/>
                </a:lnTo>
                <a:close/>
              </a:path>
              <a:path w="7996555" h="91439">
                <a:moveTo>
                  <a:pt x="3656584" y="32131"/>
                </a:moveTo>
                <a:lnTo>
                  <a:pt x="3630676" y="32131"/>
                </a:lnTo>
                <a:lnTo>
                  <a:pt x="3630676" y="58039"/>
                </a:lnTo>
                <a:lnTo>
                  <a:pt x="3656584" y="58039"/>
                </a:lnTo>
                <a:lnTo>
                  <a:pt x="3656584" y="32131"/>
                </a:lnTo>
                <a:close/>
              </a:path>
              <a:path w="7996555" h="91439">
                <a:moveTo>
                  <a:pt x="3604767" y="32004"/>
                </a:moveTo>
                <a:lnTo>
                  <a:pt x="3578987" y="32004"/>
                </a:lnTo>
                <a:lnTo>
                  <a:pt x="3578860" y="57912"/>
                </a:lnTo>
                <a:lnTo>
                  <a:pt x="3604767" y="57912"/>
                </a:lnTo>
                <a:lnTo>
                  <a:pt x="3604767" y="32004"/>
                </a:lnTo>
                <a:close/>
              </a:path>
              <a:path w="7996555" h="91439">
                <a:moveTo>
                  <a:pt x="3552952" y="31877"/>
                </a:moveTo>
                <a:lnTo>
                  <a:pt x="3527043" y="31877"/>
                </a:lnTo>
                <a:lnTo>
                  <a:pt x="3527043" y="57785"/>
                </a:lnTo>
                <a:lnTo>
                  <a:pt x="3552952" y="57785"/>
                </a:lnTo>
                <a:lnTo>
                  <a:pt x="3552952" y="31877"/>
                </a:lnTo>
                <a:close/>
              </a:path>
              <a:path w="7996555" h="91439">
                <a:moveTo>
                  <a:pt x="3475228" y="31750"/>
                </a:moveTo>
                <a:lnTo>
                  <a:pt x="3475228" y="57658"/>
                </a:lnTo>
                <a:lnTo>
                  <a:pt x="3501136" y="57785"/>
                </a:lnTo>
                <a:lnTo>
                  <a:pt x="3501136" y="31877"/>
                </a:lnTo>
                <a:lnTo>
                  <a:pt x="3475228" y="31750"/>
                </a:lnTo>
                <a:close/>
              </a:path>
              <a:path w="7996555" h="91439">
                <a:moveTo>
                  <a:pt x="3449319" y="31750"/>
                </a:moveTo>
                <a:lnTo>
                  <a:pt x="3423412" y="31750"/>
                </a:lnTo>
                <a:lnTo>
                  <a:pt x="3423412" y="57658"/>
                </a:lnTo>
                <a:lnTo>
                  <a:pt x="3449319" y="57658"/>
                </a:lnTo>
                <a:lnTo>
                  <a:pt x="3449319" y="31750"/>
                </a:lnTo>
                <a:close/>
              </a:path>
              <a:path w="7996555" h="91439">
                <a:moveTo>
                  <a:pt x="3397504" y="31623"/>
                </a:moveTo>
                <a:lnTo>
                  <a:pt x="3371595" y="31623"/>
                </a:lnTo>
                <a:lnTo>
                  <a:pt x="3371595" y="57531"/>
                </a:lnTo>
                <a:lnTo>
                  <a:pt x="3397504" y="57531"/>
                </a:lnTo>
                <a:lnTo>
                  <a:pt x="3397504" y="31623"/>
                </a:lnTo>
                <a:close/>
              </a:path>
              <a:path w="7996555" h="91439">
                <a:moveTo>
                  <a:pt x="3319780" y="31496"/>
                </a:moveTo>
                <a:lnTo>
                  <a:pt x="3319780" y="57404"/>
                </a:lnTo>
                <a:lnTo>
                  <a:pt x="3345688" y="57531"/>
                </a:lnTo>
                <a:lnTo>
                  <a:pt x="3345688" y="31623"/>
                </a:lnTo>
                <a:lnTo>
                  <a:pt x="3319780" y="31496"/>
                </a:lnTo>
                <a:close/>
              </a:path>
              <a:path w="7996555" h="91439">
                <a:moveTo>
                  <a:pt x="3293871" y="31496"/>
                </a:moveTo>
                <a:lnTo>
                  <a:pt x="3267964" y="31496"/>
                </a:lnTo>
                <a:lnTo>
                  <a:pt x="3267964" y="57404"/>
                </a:lnTo>
                <a:lnTo>
                  <a:pt x="3293871" y="57404"/>
                </a:lnTo>
                <a:lnTo>
                  <a:pt x="3293871" y="31496"/>
                </a:lnTo>
                <a:close/>
              </a:path>
              <a:path w="7996555" h="91439">
                <a:moveTo>
                  <a:pt x="3242056" y="31369"/>
                </a:moveTo>
                <a:lnTo>
                  <a:pt x="3216147" y="31369"/>
                </a:lnTo>
                <a:lnTo>
                  <a:pt x="3216147" y="57277"/>
                </a:lnTo>
                <a:lnTo>
                  <a:pt x="3242056" y="57277"/>
                </a:lnTo>
                <a:lnTo>
                  <a:pt x="3242056" y="31369"/>
                </a:lnTo>
                <a:close/>
              </a:path>
              <a:path w="7996555" h="91439">
                <a:moveTo>
                  <a:pt x="3164332" y="31242"/>
                </a:moveTo>
                <a:lnTo>
                  <a:pt x="3164332" y="57150"/>
                </a:lnTo>
                <a:lnTo>
                  <a:pt x="3190240" y="57277"/>
                </a:lnTo>
                <a:lnTo>
                  <a:pt x="3190240" y="31369"/>
                </a:lnTo>
                <a:lnTo>
                  <a:pt x="3164332" y="31242"/>
                </a:lnTo>
                <a:close/>
              </a:path>
              <a:path w="7996555" h="91439">
                <a:moveTo>
                  <a:pt x="3138423" y="31242"/>
                </a:moveTo>
                <a:lnTo>
                  <a:pt x="3112516" y="31242"/>
                </a:lnTo>
                <a:lnTo>
                  <a:pt x="3112516" y="57150"/>
                </a:lnTo>
                <a:lnTo>
                  <a:pt x="3138423" y="57150"/>
                </a:lnTo>
                <a:lnTo>
                  <a:pt x="3138423" y="31242"/>
                </a:lnTo>
                <a:close/>
              </a:path>
              <a:path w="7996555" h="91439">
                <a:moveTo>
                  <a:pt x="3086608" y="31115"/>
                </a:moveTo>
                <a:lnTo>
                  <a:pt x="3060700" y="31115"/>
                </a:lnTo>
                <a:lnTo>
                  <a:pt x="3060700" y="57023"/>
                </a:lnTo>
                <a:lnTo>
                  <a:pt x="3086608" y="57023"/>
                </a:lnTo>
                <a:lnTo>
                  <a:pt x="3086608" y="31115"/>
                </a:lnTo>
                <a:close/>
              </a:path>
              <a:path w="7996555" h="91439">
                <a:moveTo>
                  <a:pt x="3034791" y="30988"/>
                </a:moveTo>
                <a:lnTo>
                  <a:pt x="3008884" y="30988"/>
                </a:lnTo>
                <a:lnTo>
                  <a:pt x="3008884" y="56896"/>
                </a:lnTo>
                <a:lnTo>
                  <a:pt x="3034791" y="56896"/>
                </a:lnTo>
                <a:lnTo>
                  <a:pt x="3034791" y="30988"/>
                </a:lnTo>
                <a:close/>
              </a:path>
              <a:path w="7996555" h="91439">
                <a:moveTo>
                  <a:pt x="2957067" y="30861"/>
                </a:moveTo>
                <a:lnTo>
                  <a:pt x="2957067" y="56769"/>
                </a:lnTo>
                <a:lnTo>
                  <a:pt x="2982976" y="56896"/>
                </a:lnTo>
                <a:lnTo>
                  <a:pt x="2982976" y="30988"/>
                </a:lnTo>
                <a:lnTo>
                  <a:pt x="2957067" y="30861"/>
                </a:lnTo>
                <a:close/>
              </a:path>
              <a:path w="7996555" h="91439">
                <a:moveTo>
                  <a:pt x="2931160" y="30861"/>
                </a:moveTo>
                <a:lnTo>
                  <a:pt x="2905252" y="30861"/>
                </a:lnTo>
                <a:lnTo>
                  <a:pt x="2905252" y="56769"/>
                </a:lnTo>
                <a:lnTo>
                  <a:pt x="2931160" y="56769"/>
                </a:lnTo>
                <a:lnTo>
                  <a:pt x="2931160" y="30861"/>
                </a:lnTo>
                <a:close/>
              </a:path>
              <a:path w="7996555" h="91439">
                <a:moveTo>
                  <a:pt x="2879343" y="30734"/>
                </a:moveTo>
                <a:lnTo>
                  <a:pt x="2853436" y="30734"/>
                </a:lnTo>
                <a:lnTo>
                  <a:pt x="2853436" y="56642"/>
                </a:lnTo>
                <a:lnTo>
                  <a:pt x="2879343" y="56642"/>
                </a:lnTo>
                <a:lnTo>
                  <a:pt x="2879343" y="30734"/>
                </a:lnTo>
                <a:close/>
              </a:path>
              <a:path w="7996555" h="91439">
                <a:moveTo>
                  <a:pt x="2801619" y="30607"/>
                </a:moveTo>
                <a:lnTo>
                  <a:pt x="2801619" y="56515"/>
                </a:lnTo>
                <a:lnTo>
                  <a:pt x="2827528" y="56642"/>
                </a:lnTo>
                <a:lnTo>
                  <a:pt x="2827528" y="30734"/>
                </a:lnTo>
                <a:lnTo>
                  <a:pt x="2801619" y="30607"/>
                </a:lnTo>
                <a:close/>
              </a:path>
              <a:path w="7996555" h="91439">
                <a:moveTo>
                  <a:pt x="2775712" y="30607"/>
                </a:moveTo>
                <a:lnTo>
                  <a:pt x="2749804" y="30607"/>
                </a:lnTo>
                <a:lnTo>
                  <a:pt x="2749804" y="56515"/>
                </a:lnTo>
                <a:lnTo>
                  <a:pt x="2775712" y="56515"/>
                </a:lnTo>
                <a:lnTo>
                  <a:pt x="2775712" y="30607"/>
                </a:lnTo>
                <a:close/>
              </a:path>
              <a:path w="7996555" h="91439">
                <a:moveTo>
                  <a:pt x="2723895" y="30480"/>
                </a:moveTo>
                <a:lnTo>
                  <a:pt x="2697988" y="30480"/>
                </a:lnTo>
                <a:lnTo>
                  <a:pt x="2697988" y="56388"/>
                </a:lnTo>
                <a:lnTo>
                  <a:pt x="2723895" y="56388"/>
                </a:lnTo>
                <a:lnTo>
                  <a:pt x="2723895" y="30480"/>
                </a:lnTo>
                <a:close/>
              </a:path>
              <a:path w="7996555" h="91439">
                <a:moveTo>
                  <a:pt x="2646171" y="30353"/>
                </a:moveTo>
                <a:lnTo>
                  <a:pt x="2646171" y="56261"/>
                </a:lnTo>
                <a:lnTo>
                  <a:pt x="2672080" y="56388"/>
                </a:lnTo>
                <a:lnTo>
                  <a:pt x="2672080" y="30480"/>
                </a:lnTo>
                <a:lnTo>
                  <a:pt x="2646171" y="30353"/>
                </a:lnTo>
                <a:close/>
              </a:path>
              <a:path w="7996555" h="91439">
                <a:moveTo>
                  <a:pt x="2620264" y="30353"/>
                </a:moveTo>
                <a:lnTo>
                  <a:pt x="2594356" y="30353"/>
                </a:lnTo>
                <a:lnTo>
                  <a:pt x="2594356" y="56261"/>
                </a:lnTo>
                <a:lnTo>
                  <a:pt x="2620264" y="56261"/>
                </a:lnTo>
                <a:lnTo>
                  <a:pt x="2620264" y="30353"/>
                </a:lnTo>
                <a:close/>
              </a:path>
              <a:path w="7996555" h="91439">
                <a:moveTo>
                  <a:pt x="2568447" y="30226"/>
                </a:moveTo>
                <a:lnTo>
                  <a:pt x="2542540" y="30226"/>
                </a:lnTo>
                <a:lnTo>
                  <a:pt x="2542540" y="56134"/>
                </a:lnTo>
                <a:lnTo>
                  <a:pt x="2568447" y="56134"/>
                </a:lnTo>
                <a:lnTo>
                  <a:pt x="2568447" y="30226"/>
                </a:lnTo>
                <a:close/>
              </a:path>
              <a:path w="7996555" h="91439">
                <a:moveTo>
                  <a:pt x="2516632" y="30099"/>
                </a:moveTo>
                <a:lnTo>
                  <a:pt x="2490723" y="30099"/>
                </a:lnTo>
                <a:lnTo>
                  <a:pt x="2490723" y="56007"/>
                </a:lnTo>
                <a:lnTo>
                  <a:pt x="2516632" y="56007"/>
                </a:lnTo>
                <a:lnTo>
                  <a:pt x="2516632" y="30099"/>
                </a:lnTo>
                <a:close/>
              </a:path>
              <a:path w="7996555" h="91439">
                <a:moveTo>
                  <a:pt x="2438908" y="29972"/>
                </a:moveTo>
                <a:lnTo>
                  <a:pt x="2438908" y="55880"/>
                </a:lnTo>
                <a:lnTo>
                  <a:pt x="2464816" y="56007"/>
                </a:lnTo>
                <a:lnTo>
                  <a:pt x="2464816" y="30099"/>
                </a:lnTo>
                <a:lnTo>
                  <a:pt x="2438908" y="29972"/>
                </a:lnTo>
                <a:close/>
              </a:path>
              <a:path w="7996555" h="91439">
                <a:moveTo>
                  <a:pt x="2413000" y="29972"/>
                </a:moveTo>
                <a:lnTo>
                  <a:pt x="2387091" y="29972"/>
                </a:lnTo>
                <a:lnTo>
                  <a:pt x="2387091" y="55880"/>
                </a:lnTo>
                <a:lnTo>
                  <a:pt x="2413000" y="55880"/>
                </a:lnTo>
                <a:lnTo>
                  <a:pt x="2413000" y="29972"/>
                </a:lnTo>
                <a:close/>
              </a:path>
              <a:path w="7996555" h="91439">
                <a:moveTo>
                  <a:pt x="2361184" y="29845"/>
                </a:moveTo>
                <a:lnTo>
                  <a:pt x="2335276" y="29845"/>
                </a:lnTo>
                <a:lnTo>
                  <a:pt x="2335276" y="55753"/>
                </a:lnTo>
                <a:lnTo>
                  <a:pt x="2361184" y="55753"/>
                </a:lnTo>
                <a:lnTo>
                  <a:pt x="2361184" y="29845"/>
                </a:lnTo>
                <a:close/>
              </a:path>
              <a:path w="7996555" h="91439">
                <a:moveTo>
                  <a:pt x="2283460" y="29718"/>
                </a:moveTo>
                <a:lnTo>
                  <a:pt x="2283460" y="55626"/>
                </a:lnTo>
                <a:lnTo>
                  <a:pt x="2309367" y="55753"/>
                </a:lnTo>
                <a:lnTo>
                  <a:pt x="2309367" y="29845"/>
                </a:lnTo>
                <a:lnTo>
                  <a:pt x="2283460" y="29718"/>
                </a:lnTo>
                <a:close/>
              </a:path>
              <a:path w="7996555" h="91439">
                <a:moveTo>
                  <a:pt x="2257552" y="29718"/>
                </a:moveTo>
                <a:lnTo>
                  <a:pt x="2231644" y="29718"/>
                </a:lnTo>
                <a:lnTo>
                  <a:pt x="2231644" y="55626"/>
                </a:lnTo>
                <a:lnTo>
                  <a:pt x="2257552" y="55626"/>
                </a:lnTo>
                <a:lnTo>
                  <a:pt x="2257552" y="29718"/>
                </a:lnTo>
                <a:close/>
              </a:path>
              <a:path w="7996555" h="91439">
                <a:moveTo>
                  <a:pt x="2205736" y="29591"/>
                </a:moveTo>
                <a:lnTo>
                  <a:pt x="2179828" y="29591"/>
                </a:lnTo>
                <a:lnTo>
                  <a:pt x="2179828" y="55499"/>
                </a:lnTo>
                <a:lnTo>
                  <a:pt x="2205736" y="55499"/>
                </a:lnTo>
                <a:lnTo>
                  <a:pt x="2205736" y="29591"/>
                </a:lnTo>
                <a:close/>
              </a:path>
              <a:path w="7996555" h="91439">
                <a:moveTo>
                  <a:pt x="2128139" y="29464"/>
                </a:moveTo>
                <a:lnTo>
                  <a:pt x="2128012" y="55372"/>
                </a:lnTo>
                <a:lnTo>
                  <a:pt x="2153920" y="55499"/>
                </a:lnTo>
                <a:lnTo>
                  <a:pt x="2153920" y="29591"/>
                </a:lnTo>
                <a:lnTo>
                  <a:pt x="2128139" y="29464"/>
                </a:lnTo>
                <a:close/>
              </a:path>
              <a:path w="7996555" h="91439">
                <a:moveTo>
                  <a:pt x="2102231" y="29464"/>
                </a:moveTo>
                <a:lnTo>
                  <a:pt x="2076196" y="29464"/>
                </a:lnTo>
                <a:lnTo>
                  <a:pt x="2076196" y="55372"/>
                </a:lnTo>
                <a:lnTo>
                  <a:pt x="2102104" y="55372"/>
                </a:lnTo>
                <a:lnTo>
                  <a:pt x="2102231" y="29464"/>
                </a:lnTo>
                <a:close/>
              </a:path>
              <a:path w="7996555" h="91439">
                <a:moveTo>
                  <a:pt x="2050288" y="29337"/>
                </a:moveTo>
                <a:lnTo>
                  <a:pt x="2024507" y="29337"/>
                </a:lnTo>
                <a:lnTo>
                  <a:pt x="2024379" y="55245"/>
                </a:lnTo>
                <a:lnTo>
                  <a:pt x="2050288" y="55245"/>
                </a:lnTo>
                <a:lnTo>
                  <a:pt x="2050288" y="29337"/>
                </a:lnTo>
                <a:close/>
              </a:path>
              <a:path w="7996555" h="91439">
                <a:moveTo>
                  <a:pt x="1998472" y="29210"/>
                </a:moveTo>
                <a:lnTo>
                  <a:pt x="1972564" y="29210"/>
                </a:lnTo>
                <a:lnTo>
                  <a:pt x="1972564" y="55118"/>
                </a:lnTo>
                <a:lnTo>
                  <a:pt x="1998472" y="55118"/>
                </a:lnTo>
                <a:lnTo>
                  <a:pt x="1998472" y="29210"/>
                </a:lnTo>
                <a:close/>
              </a:path>
              <a:path w="7996555" h="91439">
                <a:moveTo>
                  <a:pt x="1920875" y="29083"/>
                </a:moveTo>
                <a:lnTo>
                  <a:pt x="1920748" y="54991"/>
                </a:lnTo>
                <a:lnTo>
                  <a:pt x="1946656" y="55118"/>
                </a:lnTo>
                <a:lnTo>
                  <a:pt x="1946656" y="29210"/>
                </a:lnTo>
                <a:lnTo>
                  <a:pt x="1920875" y="29083"/>
                </a:lnTo>
                <a:close/>
              </a:path>
              <a:path w="7996555" h="91439">
                <a:moveTo>
                  <a:pt x="1894839" y="29083"/>
                </a:moveTo>
                <a:lnTo>
                  <a:pt x="1868932" y="29083"/>
                </a:lnTo>
                <a:lnTo>
                  <a:pt x="1868932" y="54991"/>
                </a:lnTo>
                <a:lnTo>
                  <a:pt x="1894839" y="54991"/>
                </a:lnTo>
                <a:lnTo>
                  <a:pt x="1894839" y="29083"/>
                </a:lnTo>
                <a:close/>
              </a:path>
              <a:path w="7996555" h="91439">
                <a:moveTo>
                  <a:pt x="1843151" y="28956"/>
                </a:moveTo>
                <a:lnTo>
                  <a:pt x="1817115" y="28956"/>
                </a:lnTo>
                <a:lnTo>
                  <a:pt x="1817115" y="54864"/>
                </a:lnTo>
                <a:lnTo>
                  <a:pt x="1843024" y="54864"/>
                </a:lnTo>
                <a:lnTo>
                  <a:pt x="1843151" y="28956"/>
                </a:lnTo>
                <a:close/>
              </a:path>
              <a:path w="7996555" h="91439">
                <a:moveTo>
                  <a:pt x="1765300" y="28829"/>
                </a:moveTo>
                <a:lnTo>
                  <a:pt x="1765300" y="54737"/>
                </a:lnTo>
                <a:lnTo>
                  <a:pt x="1791208" y="54864"/>
                </a:lnTo>
                <a:lnTo>
                  <a:pt x="1791208" y="28956"/>
                </a:lnTo>
                <a:lnTo>
                  <a:pt x="1765300" y="28829"/>
                </a:lnTo>
                <a:close/>
              </a:path>
              <a:path w="7996555" h="91439">
                <a:moveTo>
                  <a:pt x="1739519" y="28829"/>
                </a:moveTo>
                <a:lnTo>
                  <a:pt x="1713484" y="28829"/>
                </a:lnTo>
                <a:lnTo>
                  <a:pt x="1713484" y="54737"/>
                </a:lnTo>
                <a:lnTo>
                  <a:pt x="1739391" y="54737"/>
                </a:lnTo>
                <a:lnTo>
                  <a:pt x="1739519" y="28829"/>
                </a:lnTo>
                <a:close/>
              </a:path>
              <a:path w="7996555" h="91439">
                <a:moveTo>
                  <a:pt x="1687576" y="28702"/>
                </a:moveTo>
                <a:lnTo>
                  <a:pt x="1661667" y="28702"/>
                </a:lnTo>
                <a:lnTo>
                  <a:pt x="1661667" y="54610"/>
                </a:lnTo>
                <a:lnTo>
                  <a:pt x="1687576" y="54610"/>
                </a:lnTo>
                <a:lnTo>
                  <a:pt x="1687576" y="28702"/>
                </a:lnTo>
                <a:close/>
              </a:path>
              <a:path w="7996555" h="91439">
                <a:moveTo>
                  <a:pt x="1609852" y="28575"/>
                </a:moveTo>
                <a:lnTo>
                  <a:pt x="1609852" y="54483"/>
                </a:lnTo>
                <a:lnTo>
                  <a:pt x="1635760" y="54610"/>
                </a:lnTo>
                <a:lnTo>
                  <a:pt x="1635760" y="28702"/>
                </a:lnTo>
                <a:lnTo>
                  <a:pt x="1609852" y="28575"/>
                </a:lnTo>
                <a:close/>
              </a:path>
              <a:path w="7996555" h="91439">
                <a:moveTo>
                  <a:pt x="1583944" y="28575"/>
                </a:moveTo>
                <a:lnTo>
                  <a:pt x="1558036" y="28575"/>
                </a:lnTo>
                <a:lnTo>
                  <a:pt x="1558036" y="54483"/>
                </a:lnTo>
                <a:lnTo>
                  <a:pt x="1583944" y="54483"/>
                </a:lnTo>
                <a:lnTo>
                  <a:pt x="1583944" y="28575"/>
                </a:lnTo>
                <a:close/>
              </a:path>
              <a:path w="7996555" h="91439">
                <a:moveTo>
                  <a:pt x="1532127" y="28448"/>
                </a:moveTo>
                <a:lnTo>
                  <a:pt x="1506220" y="28448"/>
                </a:lnTo>
                <a:lnTo>
                  <a:pt x="1506220" y="54356"/>
                </a:lnTo>
                <a:lnTo>
                  <a:pt x="1532127" y="54356"/>
                </a:lnTo>
                <a:lnTo>
                  <a:pt x="1532127" y="28448"/>
                </a:lnTo>
                <a:close/>
              </a:path>
              <a:path w="7996555" h="91439">
                <a:moveTo>
                  <a:pt x="1480312" y="28321"/>
                </a:moveTo>
                <a:lnTo>
                  <a:pt x="1454403" y="28321"/>
                </a:lnTo>
                <a:lnTo>
                  <a:pt x="1454403" y="54229"/>
                </a:lnTo>
                <a:lnTo>
                  <a:pt x="1480312" y="54229"/>
                </a:lnTo>
                <a:lnTo>
                  <a:pt x="1480312" y="28321"/>
                </a:lnTo>
                <a:close/>
              </a:path>
              <a:path w="7996555" h="91439">
                <a:moveTo>
                  <a:pt x="1402588" y="28194"/>
                </a:moveTo>
                <a:lnTo>
                  <a:pt x="1402588" y="54102"/>
                </a:lnTo>
                <a:lnTo>
                  <a:pt x="1428496" y="54229"/>
                </a:lnTo>
                <a:lnTo>
                  <a:pt x="1428496" y="28321"/>
                </a:lnTo>
                <a:lnTo>
                  <a:pt x="1402588" y="28194"/>
                </a:lnTo>
                <a:close/>
              </a:path>
              <a:path w="7996555" h="91439">
                <a:moveTo>
                  <a:pt x="1376679" y="28194"/>
                </a:moveTo>
                <a:lnTo>
                  <a:pt x="1350772" y="28194"/>
                </a:lnTo>
                <a:lnTo>
                  <a:pt x="1350772" y="54102"/>
                </a:lnTo>
                <a:lnTo>
                  <a:pt x="1376679" y="54102"/>
                </a:lnTo>
                <a:lnTo>
                  <a:pt x="1376679" y="28194"/>
                </a:lnTo>
                <a:close/>
              </a:path>
              <a:path w="7996555" h="91439">
                <a:moveTo>
                  <a:pt x="1324864" y="28067"/>
                </a:moveTo>
                <a:lnTo>
                  <a:pt x="1298956" y="28067"/>
                </a:lnTo>
                <a:lnTo>
                  <a:pt x="1298956" y="53975"/>
                </a:lnTo>
                <a:lnTo>
                  <a:pt x="1324864" y="53975"/>
                </a:lnTo>
                <a:lnTo>
                  <a:pt x="1324864" y="28067"/>
                </a:lnTo>
                <a:close/>
              </a:path>
              <a:path w="7996555" h="91439">
                <a:moveTo>
                  <a:pt x="1247139" y="27940"/>
                </a:moveTo>
                <a:lnTo>
                  <a:pt x="1247139" y="53848"/>
                </a:lnTo>
                <a:lnTo>
                  <a:pt x="1273048" y="53975"/>
                </a:lnTo>
                <a:lnTo>
                  <a:pt x="1273048" y="28067"/>
                </a:lnTo>
                <a:lnTo>
                  <a:pt x="1247139" y="27940"/>
                </a:lnTo>
                <a:close/>
              </a:path>
              <a:path w="7996555" h="91439">
                <a:moveTo>
                  <a:pt x="1221232" y="27940"/>
                </a:moveTo>
                <a:lnTo>
                  <a:pt x="1195324" y="27940"/>
                </a:lnTo>
                <a:lnTo>
                  <a:pt x="1195324" y="53848"/>
                </a:lnTo>
                <a:lnTo>
                  <a:pt x="1221232" y="53848"/>
                </a:lnTo>
                <a:lnTo>
                  <a:pt x="1221232" y="27940"/>
                </a:lnTo>
                <a:close/>
              </a:path>
              <a:path w="7996555" h="91439">
                <a:moveTo>
                  <a:pt x="1169415" y="27813"/>
                </a:moveTo>
                <a:lnTo>
                  <a:pt x="1143508" y="27813"/>
                </a:lnTo>
                <a:lnTo>
                  <a:pt x="1143508" y="53721"/>
                </a:lnTo>
                <a:lnTo>
                  <a:pt x="1169415" y="53721"/>
                </a:lnTo>
                <a:lnTo>
                  <a:pt x="1169415" y="27813"/>
                </a:lnTo>
                <a:close/>
              </a:path>
              <a:path w="7996555" h="91439">
                <a:moveTo>
                  <a:pt x="1091691" y="27686"/>
                </a:moveTo>
                <a:lnTo>
                  <a:pt x="1091691" y="53594"/>
                </a:lnTo>
                <a:lnTo>
                  <a:pt x="1117600" y="53721"/>
                </a:lnTo>
                <a:lnTo>
                  <a:pt x="1117600" y="27813"/>
                </a:lnTo>
                <a:lnTo>
                  <a:pt x="1091691" y="27686"/>
                </a:lnTo>
                <a:close/>
              </a:path>
              <a:path w="7996555" h="91439">
                <a:moveTo>
                  <a:pt x="1065784" y="27686"/>
                </a:moveTo>
                <a:lnTo>
                  <a:pt x="1039876" y="27686"/>
                </a:lnTo>
                <a:lnTo>
                  <a:pt x="1039876" y="53594"/>
                </a:lnTo>
                <a:lnTo>
                  <a:pt x="1065784" y="53594"/>
                </a:lnTo>
                <a:lnTo>
                  <a:pt x="1065784" y="27686"/>
                </a:lnTo>
                <a:close/>
              </a:path>
              <a:path w="7996555" h="91439">
                <a:moveTo>
                  <a:pt x="1013967" y="27559"/>
                </a:moveTo>
                <a:lnTo>
                  <a:pt x="988060" y="27559"/>
                </a:lnTo>
                <a:lnTo>
                  <a:pt x="988060" y="53467"/>
                </a:lnTo>
                <a:lnTo>
                  <a:pt x="1013967" y="53467"/>
                </a:lnTo>
                <a:lnTo>
                  <a:pt x="1013967" y="27559"/>
                </a:lnTo>
                <a:close/>
              </a:path>
              <a:path w="7996555" h="91439">
                <a:moveTo>
                  <a:pt x="962151" y="27432"/>
                </a:moveTo>
                <a:lnTo>
                  <a:pt x="936244" y="27432"/>
                </a:lnTo>
                <a:lnTo>
                  <a:pt x="936244" y="53340"/>
                </a:lnTo>
                <a:lnTo>
                  <a:pt x="962151" y="53340"/>
                </a:lnTo>
                <a:lnTo>
                  <a:pt x="962151" y="27432"/>
                </a:lnTo>
                <a:close/>
              </a:path>
              <a:path w="7996555" h="91439">
                <a:moveTo>
                  <a:pt x="884427" y="27305"/>
                </a:moveTo>
                <a:lnTo>
                  <a:pt x="884427" y="53213"/>
                </a:lnTo>
                <a:lnTo>
                  <a:pt x="910336" y="53340"/>
                </a:lnTo>
                <a:lnTo>
                  <a:pt x="910336" y="27432"/>
                </a:lnTo>
                <a:lnTo>
                  <a:pt x="884427" y="27305"/>
                </a:lnTo>
                <a:close/>
              </a:path>
              <a:path w="7996555" h="91439">
                <a:moveTo>
                  <a:pt x="858520" y="27305"/>
                </a:moveTo>
                <a:lnTo>
                  <a:pt x="832612" y="27305"/>
                </a:lnTo>
                <a:lnTo>
                  <a:pt x="832612" y="53213"/>
                </a:lnTo>
                <a:lnTo>
                  <a:pt x="858520" y="53213"/>
                </a:lnTo>
                <a:lnTo>
                  <a:pt x="858520" y="27305"/>
                </a:lnTo>
                <a:close/>
              </a:path>
              <a:path w="7996555" h="91439">
                <a:moveTo>
                  <a:pt x="806703" y="27178"/>
                </a:moveTo>
                <a:lnTo>
                  <a:pt x="780796" y="27178"/>
                </a:lnTo>
                <a:lnTo>
                  <a:pt x="780796" y="53086"/>
                </a:lnTo>
                <a:lnTo>
                  <a:pt x="806703" y="53086"/>
                </a:lnTo>
                <a:lnTo>
                  <a:pt x="806703" y="27178"/>
                </a:lnTo>
                <a:close/>
              </a:path>
              <a:path w="7996555" h="91439">
                <a:moveTo>
                  <a:pt x="728979" y="27051"/>
                </a:moveTo>
                <a:lnTo>
                  <a:pt x="728979" y="52959"/>
                </a:lnTo>
                <a:lnTo>
                  <a:pt x="754888" y="53086"/>
                </a:lnTo>
                <a:lnTo>
                  <a:pt x="754888" y="27178"/>
                </a:lnTo>
                <a:lnTo>
                  <a:pt x="728979" y="27051"/>
                </a:lnTo>
                <a:close/>
              </a:path>
              <a:path w="7996555" h="91439">
                <a:moveTo>
                  <a:pt x="703072" y="27051"/>
                </a:moveTo>
                <a:lnTo>
                  <a:pt x="677163" y="27051"/>
                </a:lnTo>
                <a:lnTo>
                  <a:pt x="677163" y="52959"/>
                </a:lnTo>
                <a:lnTo>
                  <a:pt x="703072" y="52959"/>
                </a:lnTo>
                <a:lnTo>
                  <a:pt x="703072" y="27051"/>
                </a:lnTo>
                <a:close/>
              </a:path>
              <a:path w="7996555" h="91439">
                <a:moveTo>
                  <a:pt x="651256" y="26924"/>
                </a:moveTo>
                <a:lnTo>
                  <a:pt x="625348" y="26924"/>
                </a:lnTo>
                <a:lnTo>
                  <a:pt x="625348" y="52832"/>
                </a:lnTo>
                <a:lnTo>
                  <a:pt x="651256" y="52832"/>
                </a:lnTo>
                <a:lnTo>
                  <a:pt x="651256" y="26924"/>
                </a:lnTo>
                <a:close/>
              </a:path>
              <a:path w="7996555" h="91439">
                <a:moveTo>
                  <a:pt x="573532" y="26797"/>
                </a:moveTo>
                <a:lnTo>
                  <a:pt x="573532" y="52705"/>
                </a:lnTo>
                <a:lnTo>
                  <a:pt x="599439" y="52832"/>
                </a:lnTo>
                <a:lnTo>
                  <a:pt x="599439" y="26924"/>
                </a:lnTo>
                <a:lnTo>
                  <a:pt x="573532" y="26797"/>
                </a:lnTo>
                <a:close/>
              </a:path>
              <a:path w="7996555" h="91439">
                <a:moveTo>
                  <a:pt x="547624" y="26797"/>
                </a:moveTo>
                <a:lnTo>
                  <a:pt x="521715" y="26797"/>
                </a:lnTo>
                <a:lnTo>
                  <a:pt x="521715" y="52705"/>
                </a:lnTo>
                <a:lnTo>
                  <a:pt x="547624" y="52705"/>
                </a:lnTo>
                <a:lnTo>
                  <a:pt x="547624" y="26797"/>
                </a:lnTo>
                <a:close/>
              </a:path>
              <a:path w="7996555" h="91439">
                <a:moveTo>
                  <a:pt x="495808" y="26670"/>
                </a:moveTo>
                <a:lnTo>
                  <a:pt x="469900" y="26670"/>
                </a:lnTo>
                <a:lnTo>
                  <a:pt x="469900" y="52578"/>
                </a:lnTo>
                <a:lnTo>
                  <a:pt x="495808" y="52578"/>
                </a:lnTo>
                <a:lnTo>
                  <a:pt x="495808" y="26670"/>
                </a:lnTo>
                <a:close/>
              </a:path>
              <a:path w="7996555" h="91439">
                <a:moveTo>
                  <a:pt x="443991" y="26543"/>
                </a:moveTo>
                <a:lnTo>
                  <a:pt x="418084" y="26543"/>
                </a:lnTo>
                <a:lnTo>
                  <a:pt x="418084" y="52451"/>
                </a:lnTo>
                <a:lnTo>
                  <a:pt x="443991" y="52451"/>
                </a:lnTo>
                <a:lnTo>
                  <a:pt x="443991" y="26543"/>
                </a:lnTo>
                <a:close/>
              </a:path>
              <a:path w="7996555" h="91439">
                <a:moveTo>
                  <a:pt x="366267" y="26416"/>
                </a:moveTo>
                <a:lnTo>
                  <a:pt x="366267" y="52324"/>
                </a:lnTo>
                <a:lnTo>
                  <a:pt x="392175" y="52451"/>
                </a:lnTo>
                <a:lnTo>
                  <a:pt x="392175" y="26543"/>
                </a:lnTo>
                <a:lnTo>
                  <a:pt x="366267" y="26416"/>
                </a:lnTo>
                <a:close/>
              </a:path>
              <a:path w="7996555" h="91439">
                <a:moveTo>
                  <a:pt x="340360" y="26416"/>
                </a:moveTo>
                <a:lnTo>
                  <a:pt x="314451" y="26416"/>
                </a:lnTo>
                <a:lnTo>
                  <a:pt x="314451" y="52324"/>
                </a:lnTo>
                <a:lnTo>
                  <a:pt x="340360" y="52324"/>
                </a:lnTo>
                <a:lnTo>
                  <a:pt x="340360" y="26416"/>
                </a:lnTo>
                <a:close/>
              </a:path>
              <a:path w="7996555" h="91439">
                <a:moveTo>
                  <a:pt x="288544" y="26289"/>
                </a:moveTo>
                <a:lnTo>
                  <a:pt x="262636" y="26289"/>
                </a:lnTo>
                <a:lnTo>
                  <a:pt x="262636" y="52197"/>
                </a:lnTo>
                <a:lnTo>
                  <a:pt x="288544" y="52197"/>
                </a:lnTo>
                <a:lnTo>
                  <a:pt x="288544" y="26289"/>
                </a:lnTo>
                <a:close/>
              </a:path>
              <a:path w="7996555" h="91439">
                <a:moveTo>
                  <a:pt x="210820" y="26162"/>
                </a:moveTo>
                <a:lnTo>
                  <a:pt x="210820" y="52070"/>
                </a:lnTo>
                <a:lnTo>
                  <a:pt x="236727" y="52197"/>
                </a:lnTo>
                <a:lnTo>
                  <a:pt x="236727" y="26289"/>
                </a:lnTo>
                <a:lnTo>
                  <a:pt x="210820" y="26162"/>
                </a:lnTo>
                <a:close/>
              </a:path>
              <a:path w="7996555" h="91439">
                <a:moveTo>
                  <a:pt x="184912" y="26162"/>
                </a:moveTo>
                <a:lnTo>
                  <a:pt x="159003" y="26162"/>
                </a:lnTo>
                <a:lnTo>
                  <a:pt x="159003" y="52070"/>
                </a:lnTo>
                <a:lnTo>
                  <a:pt x="184912" y="52070"/>
                </a:lnTo>
                <a:lnTo>
                  <a:pt x="184912" y="26162"/>
                </a:lnTo>
                <a:close/>
              </a:path>
              <a:path w="7996555" h="91439">
                <a:moveTo>
                  <a:pt x="133096" y="26035"/>
                </a:moveTo>
                <a:lnTo>
                  <a:pt x="107187" y="26035"/>
                </a:lnTo>
                <a:lnTo>
                  <a:pt x="107187" y="51943"/>
                </a:lnTo>
                <a:lnTo>
                  <a:pt x="133096" y="51943"/>
                </a:lnTo>
                <a:lnTo>
                  <a:pt x="133096" y="26035"/>
                </a:lnTo>
                <a:close/>
              </a:path>
              <a:path w="7996555" h="91439">
                <a:moveTo>
                  <a:pt x="38988" y="0"/>
                </a:moveTo>
                <a:lnTo>
                  <a:pt x="23842" y="3034"/>
                </a:lnTo>
                <a:lnTo>
                  <a:pt x="11445" y="11318"/>
                </a:lnTo>
                <a:lnTo>
                  <a:pt x="3073" y="23627"/>
                </a:lnTo>
                <a:lnTo>
                  <a:pt x="0" y="38735"/>
                </a:lnTo>
                <a:lnTo>
                  <a:pt x="3034" y="53881"/>
                </a:lnTo>
                <a:lnTo>
                  <a:pt x="11318" y="66278"/>
                </a:lnTo>
                <a:lnTo>
                  <a:pt x="23627" y="74650"/>
                </a:lnTo>
                <a:lnTo>
                  <a:pt x="38735" y="77724"/>
                </a:lnTo>
                <a:lnTo>
                  <a:pt x="53881" y="74689"/>
                </a:lnTo>
                <a:lnTo>
                  <a:pt x="66278" y="66405"/>
                </a:lnTo>
                <a:lnTo>
                  <a:pt x="74650" y="54096"/>
                </a:lnTo>
                <a:lnTo>
                  <a:pt x="75094" y="51912"/>
                </a:lnTo>
                <a:lnTo>
                  <a:pt x="55372" y="51816"/>
                </a:lnTo>
                <a:lnTo>
                  <a:pt x="55372" y="25908"/>
                </a:lnTo>
                <a:lnTo>
                  <a:pt x="75103" y="25908"/>
                </a:lnTo>
                <a:lnTo>
                  <a:pt x="74689" y="23842"/>
                </a:lnTo>
                <a:lnTo>
                  <a:pt x="66405" y="11445"/>
                </a:lnTo>
                <a:lnTo>
                  <a:pt x="54096" y="3073"/>
                </a:lnTo>
                <a:lnTo>
                  <a:pt x="38988" y="0"/>
                </a:lnTo>
                <a:close/>
              </a:path>
              <a:path w="7996555" h="91439">
                <a:moveTo>
                  <a:pt x="75123" y="26004"/>
                </a:moveTo>
                <a:lnTo>
                  <a:pt x="77724" y="38989"/>
                </a:lnTo>
                <a:lnTo>
                  <a:pt x="75094" y="51912"/>
                </a:lnTo>
                <a:lnTo>
                  <a:pt x="81279" y="51943"/>
                </a:lnTo>
                <a:lnTo>
                  <a:pt x="81279" y="26035"/>
                </a:lnTo>
                <a:lnTo>
                  <a:pt x="75123" y="26004"/>
                </a:lnTo>
                <a:close/>
              </a:path>
              <a:path w="7996555" h="91439">
                <a:moveTo>
                  <a:pt x="55372" y="25908"/>
                </a:moveTo>
                <a:lnTo>
                  <a:pt x="55372" y="51816"/>
                </a:lnTo>
                <a:lnTo>
                  <a:pt x="75094" y="51912"/>
                </a:lnTo>
                <a:lnTo>
                  <a:pt x="77724" y="38989"/>
                </a:lnTo>
                <a:lnTo>
                  <a:pt x="75123" y="26004"/>
                </a:lnTo>
                <a:lnTo>
                  <a:pt x="55372" y="25908"/>
                </a:lnTo>
                <a:close/>
              </a:path>
              <a:path w="7996555" h="91439">
                <a:moveTo>
                  <a:pt x="75103" y="25908"/>
                </a:moveTo>
                <a:lnTo>
                  <a:pt x="55372" y="25908"/>
                </a:lnTo>
                <a:lnTo>
                  <a:pt x="75123" y="26004"/>
                </a:lnTo>
                <a:lnTo>
                  <a:pt x="75103" y="25908"/>
                </a:lnTo>
                <a:close/>
              </a:path>
            </a:pathLst>
          </a:custGeom>
          <a:solidFill>
            <a:srgbClr val="39ab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7" name="TextBox 2"/>
          <p:cNvSpPr/>
          <p:nvPr/>
        </p:nvSpPr>
        <p:spPr>
          <a:xfrm>
            <a:off x="1042920" y="404640"/>
            <a:ext cx="75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6fc6"/>
                </a:solidFill>
                <a:latin typeface="Calibri"/>
              </a:rPr>
              <a:t>Принципы работы школы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8" name="Нижний колонтитул 3"/>
          <p:cNvSpPr/>
          <p:nvPr/>
        </p:nvSpPr>
        <p:spPr>
          <a:xfrm>
            <a:off x="609480" y="6248520"/>
            <a:ext cx="794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Управление образования Администрации Талицкого городского округа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9" name="Номер слайда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530D-7A04-4B72-BF5C-79449711C670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object 2"/>
          <p:cNvGrpSpPr/>
          <p:nvPr/>
        </p:nvGrpSpPr>
        <p:grpSpPr>
          <a:xfrm>
            <a:off x="227160" y="3441600"/>
            <a:ext cx="8694720" cy="147600"/>
            <a:chOff x="227160" y="3441600"/>
            <a:chExt cx="8694720" cy="147600"/>
          </a:xfrm>
        </p:grpSpPr>
        <p:sp>
          <p:nvSpPr>
            <p:cNvPr id="801" name="object 4"/>
            <p:cNvSpPr/>
            <p:nvPr/>
          </p:nvSpPr>
          <p:spPr>
            <a:xfrm>
              <a:off x="227160" y="3502800"/>
              <a:ext cx="8694720" cy="35280"/>
            </a:xfrm>
            <a:custGeom>
              <a:avLst/>
              <a:gdLst>
                <a:gd name="textAreaLeft" fmla="*/ 0 w 8694720"/>
                <a:gd name="textAreaRight" fmla="*/ 8695080 w 86947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1593830" h="46989">
                  <a:moveTo>
                    <a:pt x="0" y="46989"/>
                  </a:moveTo>
                  <a:lnTo>
                    <a:pt x="11593321" y="0"/>
                  </a:lnTo>
                </a:path>
              </a:pathLst>
            </a:custGeom>
            <a:noFill/>
            <a:ln w="28800">
              <a:solidFill>
                <a:srgbClr val="9dc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02" name="object 5"/>
            <p:cNvSpPr/>
            <p:nvPr/>
          </p:nvSpPr>
          <p:spPr>
            <a:xfrm>
              <a:off x="1192320" y="3466800"/>
              <a:ext cx="122040" cy="12240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22400"/>
                <a:gd name="textAreaBottom" fmla="*/ 122400 h 122400"/>
              </a:gdLst>
              <a:ahLst/>
              <a:rect l="textAreaLeft" t="textAreaTop" r="textAreaRight" b="textAreaBottom"/>
              <a:pathLst>
                <a:path w="163194" h="163195">
                  <a:moveTo>
                    <a:pt x="81534" y="0"/>
                  </a:moveTo>
                  <a:lnTo>
                    <a:pt x="49774" y="6399"/>
                  </a:lnTo>
                  <a:lnTo>
                    <a:pt x="23860" y="23860"/>
                  </a:lnTo>
                  <a:lnTo>
                    <a:pt x="6399" y="49774"/>
                  </a:lnTo>
                  <a:lnTo>
                    <a:pt x="0" y="81534"/>
                  </a:lnTo>
                  <a:lnTo>
                    <a:pt x="6399" y="113293"/>
                  </a:lnTo>
                  <a:lnTo>
                    <a:pt x="23860" y="139207"/>
                  </a:lnTo>
                  <a:lnTo>
                    <a:pt x="49774" y="156668"/>
                  </a:lnTo>
                  <a:lnTo>
                    <a:pt x="81534" y="163068"/>
                  </a:lnTo>
                  <a:lnTo>
                    <a:pt x="113293" y="156668"/>
                  </a:lnTo>
                  <a:lnTo>
                    <a:pt x="139207" y="139207"/>
                  </a:lnTo>
                  <a:lnTo>
                    <a:pt x="156668" y="113293"/>
                  </a:lnTo>
                  <a:lnTo>
                    <a:pt x="163068" y="81534"/>
                  </a:lnTo>
                  <a:lnTo>
                    <a:pt x="156668" y="49774"/>
                  </a:lnTo>
                  <a:lnTo>
                    <a:pt x="139207" y="23860"/>
                  </a:lnTo>
                  <a:lnTo>
                    <a:pt x="113293" y="6399"/>
                  </a:lnTo>
                  <a:lnTo>
                    <a:pt x="81534" y="0"/>
                  </a:lnTo>
                  <a:close/>
                </a:path>
              </a:pathLst>
            </a:custGeom>
            <a:solidFill>
              <a:srgbClr val="001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pic>
          <p:nvPicPr>
            <p:cNvPr id="803" name="object 6" descr=""/>
            <p:cNvPicPr/>
            <p:nvPr/>
          </p:nvPicPr>
          <p:blipFill>
            <a:blip r:embed="rId1"/>
            <a:stretch/>
          </p:blipFill>
          <p:spPr>
            <a:xfrm>
              <a:off x="2613960" y="3441600"/>
              <a:ext cx="122040" cy="12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4" name="object 7" descr=""/>
            <p:cNvPicPr/>
            <p:nvPr/>
          </p:nvPicPr>
          <p:blipFill>
            <a:blip r:embed="rId2"/>
            <a:stretch/>
          </p:blipFill>
          <p:spPr>
            <a:xfrm>
              <a:off x="3730680" y="3441600"/>
              <a:ext cx="122040" cy="12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5" name="object 8" descr=""/>
            <p:cNvPicPr/>
            <p:nvPr/>
          </p:nvPicPr>
          <p:blipFill>
            <a:blip r:embed="rId3"/>
            <a:stretch/>
          </p:blipFill>
          <p:spPr>
            <a:xfrm>
              <a:off x="4802760" y="3441600"/>
              <a:ext cx="122040" cy="12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object 9" descr=""/>
            <p:cNvPicPr/>
            <p:nvPr/>
          </p:nvPicPr>
          <p:blipFill>
            <a:blip r:embed="rId4"/>
            <a:stretch/>
          </p:blipFill>
          <p:spPr>
            <a:xfrm>
              <a:off x="5814360" y="3441600"/>
              <a:ext cx="122040" cy="1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object 12"/>
          <p:cNvSpPr/>
          <p:nvPr/>
        </p:nvSpPr>
        <p:spPr>
          <a:xfrm>
            <a:off x="939960" y="3133800"/>
            <a:ext cx="5918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936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1f5f"/>
                </a:solidFill>
                <a:latin typeface="Calibri"/>
              </a:rPr>
              <a:t>ЗНАНИЕ: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8" name="object 13"/>
          <p:cNvSpPr/>
          <p:nvPr/>
        </p:nvSpPr>
        <p:spPr>
          <a:xfrm>
            <a:off x="384120" y="3297240"/>
            <a:ext cx="17384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936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1f5f"/>
                </a:solidFill>
                <a:latin typeface="Calibri"/>
              </a:rPr>
              <a:t>качество и объективность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9" name="object 14"/>
          <p:cNvSpPr/>
          <p:nvPr/>
        </p:nvSpPr>
        <p:spPr>
          <a:xfrm>
            <a:off x="2241720" y="3244680"/>
            <a:ext cx="920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936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1f5f"/>
                </a:solidFill>
                <a:latin typeface="Calibri"/>
              </a:rPr>
              <a:t>ВОСПИТАНИЕ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0" name="object 15"/>
          <p:cNvSpPr/>
          <p:nvPr/>
        </p:nvSpPr>
        <p:spPr>
          <a:xfrm>
            <a:off x="3425760" y="3613320"/>
            <a:ext cx="7254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936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1f5f"/>
                </a:solidFill>
                <a:latin typeface="Calibri"/>
              </a:rPr>
              <a:t>ЗДОРОВЬЕ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1" name="object 16"/>
          <p:cNvSpPr/>
          <p:nvPr/>
        </p:nvSpPr>
        <p:spPr>
          <a:xfrm>
            <a:off x="4253040" y="3189240"/>
            <a:ext cx="13176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936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1f5f"/>
                </a:solidFill>
                <a:latin typeface="Calibri"/>
              </a:rPr>
              <a:t>ПРОФОРИЕНТАЦИЯ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2" name="object 17"/>
          <p:cNvSpPr/>
          <p:nvPr/>
        </p:nvSpPr>
        <p:spPr>
          <a:xfrm>
            <a:off x="6056280" y="3054240"/>
            <a:ext cx="133992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8960" bIns="0" anchor="t">
            <a:spAutoFit/>
          </a:bodyPr>
          <a:p>
            <a:pPr marL="453960" indent="-446040">
              <a:lnSpc>
                <a:spcPct val="78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1f5f"/>
                </a:solidFill>
                <a:latin typeface="Calibri"/>
              </a:rPr>
              <a:t>ОБРАЗОВАТЕЛЬНАЯ  СРЕДА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3" name="object 18"/>
          <p:cNvSpPr/>
          <p:nvPr/>
        </p:nvSpPr>
        <p:spPr>
          <a:xfrm>
            <a:off x="5442120" y="3552840"/>
            <a:ext cx="8683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936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1f5f"/>
                </a:solidFill>
                <a:latin typeface="Calibri"/>
              </a:rPr>
              <a:t>ТВОРЧЕСТВО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814" name="object 33"/>
          <p:cNvGrpSpPr/>
          <p:nvPr/>
        </p:nvGrpSpPr>
        <p:grpSpPr>
          <a:xfrm>
            <a:off x="1033560" y="2743200"/>
            <a:ext cx="5833800" cy="1314360"/>
            <a:chOff x="1033560" y="2743200"/>
            <a:chExt cx="5833800" cy="1314360"/>
          </a:xfrm>
        </p:grpSpPr>
        <p:sp>
          <p:nvSpPr>
            <p:cNvPr id="815" name="object 34"/>
            <p:cNvSpPr/>
            <p:nvPr/>
          </p:nvSpPr>
          <p:spPr>
            <a:xfrm>
              <a:off x="1254600" y="2743200"/>
              <a:ext cx="5424480" cy="1314360"/>
            </a:xfrm>
            <a:custGeom>
              <a:avLst/>
              <a:gdLst>
                <a:gd name="textAreaLeft" fmla="*/ 0 w 5424480"/>
                <a:gd name="textAreaRight" fmla="*/ 5424840 w 5424480"/>
                <a:gd name="textAreaTop" fmla="*/ 0 h 1314360"/>
                <a:gd name="textAreaBottom" fmla="*/ 1314720 h 1314360"/>
              </a:gdLst>
              <a:ahLst/>
              <a:rect l="textAreaLeft" t="textAreaTop" r="textAreaRight" b="textAreaBottom"/>
              <a:pathLst>
                <a:path w="7232650" h="1722754">
                  <a:moveTo>
                    <a:pt x="0" y="1117092"/>
                  </a:moveTo>
                  <a:lnTo>
                    <a:pt x="0" y="1260602"/>
                  </a:lnTo>
                </a:path>
                <a:path w="7232650" h="1722754">
                  <a:moveTo>
                    <a:pt x="3381756" y="1395984"/>
                  </a:moveTo>
                  <a:lnTo>
                    <a:pt x="3381756" y="1616710"/>
                  </a:lnTo>
                </a:path>
                <a:path w="7232650" h="1722754">
                  <a:moveTo>
                    <a:pt x="6152388" y="1402080"/>
                  </a:moveTo>
                  <a:lnTo>
                    <a:pt x="6152388" y="1722628"/>
                  </a:lnTo>
                </a:path>
                <a:path w="7232650" h="1722754">
                  <a:moveTo>
                    <a:pt x="1903476" y="469392"/>
                  </a:moveTo>
                  <a:lnTo>
                    <a:pt x="1903476" y="685419"/>
                  </a:lnTo>
                </a:path>
                <a:path w="7232650" h="1722754">
                  <a:moveTo>
                    <a:pt x="4783836" y="361188"/>
                  </a:moveTo>
                  <a:lnTo>
                    <a:pt x="4783836" y="541147"/>
                  </a:lnTo>
                </a:path>
                <a:path w="7232650" h="1722754">
                  <a:moveTo>
                    <a:pt x="7231380" y="0"/>
                  </a:moveTo>
                  <a:lnTo>
                    <a:pt x="7232269" y="395986"/>
                  </a:lnTo>
                </a:path>
              </a:pathLst>
            </a:custGeom>
            <a:noFill/>
            <a:ln w="28800">
              <a:solidFill>
                <a:srgbClr val="5597d2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pic>
          <p:nvPicPr>
            <p:cNvPr id="816" name="object 35" descr=""/>
            <p:cNvPicPr/>
            <p:nvPr/>
          </p:nvPicPr>
          <p:blipFill>
            <a:blip r:embed="rId5"/>
            <a:stretch/>
          </p:blipFill>
          <p:spPr>
            <a:xfrm>
              <a:off x="1033560" y="2786760"/>
              <a:ext cx="439920" cy="44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7" name="object 36" descr=""/>
            <p:cNvPicPr/>
            <p:nvPr/>
          </p:nvPicPr>
          <p:blipFill>
            <a:blip r:embed="rId6"/>
            <a:stretch/>
          </p:blipFill>
          <p:spPr>
            <a:xfrm>
              <a:off x="2593440" y="3676680"/>
              <a:ext cx="328680" cy="3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object 37" descr=""/>
            <p:cNvPicPr/>
            <p:nvPr/>
          </p:nvPicPr>
          <p:blipFill>
            <a:blip r:embed="rId7"/>
            <a:stretch/>
          </p:blipFill>
          <p:spPr>
            <a:xfrm>
              <a:off x="6522480" y="3642480"/>
              <a:ext cx="344880" cy="35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9" name="object 38" descr=""/>
            <p:cNvPicPr/>
            <p:nvPr/>
          </p:nvPicPr>
          <p:blipFill>
            <a:blip r:embed="rId8"/>
            <a:stretch/>
          </p:blipFill>
          <p:spPr>
            <a:xfrm>
              <a:off x="4631760" y="3607920"/>
              <a:ext cx="425160" cy="4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object 39" descr=""/>
            <p:cNvPicPr/>
            <p:nvPr/>
          </p:nvPicPr>
          <p:blipFill>
            <a:blip r:embed="rId9"/>
            <a:stretch/>
          </p:blipFill>
          <p:spPr>
            <a:xfrm>
              <a:off x="3653280" y="3086280"/>
              <a:ext cx="287640" cy="2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object 40" descr=""/>
            <p:cNvPicPr/>
            <p:nvPr/>
          </p:nvPicPr>
          <p:blipFill>
            <a:blip r:embed="rId10"/>
            <a:stretch/>
          </p:blipFill>
          <p:spPr>
            <a:xfrm>
              <a:off x="5652360" y="2971440"/>
              <a:ext cx="397440" cy="40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2" name="object 41"/>
          <p:cNvSpPr/>
          <p:nvPr/>
        </p:nvSpPr>
        <p:spPr>
          <a:xfrm>
            <a:off x="779400" y="1547640"/>
            <a:ext cx="6984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936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Базовый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3" name="object 42"/>
          <p:cNvSpPr/>
          <p:nvPr/>
        </p:nvSpPr>
        <p:spPr>
          <a:xfrm>
            <a:off x="779400" y="1662120"/>
            <a:ext cx="6494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936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уровень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24" name="object 43" descr=""/>
          <p:cNvPicPr/>
          <p:nvPr/>
        </p:nvPicPr>
        <p:blipFill>
          <a:blip r:embed="rId11"/>
          <a:stretch/>
        </p:blipFill>
        <p:spPr>
          <a:xfrm>
            <a:off x="301680" y="1393920"/>
            <a:ext cx="476280" cy="460440"/>
          </a:xfrm>
          <a:prstGeom prst="rect">
            <a:avLst/>
          </a:prstGeom>
          <a:ln w="0">
            <a:noFill/>
          </a:ln>
        </p:spPr>
      </p:pic>
      <p:sp>
        <p:nvSpPr>
          <p:cNvPr id="825" name="object 44"/>
          <p:cNvSpPr/>
          <p:nvPr/>
        </p:nvSpPr>
        <p:spPr>
          <a:xfrm>
            <a:off x="838080" y="1994040"/>
            <a:ext cx="64152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936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Средний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6" name="object 45"/>
          <p:cNvSpPr/>
          <p:nvPr/>
        </p:nvSpPr>
        <p:spPr>
          <a:xfrm>
            <a:off x="838080" y="2108160"/>
            <a:ext cx="5922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936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уровень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27" name="object 46" descr=""/>
          <p:cNvPicPr/>
          <p:nvPr/>
        </p:nvPicPr>
        <p:blipFill>
          <a:blip r:embed="rId12"/>
          <a:stretch/>
        </p:blipFill>
        <p:spPr>
          <a:xfrm>
            <a:off x="316080" y="1838160"/>
            <a:ext cx="525240" cy="463680"/>
          </a:xfrm>
          <a:prstGeom prst="rect">
            <a:avLst/>
          </a:prstGeom>
          <a:ln w="0">
            <a:noFill/>
          </a:ln>
        </p:spPr>
      </p:pic>
      <p:sp>
        <p:nvSpPr>
          <p:cNvPr id="828" name="object 47"/>
          <p:cNvSpPr/>
          <p:nvPr/>
        </p:nvSpPr>
        <p:spPr>
          <a:xfrm>
            <a:off x="838080" y="2403360"/>
            <a:ext cx="58104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936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Полный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9" name="object 48"/>
          <p:cNvSpPr/>
          <p:nvPr/>
        </p:nvSpPr>
        <p:spPr>
          <a:xfrm>
            <a:off x="838080" y="2517840"/>
            <a:ext cx="5922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936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уровень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830" name="object 49"/>
          <p:cNvGrpSpPr/>
          <p:nvPr/>
        </p:nvGrpSpPr>
        <p:grpSpPr>
          <a:xfrm>
            <a:off x="316080" y="2247840"/>
            <a:ext cx="6483240" cy="1314360"/>
            <a:chOff x="316080" y="2247840"/>
            <a:chExt cx="6483240" cy="1314360"/>
          </a:xfrm>
        </p:grpSpPr>
        <p:pic>
          <p:nvPicPr>
            <p:cNvPr id="831" name="object 50" descr=""/>
            <p:cNvPicPr/>
            <p:nvPr/>
          </p:nvPicPr>
          <p:blipFill>
            <a:blip r:embed="rId13"/>
            <a:stretch/>
          </p:blipFill>
          <p:spPr>
            <a:xfrm>
              <a:off x="316080" y="2247840"/>
              <a:ext cx="525240" cy="46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2" name="object 51" descr=""/>
            <p:cNvPicPr/>
            <p:nvPr/>
          </p:nvPicPr>
          <p:blipFill>
            <a:blip r:embed="rId14"/>
            <a:stretch/>
          </p:blipFill>
          <p:spPr>
            <a:xfrm>
              <a:off x="6678360" y="3441240"/>
              <a:ext cx="120960" cy="12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3" name="object 54"/>
          <p:cNvSpPr/>
          <p:nvPr/>
        </p:nvSpPr>
        <p:spPr>
          <a:xfrm>
            <a:off x="7345440" y="3606840"/>
            <a:ext cx="619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936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1f5f"/>
                </a:solidFill>
                <a:latin typeface="Calibri"/>
              </a:rPr>
              <a:t>УЧИТЕЛЬ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834" name="object 55"/>
          <p:cNvGrpSpPr/>
          <p:nvPr/>
        </p:nvGrpSpPr>
        <p:grpSpPr>
          <a:xfrm>
            <a:off x="154080" y="3025800"/>
            <a:ext cx="8359560" cy="982800"/>
            <a:chOff x="154080" y="3025800"/>
            <a:chExt cx="8359560" cy="982800"/>
          </a:xfrm>
        </p:grpSpPr>
        <p:sp>
          <p:nvSpPr>
            <p:cNvPr id="835" name="object 56"/>
            <p:cNvSpPr/>
            <p:nvPr/>
          </p:nvSpPr>
          <p:spPr>
            <a:xfrm>
              <a:off x="7704000" y="3871800"/>
              <a:ext cx="360" cy="136800"/>
            </a:xfrm>
            <a:custGeom>
              <a:avLst/>
              <a:gdLst/>
              <a:ahLst/>
              <a:rect l="l" t="t" r="r" b="b"/>
              <a:pathLst>
                <a:path w="0" h="180339">
                  <a:moveTo>
                    <a:pt x="0" y="0"/>
                  </a:moveTo>
                  <a:lnTo>
                    <a:pt x="0" y="179959"/>
                  </a:lnTo>
                </a:path>
              </a:pathLst>
            </a:custGeom>
            <a:noFill/>
            <a:ln w="28800">
              <a:solidFill>
                <a:srgbClr val="5597d2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pic>
          <p:nvPicPr>
            <p:cNvPr id="836" name="object 57" descr=""/>
            <p:cNvPicPr/>
            <p:nvPr/>
          </p:nvPicPr>
          <p:blipFill>
            <a:blip r:embed="rId15"/>
            <a:stretch/>
          </p:blipFill>
          <p:spPr>
            <a:xfrm>
              <a:off x="154080" y="3446280"/>
              <a:ext cx="122040" cy="1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7" name="object 58" descr=""/>
            <p:cNvPicPr/>
            <p:nvPr/>
          </p:nvPicPr>
          <p:blipFill>
            <a:blip r:embed="rId16"/>
            <a:stretch/>
          </p:blipFill>
          <p:spPr>
            <a:xfrm>
              <a:off x="8391600" y="3419640"/>
              <a:ext cx="122040" cy="1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8" name="object 59" descr=""/>
            <p:cNvPicPr/>
            <p:nvPr/>
          </p:nvPicPr>
          <p:blipFill>
            <a:blip r:embed="rId17"/>
            <a:stretch/>
          </p:blipFill>
          <p:spPr>
            <a:xfrm>
              <a:off x="7469280" y="3025800"/>
              <a:ext cx="347400" cy="42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9" name="object 60"/>
          <p:cNvSpPr/>
          <p:nvPr/>
        </p:nvSpPr>
        <p:spPr>
          <a:xfrm>
            <a:off x="7980480" y="2990880"/>
            <a:ext cx="84132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147600" indent="-13824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1f5f"/>
                </a:solidFill>
                <a:latin typeface="Calibri"/>
              </a:rPr>
              <a:t>ШКОЛЬНЫЙ  КЛИМАТ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840" name="object 61"/>
          <p:cNvGrpSpPr/>
          <p:nvPr/>
        </p:nvGrpSpPr>
        <p:grpSpPr>
          <a:xfrm>
            <a:off x="7596360" y="2862360"/>
            <a:ext cx="1336680" cy="1131840"/>
            <a:chOff x="7596360" y="2862360"/>
            <a:chExt cx="1336680" cy="1131840"/>
          </a:xfrm>
        </p:grpSpPr>
        <p:sp>
          <p:nvSpPr>
            <p:cNvPr id="841" name="object 62"/>
            <p:cNvSpPr/>
            <p:nvPr/>
          </p:nvSpPr>
          <p:spPr>
            <a:xfrm>
              <a:off x="8352720" y="2862360"/>
              <a:ext cx="360" cy="135000"/>
            </a:xfrm>
            <a:custGeom>
              <a:avLst/>
              <a:gdLst/>
              <a:ahLst/>
              <a:rect l="l" t="t" r="r" b="b"/>
              <a:pathLst>
                <a:path w="0" h="180339">
                  <a:moveTo>
                    <a:pt x="0" y="0"/>
                  </a:moveTo>
                  <a:lnTo>
                    <a:pt x="0" y="179958"/>
                  </a:lnTo>
                </a:path>
              </a:pathLst>
            </a:custGeom>
            <a:noFill/>
            <a:ln w="28800">
              <a:solidFill>
                <a:srgbClr val="5597d2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pic>
          <p:nvPicPr>
            <p:cNvPr id="842" name="object 63" descr=""/>
            <p:cNvPicPr/>
            <p:nvPr/>
          </p:nvPicPr>
          <p:blipFill>
            <a:blip r:embed="rId18"/>
            <a:stretch/>
          </p:blipFill>
          <p:spPr>
            <a:xfrm>
              <a:off x="7596360" y="3441600"/>
              <a:ext cx="122040" cy="12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3" name="object 64" descr=""/>
            <p:cNvPicPr/>
            <p:nvPr/>
          </p:nvPicPr>
          <p:blipFill>
            <a:blip r:embed="rId19"/>
            <a:stretch/>
          </p:blipFill>
          <p:spPr>
            <a:xfrm>
              <a:off x="8334000" y="3621600"/>
              <a:ext cx="309240" cy="37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4" name="object 65" descr=""/>
            <p:cNvPicPr/>
            <p:nvPr/>
          </p:nvPicPr>
          <p:blipFill>
            <a:blip r:embed="rId20"/>
            <a:stretch/>
          </p:blipFill>
          <p:spPr>
            <a:xfrm>
              <a:off x="8811000" y="3441600"/>
              <a:ext cx="122040" cy="12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6fc6"/>
                </a:solidFill>
                <a:latin typeface="Calibri"/>
              </a:rPr>
              <a:t>Критерии единого образовательного пространства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6" name="Нижний колонтитул 3"/>
          <p:cNvSpPr/>
          <p:nvPr/>
        </p:nvSpPr>
        <p:spPr>
          <a:xfrm>
            <a:off x="609480" y="6248520"/>
            <a:ext cx="794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Управление образования Администрации Талицкого городского округа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7" name="Номер слайда 70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A9EE-D543-43B5-B812-0E363A6090B5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object 2" descr=""/>
          <p:cNvPicPr/>
          <p:nvPr/>
        </p:nvPicPr>
        <p:blipFill>
          <a:blip r:embed="rId1"/>
          <a:stretch/>
        </p:blipFill>
        <p:spPr>
          <a:xfrm>
            <a:off x="114480" y="1511280"/>
            <a:ext cx="9029520" cy="4888080"/>
          </a:xfrm>
          <a:prstGeom prst="rect">
            <a:avLst/>
          </a:prstGeom>
          <a:ln w="0">
            <a:noFill/>
          </a:ln>
        </p:spPr>
      </p:pic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6fc6"/>
                </a:solidFill>
                <a:latin typeface="Calibri"/>
              </a:rPr>
              <a:t>Рабочие программы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Нижний колонтитул 3"/>
          <p:cNvSpPr/>
          <p:nvPr/>
        </p:nvSpPr>
        <p:spPr>
          <a:xfrm>
            <a:off x="612720" y="6399360"/>
            <a:ext cx="7940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Управление образования Администрации Талицкого городского округа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2" name="Номер слайда 1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1A64-1BCF-456B-8707-0E38D05D7B03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0T15:55:46Z</dcterms:created>
  <dc:creator>mm1</dc:creator>
  <dc:description/>
  <dc:language>en-US</dc:language>
  <cp:lastModifiedBy>User</cp:lastModifiedBy>
  <dcterms:modified xsi:type="dcterms:W3CDTF">2023-09-06T03:40:10Z</dcterms:modified>
  <cp:revision>713</cp:revision>
  <dc:subject/>
  <dc:title>Презентация PowerPoint</dc:title>
</cp:coreProperties>
</file>